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4.png" ContentType="image/png"/>
  <Override PartName="/ppt/media/image12.wmf" ContentType="image/x-wmf"/>
  <Override PartName="/ppt/media/image9.png" ContentType="image/png"/>
  <Override PartName="/ppt/media/image17.wmf" ContentType="image/x-wmf"/>
  <Override PartName="/ppt/media/image44.jpeg" ContentType="image/jpeg"/>
  <Override PartName="/ppt/media/image13.wmf" ContentType="image/x-wmf"/>
  <Override PartName="/ppt/media/image30.wmf" ContentType="image/x-wmf"/>
  <Override PartName="/ppt/media/image31.jpeg" ContentType="image/jpeg"/>
  <Override PartName="/ppt/media/image33.wmf" ContentType="image/x-wmf"/>
  <Override PartName="/ppt/media/image39.wmf" ContentType="image/x-wmf"/>
  <Override PartName="/ppt/media/image42.png" ContentType="image/png"/>
  <Override PartName="/ppt/media/image38.wmf" ContentType="image/x-wmf"/>
  <Override PartName="/ppt/media/image43.jpeg" ContentType="image/jpeg"/>
  <Override PartName="/ppt/media/image41.wmf" ContentType="image/x-wmf"/>
  <Override PartName="/ppt/media/image8.png" ContentType="image/png"/>
  <Override PartName="/ppt/media/image16.wmf" ContentType="image/x-wmf"/>
  <Override PartName="/ppt/media/image40.wmf" ContentType="image/x-wmf"/>
  <Override PartName="/ppt/media/image34.jpeg" ContentType="image/jpeg"/>
  <Override PartName="/ppt/media/image7.png" ContentType="image/png"/>
  <Override PartName="/ppt/media/image11.png" ContentType="image/png"/>
  <Override PartName="/ppt/media/image29.wmf" ContentType="image/x-wmf"/>
  <Override PartName="/ppt/media/image6.png" ContentType="image/png"/>
  <Override PartName="/ppt/media/image14.wmf" ContentType="image/x-wmf"/>
  <Override PartName="/ppt/media/image5.jpeg" ContentType="image/jpeg"/>
  <Override PartName="/ppt/media/image20.wmf" ContentType="image/x-wmf"/>
  <Override PartName="/ppt/media/image3.png" ContentType="image/png"/>
  <Override PartName="/ppt/media/image2.jpeg" ContentType="image/jpeg"/>
  <Override PartName="/ppt/media/image18.wmf" ContentType="image/x-wmf"/>
  <Override PartName="/ppt/media/image3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45A6-F96C-43B9-BAC0-D5129A7219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ED9A-B2C2-46C7-9B5F-E827F93A90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74880" y="765000"/>
            <a:ext cx="4894200" cy="36705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21960" y="4741560"/>
            <a:ext cx="4995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ent sont calculées les tranches d’âg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071F-50F2-49C1-A344-B8698A37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31E-F84D-42BC-BC80-127C70DE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A09A-A5F7-4BA5-9CEC-9693259B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3A36-5158-4256-8FF7-145B768B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6CC6-489B-4C40-A0ED-763A23DB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FD24-9BB8-480E-84AA-AF4963FE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E679-F9D2-4C2D-8F64-D9B74B96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5F43-4B43-4DB9-BE08-DC48155F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2B53-C224-4DEB-B2E5-5BCA37CA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91C8-5899-420A-A3F5-78BA1E6D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608E-B0AD-4FFE-B61A-0A49D62E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195A-F616-4F59-ACA0-A2F23DDE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EEA9-8D68-456E-B3BB-3D5FACF2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A318-C832-47BC-B315-BC075AAA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B07C-6D32-4C86-95B6-532FEDFF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A535-41E9-47DD-B400-2D33B5FC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447A-1B93-4268-B96F-62E1FE44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6584-C33A-4F24-B749-141D77D8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D4C3-2354-494E-940D-8A88BC08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7C3F-2A9D-4A8C-A93F-E34AFB35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95BA-58A5-49A1-85CB-FD0F2AAF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841-CDC9-4D55-8B58-81359ED8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3B42-8B88-4172-94CE-F7C0F332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75C-DD05-4397-BB1E-DD91A474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65240" y="75960"/>
            <a:ext cx="8813520" cy="6629760"/>
            <a:chOff x="165240" y="75960"/>
            <a:chExt cx="8813520" cy="6629760"/>
          </a:xfrm>
        </p:grpSpPr>
        <p:sp>
          <p:nvSpPr>
            <p:cNvPr id="1" name="Rectangle 3"/>
            <p:cNvSpPr/>
            <p:nvPr/>
          </p:nvSpPr>
          <p:spPr>
            <a:xfrm>
              <a:off x="165240" y="241200"/>
              <a:ext cx="8813520" cy="5994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10800000">
              <a:off x="6399360" y="75960"/>
              <a:ext cx="782640" cy="685800"/>
            </a:xfrm>
            <a:prstGeom prst="triangle">
              <a:avLst>
                <a:gd name="adj" fmla="val 49995"/>
              </a:avLst>
            </a:prstGeom>
            <a:solidFill>
              <a:srgbClr val="5f5f5f"/>
            </a:solidFill>
            <a:ln w="0">
              <a:noFill/>
            </a:ln>
            <a:effectLst>
              <a:outerShdw dist="155100" dir="2098867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>
              <a:off x="2154240" y="6019920"/>
              <a:ext cx="782640" cy="685800"/>
            </a:xfrm>
            <a:prstGeom prst="triangle">
              <a:avLst>
                <a:gd name="adj" fmla="val 49995"/>
              </a:avLst>
            </a:prstGeom>
            <a:solidFill>
              <a:srgbClr val="5f5f5f"/>
            </a:solidFill>
            <a:ln w="0">
              <a:noFill/>
            </a:ln>
            <a:effectLst>
              <a:outerShdw dist="227005" dir="1593903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77A5-46B8-472E-8A4F-0E1C5C0D90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165240" y="1294920"/>
            <a:ext cx="8813520" cy="2502360"/>
            <a:chOff x="165240" y="1294920"/>
            <a:chExt cx="8813520" cy="2502360"/>
          </a:xfrm>
        </p:grpSpPr>
        <p:sp>
          <p:nvSpPr>
            <p:cNvPr id="46" name="Rectangle 3"/>
            <p:cNvSpPr/>
            <p:nvPr/>
          </p:nvSpPr>
          <p:spPr>
            <a:xfrm>
              <a:off x="165240" y="1460520"/>
              <a:ext cx="8813520" cy="2336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 flipH="1" rot="10800000">
              <a:off x="912960" y="1294920"/>
              <a:ext cx="782640" cy="685800"/>
            </a:xfrm>
            <a:prstGeom prst="triangle">
              <a:avLst>
                <a:gd name="adj" fmla="val 49995"/>
              </a:avLst>
            </a:prstGeom>
            <a:solidFill>
              <a:srgbClr val="5f5f5f"/>
            </a:solidFill>
            <a:ln w="0">
              <a:noFill/>
            </a:ln>
            <a:effectLst>
              <a:outerShdw dist="155100" dir="2098867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E7B8-19AA-43F9-B968-84F27B887E95}" type="slidenum">
              <a:rPr b="0" lang="fr-FR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1844280"/>
            <a:ext cx="784692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66"/>
                </a:solidFill>
                <a:latin typeface="Baskerville Old Face"/>
              </a:rPr>
              <a:t>IL TUMORE DELLA MAMMELLA NELLE DONNE GIOVANI :                          </a:t>
            </a:r>
            <a:r>
              <a:rPr b="1" i="1" lang="fr-FR" sz="2400" spc="-1" strike="noStrike">
                <a:solidFill>
                  <a:srgbClr val="003366"/>
                </a:solidFill>
                <a:latin typeface="Baskerville Old Face"/>
              </a:rPr>
              <a:t>EPIDEMIOLOGIA   E  CARATTERIZZAZIONE ISTOLO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55280" y="4220640"/>
            <a:ext cx="777708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00cc"/>
                </a:solidFill>
                <a:latin typeface="Times New Roman"/>
              </a:rPr>
              <a:t>Bruno CUT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00cc"/>
                </a:solidFill>
                <a:latin typeface="Times New Roman"/>
              </a:rPr>
              <a:t>Institut du Cancer Courlancy Re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00cc"/>
                </a:solidFill>
                <a:latin typeface="Wingdings"/>
                <a:ea typeface="Wingdings"/>
              </a:rPr>
              <a:t></a:t>
            </a:r>
            <a:r>
              <a:rPr b="1" lang="fr-FR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6600cc"/>
                </a:solidFill>
                <a:latin typeface="Wingdings"/>
                <a:ea typeface="Wingdings"/>
              </a:rPr>
              <a:t></a:t>
            </a:r>
            <a:r>
              <a:rPr b="1" lang="fr-FR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6600cc"/>
                </a:solidFill>
                <a:latin typeface="Wingdings"/>
                <a:ea typeface="Wingdings"/>
              </a:rPr>
              <a:t>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00cc"/>
                </a:solidFill>
                <a:latin typeface="Times New Roman"/>
              </a:rPr>
              <a:t>3° Incotro Italo-Francese sul carcinoma mam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00cc"/>
                </a:solidFill>
                <a:latin typeface="Times New Roman"/>
              </a:rPr>
              <a:t>ASSISI  17-06-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http://www.italian-in-italy.org/img/italia/umbria/assisi_files/image016.jpg"/>
          <p:cNvPicPr/>
          <p:nvPr/>
        </p:nvPicPr>
        <p:blipFill>
          <a:blip r:embed="rId1"/>
          <a:stretch/>
        </p:blipFill>
        <p:spPr>
          <a:xfrm>
            <a:off x="3059280" y="-36360"/>
            <a:ext cx="302544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88960" y="72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TUMOR SIZE DISTRIBUTION ACCORDING TO AGE – SWEDISH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Object 3"/>
          <p:cNvGraphicFramePr/>
          <p:nvPr/>
        </p:nvGraphicFramePr>
        <p:xfrm>
          <a:off x="1523880" y="2009880"/>
          <a:ext cx="609624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09880"/>
                    <a:ext cx="609624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4"/>
          <p:cNvSpPr/>
          <p:nvPr/>
        </p:nvSpPr>
        <p:spPr>
          <a:xfrm>
            <a:off x="1258920" y="2133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5508720" y="6308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Times New Roman"/>
              </a:rPr>
              <a:t>FREDHOLM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3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NODAL INVOLVEMENT ACCORDING TO AGE – SWEDISH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3"/>
          <p:cNvGraphicFramePr/>
          <p:nvPr/>
        </p:nvGraphicFramePr>
        <p:xfrm>
          <a:off x="1525680" y="198900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98900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Text Box 4"/>
          <p:cNvSpPr/>
          <p:nvPr/>
        </p:nvSpPr>
        <p:spPr>
          <a:xfrm>
            <a:off x="1258920" y="2133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508720" y="6308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Times New Roman"/>
              </a:rPr>
              <a:t>FREDHOLM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830736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TUMOR GRADE ACCORDING  TO AGE – SWEDISH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1525680" y="177336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77336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4"/>
          <p:cNvSpPr/>
          <p:nvPr/>
        </p:nvSpPr>
        <p:spPr>
          <a:xfrm>
            <a:off x="1258920" y="2133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124000" y="5589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(n=167)       (n=352)      (n=1801)     (n=670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508720" y="6308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Times New Roman"/>
              </a:rPr>
              <a:t>FREDHOLM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8334360" y="324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920" y="60912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66"/>
                </a:solidFill>
                <a:latin typeface="Albertus Medium"/>
              </a:rPr>
              <a:t>ESPERIENZA FRANCESE</a:t>
            </a:r>
            <a:br>
              <a:rPr sz="3200"/>
            </a:br>
            <a:r>
              <a:rPr b="1" i="1" lang="fr-FR" sz="3200" spc="-1" strike="noStrike">
                <a:solidFill>
                  <a:srgbClr val="003366"/>
                </a:solidFill>
                <a:latin typeface="Albertus Medium"/>
              </a:rPr>
              <a:t>STUDIO CSI (MULTICENTRI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96000" cy="410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1433 pazienti operate nel 2007-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c00000"/>
                </a:solidFill>
                <a:latin typeface="Times New Roman"/>
              </a:rPr>
              <a:t>Radiologica (screening) : 4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Diagno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c00000"/>
                </a:solidFill>
                <a:latin typeface="Times New Roman"/>
              </a:rPr>
              <a:t>Clinica :</a:t>
            </a:r>
            <a:r>
              <a:rPr b="0" lang="fr-FR" sz="32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c00000"/>
                </a:solidFill>
                <a:latin typeface="Times New Roman"/>
              </a:rPr>
              <a:t>      5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Paragoni con la studio RH (2001-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(CUTULI  BCRT  2006, 95: 55-6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8317080" y="-3240"/>
            <a:ext cx="826920" cy="1441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324000" y="768240"/>
            <a:ext cx="1164960" cy="665280"/>
          </a:xfrm>
          <a:prstGeom prst="rect">
            <a:avLst/>
          </a:prstGeom>
          <a:ln w="0">
            <a:noFill/>
          </a:ln>
        </p:spPr>
      </p:pic>
      <p:cxnSp>
        <p:nvCxnSpPr>
          <p:cNvPr id="164" name="Connecteur droit avec flèche 2"/>
          <p:cNvCxnSpPr/>
          <p:nvPr/>
        </p:nvCxnSpPr>
        <p:spPr>
          <a:xfrm flipV="1">
            <a:off x="2484000" y="2996640"/>
            <a:ext cx="648360" cy="503640"/>
          </a:xfrm>
          <a:prstGeom prst="straightConnector1">
            <a:avLst/>
          </a:prstGeom>
          <a:ln w="9360">
            <a:solidFill>
              <a:srgbClr val="ff2e00"/>
            </a:solidFill>
            <a:miter/>
            <a:tailEnd len="med" type="arrow" w="med"/>
          </a:ln>
        </p:spPr>
      </p:cxnSp>
      <p:cxnSp>
        <p:nvCxnSpPr>
          <p:cNvPr id="165" name="Connecteur droit avec flèche 4"/>
          <p:cNvCxnSpPr/>
          <p:nvPr/>
        </p:nvCxnSpPr>
        <p:spPr>
          <a:xfrm>
            <a:off x="2484000" y="3500280"/>
            <a:ext cx="648360" cy="434160"/>
          </a:xfrm>
          <a:prstGeom prst="straightConnector1">
            <a:avLst/>
          </a:prstGeom>
          <a:ln w="9360">
            <a:solidFill>
              <a:srgbClr val="ff2e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928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66"/>
                </a:solidFill>
                <a:latin typeface="Albertus Medium"/>
              </a:rPr>
              <a:t>OBSERVATOIRE CSI 2007-2008</a:t>
            </a:r>
            <a:br>
              <a:rPr sz="2800"/>
            </a:br>
            <a:r>
              <a:rPr b="1" i="1" lang="fr-FR" sz="2800" spc="-1" strike="noStrike">
                <a:solidFill>
                  <a:srgbClr val="000066"/>
                </a:solidFill>
                <a:latin typeface="Albertus Medium"/>
              </a:rPr>
              <a:t>REPARTITION SELON L’AGE</a:t>
            </a:r>
            <a:br>
              <a:rPr sz="3200"/>
            </a:br>
            <a:r>
              <a:rPr b="1" i="1" lang="fr-FR" sz="2800" spc="-1" strike="noStrike">
                <a:solidFill>
                  <a:srgbClr val="000066"/>
                </a:solidFill>
                <a:latin typeface="Albertus Medium"/>
              </a:rPr>
              <a:t>Age médian : 58 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3"/>
          <p:cNvGraphicFramePr/>
          <p:nvPr/>
        </p:nvGraphicFramePr>
        <p:xfrm>
          <a:off x="743040" y="2041560"/>
          <a:ext cx="8075520" cy="40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2041560"/>
                    <a:ext cx="807552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4"/>
          <p:cNvSpPr/>
          <p:nvPr/>
        </p:nvSpPr>
        <p:spPr>
          <a:xfrm>
            <a:off x="324000" y="21337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N/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692360" y="587700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7          108         340         416        406          281          88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1763640" y="4508640"/>
            <a:ext cx="1871640" cy="1871640"/>
          </a:xfrm>
          <a:prstGeom prst="ellipse">
            <a:avLst/>
          </a:pr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6156360" y="4221000"/>
            <a:ext cx="2087640" cy="2160720"/>
          </a:xfrm>
          <a:prstGeom prst="ellipse">
            <a:avLst/>
          </a:pr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268360" y="40053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99"/>
                </a:solidFill>
                <a:latin typeface="Tahoma"/>
              </a:rPr>
              <a:t>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732720" y="3763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99"/>
                </a:solidFill>
                <a:latin typeface="Tahoma"/>
              </a:rPr>
              <a:t>22.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3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747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66"/>
                </a:solidFill>
                <a:latin typeface="Albertus Medium"/>
              </a:rPr>
              <a:t>ANTECEDENTS FAMILIAUX</a:t>
            </a:r>
            <a:br>
              <a:rPr sz="3200"/>
            </a:br>
            <a:r>
              <a:rPr b="1" i="1" lang="fr-FR" sz="2800" spc="-1" strike="noStrike">
                <a:solidFill>
                  <a:srgbClr val="000066"/>
                </a:solidFill>
                <a:latin typeface="Albertus Medium"/>
              </a:rPr>
              <a:t>(1</a:t>
            </a:r>
            <a:r>
              <a:rPr b="1" i="1" lang="fr-FR" sz="2800" spc="-1" strike="noStrike" baseline="30000">
                <a:solidFill>
                  <a:srgbClr val="000066"/>
                </a:solidFill>
                <a:latin typeface="Albertus Medium"/>
              </a:rPr>
              <a:t>er</a:t>
            </a:r>
            <a:r>
              <a:rPr b="1" i="1" lang="fr-FR" sz="2800" spc="-1" strike="noStrike">
                <a:solidFill>
                  <a:srgbClr val="000066"/>
                </a:solidFill>
                <a:latin typeface="Albertus Medium"/>
              </a:rPr>
              <a:t> et/ou 2</a:t>
            </a:r>
            <a:r>
              <a:rPr b="1" i="1" lang="fr-FR" sz="2800" spc="-1" strike="noStrike" baseline="30000">
                <a:solidFill>
                  <a:srgbClr val="000066"/>
                </a:solidFill>
                <a:latin typeface="Albertus Medium"/>
              </a:rPr>
              <a:t>e</a:t>
            </a:r>
            <a:r>
              <a:rPr b="1" i="1" lang="fr-FR" sz="2800" spc="-1" strike="noStrike">
                <a:solidFill>
                  <a:srgbClr val="000066"/>
                </a:solidFill>
                <a:latin typeface="Albertus Medium"/>
              </a:rPr>
              <a:t> degr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95240" y="2017800"/>
            <a:ext cx="8159760" cy="46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cc"/>
                </a:solidFill>
                <a:latin typeface="Symbol"/>
                <a:ea typeface="Symbol"/>
              </a:rPr>
              <a:t></a:t>
            </a: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39 a</a:t>
            </a: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45.2%</a:t>
            </a: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37.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40-69 a</a:t>
            </a: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34%</a:t>
            </a: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26.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&gt; 70 a</a:t>
            </a: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27%</a:t>
            </a: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20.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348000" y="2924280"/>
            <a:ext cx="1655640" cy="433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Tahoma"/>
              </a:rPr>
              <a:t>29.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084720" y="2924280"/>
            <a:ext cx="1656000" cy="433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Tahoma"/>
              </a:rPr>
              <a:t>25.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2987640" y="1916280"/>
            <a:ext cx="2376360" cy="865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ahoma"/>
              </a:rPr>
              <a:t>OBS. C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ahoma"/>
              </a:rPr>
              <a:t>(2007-200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5724360" y="1916280"/>
            <a:ext cx="2376720" cy="865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ahoma"/>
              </a:rPr>
              <a:t>OBS. 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ahoma"/>
              </a:rPr>
              <a:t>(2001-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3516480" y="3429000"/>
            <a:ext cx="1199880" cy="863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MODALITES DE DIAGNOSTIC EN </a:t>
            </a:r>
            <a:br>
              <a:rPr sz="2800"/>
            </a:b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FONCTION DE L’AGE (EN %)</a:t>
            </a:r>
            <a:br>
              <a:rPr sz="2800"/>
            </a:b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(1433 patientes opérées d’emblé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1116000" y="1628640"/>
          <a:ext cx="7416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416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6"/>
          <p:cNvSpPr/>
          <p:nvPr/>
        </p:nvSpPr>
        <p:spPr>
          <a:xfrm>
            <a:off x="900000" y="184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1835280" y="5445000"/>
            <a:ext cx="50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79640" y="5300640"/>
            <a:ext cx="54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&lt; 40       40-49          50-70         &gt; 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(n=89)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 (n=280)      (n=478)      (n=286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9"/>
          <p:cNvSpPr/>
          <p:nvPr/>
        </p:nvSpPr>
        <p:spPr>
          <a:xfrm>
            <a:off x="2124000" y="5300640"/>
            <a:ext cx="71928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3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DISTRIBUTION DE LA TAILLE HISTOPATHOLOGIQUE EN FONCTION </a:t>
            </a:r>
            <a:br>
              <a:rPr sz="2800"/>
            </a:b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DE L’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1042920" y="1684440"/>
          <a:ext cx="6913800" cy="46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84440"/>
                    <a:ext cx="6913800" cy="46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6"/>
          <p:cNvSpPr/>
          <p:nvPr/>
        </p:nvSpPr>
        <p:spPr>
          <a:xfrm>
            <a:off x="1042920" y="184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6300720" y="5589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7164360" y="580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&lt;0.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2050920" y="5661000"/>
            <a:ext cx="649440" cy="504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3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003366"/>
                </a:solidFill>
                <a:latin typeface="Albertus Medium"/>
              </a:rPr>
              <a:t>REPARTITION DU GRADE SBR MODIFIE </a:t>
            </a:r>
            <a:br>
              <a:rPr sz="2600"/>
            </a:br>
            <a:r>
              <a:rPr b="1" i="1" lang="fr-FR" sz="2600" spc="-1" strike="noStrike">
                <a:solidFill>
                  <a:srgbClr val="003366"/>
                </a:solidFill>
                <a:latin typeface="Albertus Medium"/>
              </a:rPr>
              <a:t>CHEZ L’ENSEMBLE DES PATIENTES EN </a:t>
            </a:r>
            <a:br>
              <a:rPr sz="2600"/>
            </a:br>
            <a:r>
              <a:rPr b="1" i="1" lang="fr-FR" sz="2600" spc="-1" strike="noStrike">
                <a:solidFill>
                  <a:srgbClr val="003366"/>
                </a:solidFill>
                <a:latin typeface="Albertus Medium"/>
              </a:rPr>
              <a:t>FONCTION DE L’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3"/>
          <p:cNvGraphicFramePr/>
          <p:nvPr/>
        </p:nvGraphicFramePr>
        <p:xfrm>
          <a:off x="1042920" y="1684440"/>
          <a:ext cx="7705800" cy="46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84440"/>
                    <a:ext cx="7705800" cy="46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4"/>
          <p:cNvSpPr/>
          <p:nvPr/>
        </p:nvSpPr>
        <p:spPr>
          <a:xfrm>
            <a:off x="1042920" y="184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300720" y="5589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7164360" y="580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&lt;0.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7"/>
          <p:cNvSpPr/>
          <p:nvPr/>
        </p:nvSpPr>
        <p:spPr>
          <a:xfrm>
            <a:off x="2050920" y="5661000"/>
            <a:ext cx="649440" cy="504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3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ENVAHISSEMENT GANGLIONNAIRE (pN+) EN FONCTION DE L’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971640" y="1557360"/>
          <a:ext cx="6840360" cy="45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57360"/>
                    <a:ext cx="684036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 Box 7"/>
          <p:cNvSpPr/>
          <p:nvPr/>
        </p:nvSpPr>
        <p:spPr>
          <a:xfrm>
            <a:off x="900000" y="17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4932360" y="198900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Times New Roman"/>
              </a:rPr>
              <a:t>Valeur Moyenne : 31.5% (p=0.7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3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cc"/>
                </a:solidFill>
                <a:latin typeface="Times New Roman"/>
              </a:rPr>
              <a:t>I dati dell’organizzazione mondiale della sanità nel 2008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3000" spc="-1" strike="noStrike">
                <a:solidFill>
                  <a:srgbClr val="c00000"/>
                </a:solidFill>
                <a:latin typeface="Wingdings"/>
                <a:ea typeface="Wingdings"/>
              </a:rPr>
              <a:t></a:t>
            </a:r>
            <a:r>
              <a:rPr b="1" lang="fr-FR" sz="3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fr-FR" sz="3000" spc="-1" strike="noStrike">
                <a:solidFill>
                  <a:srgbClr val="c00000"/>
                </a:solidFill>
                <a:latin typeface="Times New Roman"/>
              </a:rPr>
              <a:t>12 milioni di nuovi casi di tumore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fr-FR" sz="30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1" lang="fr-FR" sz="3000" spc="-1" strike="noStrike">
                <a:solidFill>
                  <a:srgbClr val="c00000"/>
                </a:solidFill>
                <a:latin typeface="Times New Roman"/>
              </a:rPr>
              <a:t>nel mon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fr-FR" sz="3000" spc="-1" strike="noStrike">
                <a:solidFill>
                  <a:srgbClr val="c00000"/>
                </a:solidFill>
                <a:latin typeface="Wingdings"/>
                <a:ea typeface="Wingdings"/>
              </a:rPr>
              <a:t></a:t>
            </a:r>
            <a:r>
              <a:rPr b="1" lang="fr-FR" sz="3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fr-FR" sz="3000" spc="-1" strike="noStrike">
                <a:solidFill>
                  <a:srgbClr val="c00000"/>
                </a:solidFill>
                <a:latin typeface="Times New Roman"/>
              </a:rPr>
              <a:t>1,4 milioni di nuovi carcinomi dell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fr-FR" sz="30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fr-FR" sz="3000" spc="-1" strike="noStrike">
                <a:solidFill>
                  <a:srgbClr val="c00000"/>
                </a:solidFill>
                <a:latin typeface="Times New Roman"/>
              </a:rPr>
              <a:t>mammell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fr-FR" sz="3000" spc="-1" strike="noStrike">
                <a:solidFill>
                  <a:srgbClr val="0000cc"/>
                </a:solidFill>
                <a:latin typeface="Times New Roman"/>
              </a:rPr>
              <a:t>≈ </a:t>
            </a:r>
            <a:r>
              <a:rPr b="1" lang="fr-FR" sz="3000" spc="-1" strike="noStrike">
                <a:solidFill>
                  <a:srgbClr val="0000cc"/>
                </a:solidFill>
                <a:latin typeface="Times New Roman"/>
              </a:rPr>
              <a:t>350 000</a:t>
            </a:r>
            <a:r>
              <a:rPr b="1" lang="fr-FR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fr-FR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fr-FR" sz="3000" spc="-1" strike="noStrike">
                <a:solidFill>
                  <a:srgbClr val="0000cc"/>
                </a:solidFill>
                <a:latin typeface="Times New Roman"/>
              </a:rPr>
              <a:t>               ≈ 250 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fr-FR" sz="3000" spc="-1" strike="noStrike">
                <a:solidFill>
                  <a:srgbClr val="0000cc"/>
                </a:solidFill>
                <a:latin typeface="Times New Roman"/>
              </a:rPr>
              <a:t>1° tumore feminile nei paesi occidentali     </a:t>
            </a:r>
            <a:r>
              <a:rPr b="1" lang="fr-FR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fr-FR" sz="3000" spc="-1" strike="noStrike">
                <a:solidFill>
                  <a:srgbClr val="0000cc"/>
                </a:solidFill>
                <a:latin typeface="Times New Roman"/>
              </a:rPr>
              <a:t>(≈ 35% dei casi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à coins arrondis 3"/>
          <p:cNvSpPr/>
          <p:nvPr/>
        </p:nvSpPr>
        <p:spPr>
          <a:xfrm>
            <a:off x="1258920" y="1484280"/>
            <a:ext cx="68421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à coins arrondis 4"/>
          <p:cNvSpPr/>
          <p:nvPr/>
        </p:nvSpPr>
        <p:spPr>
          <a:xfrm>
            <a:off x="1258920" y="2924280"/>
            <a:ext cx="6842160" cy="1225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http://www.voyagesphotosmanu.com/Complet/images/drapeau_europe.jpg"/>
          <p:cNvPicPr/>
          <p:nvPr/>
        </p:nvPicPr>
        <p:blipFill>
          <a:blip r:embed="rId1"/>
          <a:stretch/>
        </p:blipFill>
        <p:spPr>
          <a:xfrm>
            <a:off x="755640" y="4302000"/>
            <a:ext cx="1368360" cy="924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4932360" y="4302000"/>
            <a:ext cx="140508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POSITIVITE DES RH</a:t>
            </a:r>
            <a:br>
              <a:rPr sz="2800"/>
            </a:b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(Globalement : 85% RH +)</a:t>
            </a:r>
            <a:br>
              <a:rPr sz="2800"/>
            </a:b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1433 patientes opérées d’emblée 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Sans titre - 1"/>
          <p:cNvPicPr/>
          <p:nvPr/>
        </p:nvPicPr>
        <p:blipFill>
          <a:blip r:embed="rId1"/>
          <a:stretch/>
        </p:blipFill>
        <p:spPr>
          <a:xfrm>
            <a:off x="1187280" y="1638360"/>
            <a:ext cx="6769440" cy="4562280"/>
          </a:xfrm>
          <a:prstGeom prst="rect">
            <a:avLst/>
          </a:prstGeom>
          <a:ln w="0">
            <a:noFill/>
          </a:ln>
        </p:spPr>
      </p:pic>
      <p:sp>
        <p:nvSpPr>
          <p:cNvPr id="216" name="Oval 5"/>
          <p:cNvSpPr/>
          <p:nvPr/>
        </p:nvSpPr>
        <p:spPr>
          <a:xfrm>
            <a:off x="2771640" y="2565360"/>
            <a:ext cx="505080" cy="35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6"/>
          <p:cNvSpPr/>
          <p:nvPr/>
        </p:nvSpPr>
        <p:spPr>
          <a:xfrm>
            <a:off x="4211640" y="2205000"/>
            <a:ext cx="504720" cy="287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7"/>
          <p:cNvSpPr/>
          <p:nvPr/>
        </p:nvSpPr>
        <p:spPr>
          <a:xfrm>
            <a:off x="5651640" y="2133720"/>
            <a:ext cx="576000" cy="287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8"/>
          <p:cNvSpPr/>
          <p:nvPr/>
        </p:nvSpPr>
        <p:spPr>
          <a:xfrm>
            <a:off x="7093080" y="1989000"/>
            <a:ext cx="574560" cy="287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NEGATIVITE DES RH EN FONCTION</a:t>
            </a:r>
            <a:br>
              <a:rPr sz="2800"/>
            </a:b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 DE L’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Object 3"/>
          <p:cNvGraphicFramePr/>
          <p:nvPr/>
        </p:nvGraphicFramePr>
        <p:xfrm>
          <a:off x="971640" y="1557360"/>
          <a:ext cx="6840360" cy="45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57360"/>
                    <a:ext cx="684036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Text Box 4"/>
          <p:cNvSpPr/>
          <p:nvPr/>
        </p:nvSpPr>
        <p:spPr>
          <a:xfrm>
            <a:off x="611280" y="1700280"/>
            <a:ext cx="64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RH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5076720" y="2133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p&lt;0.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2122560" y="5516640"/>
            <a:ext cx="649080" cy="504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3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SUREXPRESION DE L’ONCOGENE </a:t>
            </a:r>
            <a:br>
              <a:rPr sz="2800"/>
            </a:b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HER-2 EN %</a:t>
            </a:r>
            <a:br>
              <a:rPr sz="2800"/>
            </a:b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(Taux global de positivité : 12.4%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Object 3"/>
          <p:cNvGraphicFramePr/>
          <p:nvPr/>
        </p:nvGraphicFramePr>
        <p:xfrm>
          <a:off x="1371600" y="1957320"/>
          <a:ext cx="69562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57320"/>
                    <a:ext cx="69562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4"/>
          <p:cNvSpPr/>
          <p:nvPr/>
        </p:nvSpPr>
        <p:spPr>
          <a:xfrm>
            <a:off x="1332000" y="20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5796000" y="2924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p&lt;0.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6"/>
          <p:cNvSpPr/>
          <p:nvPr/>
        </p:nvSpPr>
        <p:spPr>
          <a:xfrm>
            <a:off x="2554200" y="5516640"/>
            <a:ext cx="649440" cy="504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3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0720" y="630000"/>
            <a:ext cx="835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AUTRES PARAMETRES INFLUENCANT</a:t>
            </a:r>
            <a:br>
              <a:rPr sz="2800"/>
            </a:b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 LA SUREXPRESSION D’HER-2 :                            (Tous âges confond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Object 3"/>
          <p:cNvGraphicFramePr/>
          <p:nvPr/>
        </p:nvGraphicFramePr>
        <p:xfrm>
          <a:off x="1539720" y="2006640"/>
          <a:ext cx="60627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9720" y="2006640"/>
                    <a:ext cx="60627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Text Box 4"/>
          <p:cNvSpPr/>
          <p:nvPr/>
        </p:nvSpPr>
        <p:spPr>
          <a:xfrm>
            <a:off x="755640" y="2060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% Her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771640" y="1916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=0.007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4932360" y="198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 &lt; 0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7"/>
          <p:cNvSpPr/>
          <p:nvPr/>
        </p:nvSpPr>
        <p:spPr>
          <a:xfrm flipV="1">
            <a:off x="4643280" y="1699920"/>
            <a:ext cx="0" cy="410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3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6" descr="Sans titre - 1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66"/>
                </a:solidFill>
                <a:latin typeface="Albertus Medium"/>
              </a:rPr>
              <a:t>LA NOUVELLE CLASSIFICATION MOLECUL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cc"/>
                </a:solidFill>
                <a:latin typeface="Times New Roman"/>
              </a:rPr>
              <a:t>Fondée sur les profils d’expression géniques, définissant 4 grands groupes de tumeurs du sein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LUMINAL A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RH++/Her2-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        (SBR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LUMINAL B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RH </a:t>
            </a:r>
            <a:r>
              <a:rPr b="1" lang="fr-FR" sz="2400" spc="-1" strike="noStrike">
                <a:solidFill>
                  <a:srgbClr val="ff3300"/>
                </a:solidFill>
                <a:latin typeface="Symbol"/>
                <a:ea typeface="Symbol"/>
              </a:rPr>
              <a:t>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 /Her 2 -         (SBR II / I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Her 2 surexprimé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RH </a:t>
            </a:r>
            <a:r>
              <a:rPr b="1" lang="fr-FR" sz="2400" spc="-1" strike="noStrike">
                <a:solidFill>
                  <a:srgbClr val="ff3300"/>
                </a:solidFill>
                <a:latin typeface="Symbol"/>
                <a:ea typeface="Symbol"/>
              </a:rPr>
              <a:t>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 /Her2+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        (SBRII/III; p53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Basal Like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RH -/Her2-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        (SBR III; p53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(triple négatifs)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REPARTITION GLOBALE DES PATIENTES EN FONCTION DES RH ET HER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Object 4"/>
          <p:cNvGraphicFramePr/>
          <p:nvPr/>
        </p:nvGraphicFramePr>
        <p:xfrm>
          <a:off x="1523880" y="170028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0028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6"/>
          <p:cNvSpPr/>
          <p:nvPr/>
        </p:nvSpPr>
        <p:spPr>
          <a:xfrm>
            <a:off x="1258920" y="198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2050920" y="5445000"/>
            <a:ext cx="576108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RH+/Her2-       RH+/Her2+   RH-/Her2+   RH-/Her2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imes New Roman"/>
              </a:rPr>
              <a:t>(Luminal A/B)                    (Her2+++)                  (Triple 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8"/>
          <p:cNvSpPr/>
          <p:nvPr/>
        </p:nvSpPr>
        <p:spPr>
          <a:xfrm>
            <a:off x="3708360" y="5805360"/>
            <a:ext cx="244800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9"/>
          <p:cNvSpPr/>
          <p:nvPr/>
        </p:nvSpPr>
        <p:spPr>
          <a:xfrm flipH="1">
            <a:off x="3563640" y="5805360"/>
            <a:ext cx="1443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0"/>
          <p:cNvSpPr/>
          <p:nvPr/>
        </p:nvSpPr>
        <p:spPr>
          <a:xfrm flipV="1">
            <a:off x="3564000" y="5660640"/>
            <a:ext cx="0" cy="1443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1"/>
          <p:cNvSpPr/>
          <p:nvPr/>
        </p:nvSpPr>
        <p:spPr>
          <a:xfrm flipV="1">
            <a:off x="6156360" y="5660640"/>
            <a:ext cx="0" cy="1443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2560" cy="149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REPARTITION DES PATIENTES EN FONCTION DES RH, HER2 ET DE L’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4"/>
          <p:cNvGraphicFramePr/>
          <p:nvPr/>
        </p:nvGraphicFramePr>
        <p:xfrm>
          <a:off x="971640" y="20066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0066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6"/>
          <p:cNvSpPr/>
          <p:nvPr/>
        </p:nvSpPr>
        <p:spPr>
          <a:xfrm>
            <a:off x="826920" y="21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732720" y="2637000"/>
            <a:ext cx="201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RH+ / Her2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(TOTAL : 76.2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Times New Roman"/>
              </a:rPr>
              <a:t>Luminal A/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4360" y="721800"/>
            <a:ext cx="7843680" cy="15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REPARTITION DES PATIENTES SUREXPRIMANT Her 2 EN FONCTION</a:t>
            </a:r>
            <a:br>
              <a:rPr sz="2800"/>
            </a:b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 DES RH, ET DE L’AG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Object 4"/>
          <p:cNvGraphicFramePr/>
          <p:nvPr/>
        </p:nvGraphicFramePr>
        <p:xfrm>
          <a:off x="179280" y="2479680"/>
          <a:ext cx="4608720" cy="35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479680"/>
                    <a:ext cx="460872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6"/>
          <p:cNvGraphicFramePr/>
          <p:nvPr/>
        </p:nvGraphicFramePr>
        <p:xfrm>
          <a:off x="4427640" y="2408400"/>
          <a:ext cx="4430520" cy="35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2408400"/>
                    <a:ext cx="4430520" cy="35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 Box 10"/>
          <p:cNvSpPr/>
          <p:nvPr/>
        </p:nvSpPr>
        <p:spPr>
          <a:xfrm>
            <a:off x="1835280" y="242100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RH+ / Her2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(TOTAL : 8.6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084720" y="2421000"/>
            <a:ext cx="20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RH- / Her2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(TOTAL : 3.9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5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53560" y="872640"/>
            <a:ext cx="734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REPARTITION DES PATIENTES « TRIPLES NEGATIFS » RH - / Her 2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Object 3"/>
          <p:cNvGraphicFramePr/>
          <p:nvPr/>
        </p:nvGraphicFramePr>
        <p:xfrm>
          <a:off x="971640" y="20066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0066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4"/>
          <p:cNvSpPr/>
          <p:nvPr/>
        </p:nvSpPr>
        <p:spPr>
          <a:xfrm>
            <a:off x="826920" y="21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5724360" y="2997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(TOTAL : 11.4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4920" y="0"/>
            <a:ext cx="4896000" cy="6813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19280" y="2491920"/>
            <a:ext cx="36003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cc"/>
                </a:solidFill>
                <a:latin typeface="Adobe Heiti Std R"/>
                <a:ea typeface="Adobe Heiti Std R"/>
              </a:rPr>
              <a:t>Breast cancer incidence and mortality in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ZoneTexte 6"/>
          <p:cNvSpPr/>
          <p:nvPr/>
        </p:nvSpPr>
        <p:spPr>
          <a:xfrm>
            <a:off x="6084720" y="631512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Times New Roman"/>
              </a:rPr>
              <a:t>GLOBOCAN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Sans titre - 1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TYPE DE CHIRURGIE MAMMAIRE</a:t>
            </a:r>
            <a:br>
              <a:rPr sz="2800"/>
            </a:b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 EN FONCTION DE L’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Object 3"/>
          <p:cNvGraphicFramePr/>
          <p:nvPr/>
        </p:nvGraphicFramePr>
        <p:xfrm>
          <a:off x="971640" y="1557360"/>
          <a:ext cx="6840360" cy="45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57360"/>
                    <a:ext cx="684036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4"/>
          <p:cNvSpPr/>
          <p:nvPr/>
        </p:nvSpPr>
        <p:spPr>
          <a:xfrm>
            <a:off x="826920" y="1700280"/>
            <a:ext cx="4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7020000" y="1916280"/>
            <a:ext cx="216000" cy="2156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7020000" y="2349360"/>
            <a:ext cx="216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7236000" y="184464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hir. C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Mastecto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2124000" y="5589720"/>
            <a:ext cx="64764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3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CHIRURGIE GANGLIONNAIRE EN </a:t>
            </a:r>
            <a:br>
              <a:rPr sz="2800"/>
            </a:b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FONCTION  DE L’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Object 3"/>
          <p:cNvGraphicFramePr/>
          <p:nvPr/>
        </p:nvGraphicFramePr>
        <p:xfrm>
          <a:off x="971640" y="1484280"/>
          <a:ext cx="6840360" cy="45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84280"/>
                    <a:ext cx="684036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Text Box 4"/>
          <p:cNvSpPr/>
          <p:nvPr/>
        </p:nvSpPr>
        <p:spPr>
          <a:xfrm>
            <a:off x="826920" y="1557360"/>
            <a:ext cx="5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6588000" y="1341360"/>
            <a:ext cx="216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6588000" y="1773360"/>
            <a:ext cx="216000" cy="2156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6877080" y="1268280"/>
            <a:ext cx="165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u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GAS + Cu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835280" y="57340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1908000" y="573408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(n=89)              (n=280)              (n=778)                (n=286)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6588000" y="2205000"/>
            <a:ext cx="21600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11"/>
          <p:cNvSpPr/>
          <p:nvPr/>
        </p:nvSpPr>
        <p:spPr>
          <a:xfrm>
            <a:off x="2124000" y="5516640"/>
            <a:ext cx="792360" cy="6490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3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7640" y="455760"/>
            <a:ext cx="8496360" cy="14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3366"/>
                </a:solidFill>
                <a:latin typeface="Albertus Medium"/>
              </a:rPr>
              <a:t>MODALITES DE LA RADIOTHERAPIE CHEZ LES PATIENTES TRAITEES PAR CHIRURGIE CONSERVATRICE TOUS AGES CONFONDUS (n=107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4" descr="Sans titre - 1"/>
          <p:cNvPicPr/>
          <p:nvPr/>
        </p:nvPicPr>
        <p:blipFill>
          <a:blip r:embed="rId1"/>
          <a:stretch/>
        </p:blipFill>
        <p:spPr>
          <a:xfrm>
            <a:off x="1619280" y="1855800"/>
            <a:ext cx="6337440" cy="43178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"/>
          <p:cNvPicPr/>
          <p:nvPr/>
        </p:nvPicPr>
        <p:blipFill>
          <a:blip r:embed="rId2"/>
          <a:stretch/>
        </p:blipFill>
        <p:spPr>
          <a:xfrm>
            <a:off x="8375760" y="0"/>
            <a:ext cx="7682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3366"/>
                </a:solidFill>
                <a:latin typeface="Albertus Medium"/>
              </a:rPr>
              <a:t>MODALITES DE LA RADIOTHERAPIE CHEZ LES PATIENTES TRAITEES PAR MASTECTOMIE </a:t>
            </a:r>
            <a:br>
              <a:rPr sz="2400"/>
            </a:br>
            <a:r>
              <a:rPr b="1" i="1" lang="fr-FR" sz="2400" spc="-1" strike="noStrike">
                <a:solidFill>
                  <a:srgbClr val="003366"/>
                </a:solidFill>
                <a:latin typeface="Albertus Medium"/>
              </a:rPr>
              <a:t>(Tous âges confondus : n= 25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3" descr="Sans titre - 1"/>
          <p:cNvPicPr/>
          <p:nvPr/>
        </p:nvPicPr>
        <p:blipFill>
          <a:blip r:embed="rId1"/>
          <a:stretch/>
        </p:blipFill>
        <p:spPr>
          <a:xfrm>
            <a:off x="826920" y="2276640"/>
            <a:ext cx="7417080" cy="42796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3366"/>
                </a:solidFill>
                <a:latin typeface="Albertus Medium"/>
              </a:rPr>
              <a:t>RADIOTHERAPIE DES AIRES GANGLIONNAIRES </a:t>
            </a:r>
            <a:br>
              <a:rPr sz="2400"/>
            </a:br>
            <a:r>
              <a:rPr b="1" i="1" lang="fr-FR" sz="2400" spc="-1" strike="noStrike">
                <a:solidFill>
                  <a:srgbClr val="003366"/>
                </a:solidFill>
                <a:latin typeface="Albertus Medium"/>
              </a:rPr>
              <a:t>CHEZ LES PATIENTES TRAITEES PAR CHIRURGIE CONSERVATRICE EN FONCTION DE L’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Sans titre - 1"/>
          <p:cNvPicPr/>
          <p:nvPr/>
        </p:nvPicPr>
        <p:blipFill>
          <a:blip r:embed="rId1"/>
          <a:stretch/>
        </p:blipFill>
        <p:spPr>
          <a:xfrm>
            <a:off x="2058840" y="1773360"/>
            <a:ext cx="5761080" cy="4473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9360" y="404640"/>
            <a:ext cx="8496360" cy="149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3366"/>
                </a:solidFill>
                <a:latin typeface="Albertus Medium"/>
              </a:rPr>
              <a:t>RADIOTHERAPIE DES AIRES GANGLIONNAIRES</a:t>
            </a:r>
            <a:br>
              <a:rPr sz="2400"/>
            </a:br>
            <a:r>
              <a:rPr b="1" i="1" lang="fr-FR" sz="2400" spc="-1" strike="noStrike">
                <a:solidFill>
                  <a:srgbClr val="003366"/>
                </a:solidFill>
                <a:latin typeface="Albertus Medium"/>
              </a:rPr>
              <a:t> CHEZ LES PATIENTES TRAITEES PAR</a:t>
            </a:r>
            <a:br>
              <a:rPr sz="2400"/>
            </a:br>
            <a:r>
              <a:rPr b="1" i="1" lang="fr-FR" sz="2400" spc="-1" strike="noStrike">
                <a:solidFill>
                  <a:srgbClr val="003366"/>
                </a:solidFill>
                <a:latin typeface="Albertus Medium"/>
              </a:rPr>
              <a:t> MASTECTOMIE EN FONCTION DE L’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4" descr="Sans titre - 1"/>
          <p:cNvPicPr/>
          <p:nvPr/>
        </p:nvPicPr>
        <p:blipFill>
          <a:blip r:embed="rId1"/>
          <a:stretch/>
        </p:blipFill>
        <p:spPr>
          <a:xfrm>
            <a:off x="1547640" y="1844640"/>
            <a:ext cx="6142320" cy="44006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42880" y="70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3366"/>
                </a:solidFill>
                <a:latin typeface="Albertus Medium"/>
              </a:rPr>
              <a:t>INDICATIONS DE LA CHIMIOTHERAPIE EN FONCTION DE pT et pN :                                             (1433 patientes opérées d’emblé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Object 3"/>
          <p:cNvGraphicFramePr/>
          <p:nvPr/>
        </p:nvGraphicFramePr>
        <p:xfrm>
          <a:off x="1539720" y="2006640"/>
          <a:ext cx="60627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9720" y="2006640"/>
                    <a:ext cx="60627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Text Box 4"/>
          <p:cNvSpPr/>
          <p:nvPr/>
        </p:nvSpPr>
        <p:spPr>
          <a:xfrm>
            <a:off x="1547640" y="2060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7"/>
          <p:cNvSpPr/>
          <p:nvPr/>
        </p:nvSpPr>
        <p:spPr>
          <a:xfrm flipV="1">
            <a:off x="5292720" y="2060640"/>
            <a:ext cx="0" cy="37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7380360" y="580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&lt;0.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3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3366"/>
                </a:solidFill>
                <a:latin typeface="Albertus Medium"/>
              </a:rPr>
              <a:t>INDICATION DE CHIMIOTHERAPIE EN</a:t>
            </a:r>
            <a:br>
              <a:rPr sz="2400"/>
            </a:br>
            <a:r>
              <a:rPr b="1" i="1" lang="fr-FR" sz="2400" spc="-1" strike="noStrike">
                <a:solidFill>
                  <a:srgbClr val="003366"/>
                </a:solidFill>
                <a:latin typeface="Albertus Medium"/>
              </a:rPr>
              <a:t> FONCTION DE L’AGE</a:t>
            </a:r>
            <a:br>
              <a:rPr sz="2400"/>
            </a:br>
            <a:r>
              <a:rPr b="1" i="1" lang="fr-FR" sz="2400" spc="-1" strike="noStrike">
                <a:solidFill>
                  <a:srgbClr val="003366"/>
                </a:solidFill>
                <a:latin typeface="Albertus Medium"/>
              </a:rPr>
              <a:t>(1433 patientes opérées d’emblé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Object 3"/>
          <p:cNvGraphicFramePr/>
          <p:nvPr/>
        </p:nvGraphicFramePr>
        <p:xfrm>
          <a:off x="1371600" y="1957320"/>
          <a:ext cx="69562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57320"/>
                    <a:ext cx="69562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Text Box 4"/>
          <p:cNvSpPr/>
          <p:nvPr/>
        </p:nvSpPr>
        <p:spPr>
          <a:xfrm>
            <a:off x="1332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2411280" y="573408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(n=89)               (n=280)               (n=778)              (n=28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7667640" y="5805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&lt;0.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3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360" y="732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3366"/>
                </a:solidFill>
                <a:latin typeface="Albertus Medium"/>
              </a:rPr>
              <a:t>INDICATIONS DE L’HORMONOTHERAPIE </a:t>
            </a:r>
            <a:br>
              <a:rPr sz="2400"/>
            </a:br>
            <a:r>
              <a:rPr b="1" i="1" lang="fr-FR" sz="2400" spc="-1" strike="noStrike">
                <a:solidFill>
                  <a:srgbClr val="003366"/>
                </a:solidFill>
                <a:latin typeface="Albertus Medium"/>
              </a:rPr>
              <a:t>EN FONCTION DE pT et pN :   </a:t>
            </a: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                              </a:t>
            </a:r>
            <a:r>
              <a:rPr b="1" i="1" lang="fr-FR" sz="2400" spc="-1" strike="noStrike">
                <a:solidFill>
                  <a:srgbClr val="003366"/>
                </a:solidFill>
                <a:latin typeface="Albertus Medium"/>
              </a:rPr>
              <a:t>(1433 patientes opérées d’emblé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Object 3"/>
          <p:cNvGraphicFramePr/>
          <p:nvPr/>
        </p:nvGraphicFramePr>
        <p:xfrm>
          <a:off x="1539720" y="2006640"/>
          <a:ext cx="60627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9720" y="2006640"/>
                    <a:ext cx="60627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Text Box 4"/>
          <p:cNvSpPr/>
          <p:nvPr/>
        </p:nvSpPr>
        <p:spPr>
          <a:xfrm>
            <a:off x="1547640" y="2060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5"/>
          <p:cNvSpPr/>
          <p:nvPr/>
        </p:nvSpPr>
        <p:spPr>
          <a:xfrm flipV="1">
            <a:off x="5292720" y="2060640"/>
            <a:ext cx="0" cy="37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7380360" y="580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=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3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AFFICHE CONGRES STRASBOURG NOV 2010"/>
          <p:cNvPicPr/>
          <p:nvPr/>
        </p:nvPicPr>
        <p:blipFill>
          <a:blip r:embed="rId1"/>
          <a:stretch/>
        </p:blipFill>
        <p:spPr>
          <a:xfrm>
            <a:off x="234792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3366"/>
                </a:solidFill>
                <a:latin typeface="Albertus Medium"/>
              </a:rPr>
              <a:t>INDICATIONS  D’HORMONOTHERAPIE EN FONCTION DE L’AGE</a:t>
            </a:r>
            <a:br>
              <a:rPr sz="2400"/>
            </a:br>
            <a:r>
              <a:rPr b="1" i="1" lang="fr-FR" sz="2400" spc="-1" strike="noStrike">
                <a:solidFill>
                  <a:srgbClr val="003366"/>
                </a:solidFill>
                <a:latin typeface="Albertus Medium"/>
              </a:rPr>
              <a:t>(1433 patientes opérées d’emblé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Object 3"/>
          <p:cNvGraphicFramePr/>
          <p:nvPr/>
        </p:nvGraphicFramePr>
        <p:xfrm>
          <a:off x="1371600" y="1957320"/>
          <a:ext cx="69562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57320"/>
                    <a:ext cx="69562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Text Box 4"/>
          <p:cNvSpPr/>
          <p:nvPr/>
        </p:nvSpPr>
        <p:spPr>
          <a:xfrm>
            <a:off x="1332000" y="198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484360" y="5734080"/>
            <a:ext cx="56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(n=89)               (n=231)              (n=778)               (n=28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7812000" y="5805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=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3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ESPERIENZA DEL CENTRO RENE HUGUENIN DI ST CLO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960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cc"/>
                </a:solidFill>
                <a:latin typeface="Times New Roman"/>
              </a:rPr>
              <a:t>20 838 Ca. Mammari trattati dal 1980 al 2008, di cui 1431 (6.9%) in donne di 40 anni o m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8317080" y="-3240"/>
            <a:ext cx="826920" cy="144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2" name=""/>
          <p:cNvGraphicFramePr/>
          <p:nvPr/>
        </p:nvGraphicFramePr>
        <p:xfrm>
          <a:off x="755640" y="2565360"/>
          <a:ext cx="7704000" cy="3384720"/>
        </p:xfrm>
        <a:graphic>
          <a:graphicData uri="http://schemas.openxmlformats.org/drawingml/2006/table">
            <a:tbl>
              <a:tblPr/>
              <a:tblGrid>
                <a:gridCol w="1925640"/>
                <a:gridCol w="1927080"/>
                <a:gridCol w="1925640"/>
                <a:gridCol w="1925640"/>
              </a:tblGrid>
              <a:tr h="484200">
                <a:tc gridSpan="4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ARATTERISTICHE COMPA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&lt; 40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≥ </a:t>
                      </a:r>
                      <a:r>
                        <a:rPr b="1" lang="fr-FR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0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84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T (medi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,3 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,7 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&lt; 0.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82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BR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&lt; 0.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84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Her2 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0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&lt; 0.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82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RH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6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8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&lt; 0.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84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N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&lt; 0.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94840" y="475920"/>
            <a:ext cx="799308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66"/>
                </a:solidFill>
                <a:latin typeface="Albertus Medium"/>
              </a:rPr>
              <a:t>% DI SOPRAVVIVENZA SPECIFICA IN FUNZIONE DELL’ETA </a:t>
            </a:r>
            <a:br>
              <a:rPr sz="2000"/>
            </a:br>
            <a:r>
              <a:rPr b="1" i="1" lang="fr-FR" sz="2000" spc="-1" strike="noStrike">
                <a:solidFill>
                  <a:srgbClr val="003366"/>
                </a:solidFill>
                <a:latin typeface="Albertus Medium"/>
              </a:rPr>
              <a:t>ESPERIENZA DI ST CLO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8317080" y="-3240"/>
            <a:ext cx="826920" cy="1441440"/>
          </a:xfrm>
          <a:prstGeom prst="rect">
            <a:avLst/>
          </a:prstGeom>
          <a:ln w="0">
            <a:noFill/>
          </a:ln>
        </p:spPr>
      </p:pic>
      <p:pic>
        <p:nvPicPr>
          <p:cNvPr id="345" name="Graphique 1" descr=""/>
          <p:cNvPicPr/>
          <p:nvPr/>
        </p:nvPicPr>
        <p:blipFill>
          <a:blip r:embed="rId2"/>
          <a:stretch/>
        </p:blipFill>
        <p:spPr>
          <a:xfrm>
            <a:off x="1352520" y="1308240"/>
            <a:ext cx="6413400" cy="4349520"/>
          </a:xfrm>
          <a:prstGeom prst="rect">
            <a:avLst/>
          </a:prstGeom>
          <a:ln w="0">
            <a:noFill/>
          </a:ln>
        </p:spPr>
      </p:pic>
      <p:sp>
        <p:nvSpPr>
          <p:cNvPr id="346" name="ZoneTexte 2"/>
          <p:cNvSpPr/>
          <p:nvPr/>
        </p:nvSpPr>
        <p:spPr>
          <a:xfrm>
            <a:off x="611280" y="558972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cc"/>
                </a:solidFill>
                <a:uFillTx/>
                <a:latin typeface="Times New Roman"/>
              </a:rPr>
              <a:t>NB</a:t>
            </a:r>
            <a:r>
              <a:rPr b="1" lang="fr-FR" sz="1800" spc="-1" strike="noStrike">
                <a:solidFill>
                  <a:srgbClr val="0000cc"/>
                </a:solidFill>
                <a:latin typeface="Times New Roman"/>
              </a:rPr>
              <a:t> : &lt; 40 a : 2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1" lang="fr-FR" sz="1800" spc="-1" strike="noStrike">
                <a:solidFill>
                  <a:srgbClr val="0000cc"/>
                </a:solidFill>
                <a:latin typeface="Times New Roman"/>
              </a:rPr>
              <a:t>&gt; 40 a : 1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ZoneTexte 3"/>
          <p:cNvSpPr/>
          <p:nvPr/>
        </p:nvSpPr>
        <p:spPr>
          <a:xfrm>
            <a:off x="2627280" y="57276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Times New Roman"/>
              </a:rPr>
              <a:t>Mortalità specifica (p&lt;0.0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ccolade fermante 4"/>
          <p:cNvSpPr/>
          <p:nvPr/>
        </p:nvSpPr>
        <p:spPr>
          <a:xfrm>
            <a:off x="2549520" y="5661000"/>
            <a:ext cx="155520" cy="503280"/>
          </a:xfrm>
          <a:custGeom>
            <a:avLst/>
            <a:gdLst>
              <a:gd name="textAreaLeft" fmla="*/ 0 w 155520"/>
              <a:gd name="textAreaRight" fmla="*/ 56160 w 155520"/>
              <a:gd name="textAreaTop" fmla="*/ 3960 h 503280"/>
              <a:gd name="textAreaBottom" fmla="*/ 499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8"/>
                  <a:pt x="10800" y="556"/>
                </a:cubicBezTo>
                <a:lnTo>
                  <a:pt x="10800" y="10244"/>
                </a:lnTo>
                <a:cubicBezTo>
                  <a:pt x="10800" y="10522"/>
                  <a:pt x="16200" y="10800"/>
                  <a:pt x="21600" y="10800"/>
                </a:cubicBezTo>
                <a:cubicBezTo>
                  <a:pt x="16200" y="10800"/>
                  <a:pt x="10800" y="11078"/>
                  <a:pt x="10800" y="11356"/>
                </a:cubicBezTo>
                <a:lnTo>
                  <a:pt x="10800" y="21044"/>
                </a:lnTo>
                <a:cubicBezTo>
                  <a:pt x="10800" y="2132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ZoneTexte 5"/>
          <p:cNvSpPr/>
          <p:nvPr/>
        </p:nvSpPr>
        <p:spPr>
          <a:xfrm>
            <a:off x="6012000" y="52149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56944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66"/>
                </a:solidFill>
                <a:latin typeface="Albertus Medium"/>
              </a:rPr>
              <a:t>DO VERY YOUNG KOREAN BREAST CANCER PATIENT HAVE WORSE OUTCOMES ?</a:t>
            </a:r>
            <a:br>
              <a:rPr sz="3200"/>
            </a:br>
            <a:r>
              <a:rPr b="1" i="1" lang="fr-FR" sz="2000" spc="-1" strike="noStrike">
                <a:solidFill>
                  <a:srgbClr val="003366"/>
                </a:solidFill>
                <a:latin typeface="Albertus Medium"/>
              </a:rPr>
              <a:t>KIM JK et al  Annals of Surg Oncol 2007, 14 : 3385-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24000" y="3141720"/>
            <a:ext cx="8496000" cy="295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Analyse de 2701 patientes </a:t>
            </a:r>
            <a:r>
              <a:rPr b="0" lang="fr-FR" sz="3200" spc="-1" strike="noStrike">
                <a:solidFill>
                  <a:srgbClr val="0000cc"/>
                </a:solidFill>
                <a:latin typeface="Symbol"/>
                <a:ea typeface="Symbol"/>
              </a:rPr>
              <a:t></a:t>
            </a: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 50 ans traitées entre 1989 et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381 (9.6%) &lt; 35 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2320 (90.4%) 35-50 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8317080" y="7920"/>
            <a:ext cx="82836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5080" y="54900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COMPARAISON DES FACTEURS </a:t>
            </a:r>
            <a:br>
              <a:rPr sz="2800"/>
            </a:b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BIOLOGIQUES EN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496000" cy="381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ER+</a:t>
            </a: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52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58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0.0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PgR+</a:t>
            </a: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47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56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0.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Her2+++</a:t>
            </a: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33.3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33.7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Grade 3</a:t>
            </a: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52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43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0.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2700360" y="1844640"/>
            <a:ext cx="1366920" cy="43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&lt; 35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4573440" y="1844640"/>
            <a:ext cx="1366920" cy="43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35-50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6877080" y="1844640"/>
            <a:ext cx="647640" cy="43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COMPARAISON DES FACTEURS CLINICO / HISTOPATHOLOGIQUES EN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24000" y="2565360"/>
            <a:ext cx="8496000" cy="381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0000cc"/>
                </a:solidFill>
                <a:latin typeface="Times New Roman"/>
              </a:rPr>
              <a:t>pT</a:t>
            </a:r>
            <a:r>
              <a:rPr b="0" lang="fr-FR" sz="3000" spc="-1" strike="noStrike">
                <a:solidFill>
                  <a:srgbClr val="0000cc"/>
                </a:solidFill>
                <a:latin typeface="Symbol"/>
                <a:ea typeface="Symbol"/>
              </a:rPr>
              <a:t></a:t>
            </a:r>
            <a:r>
              <a:rPr b="0" lang="fr-FR" sz="3000" spc="-1" strike="noStrike">
                <a:solidFill>
                  <a:srgbClr val="0000cc"/>
                </a:solidFill>
                <a:latin typeface="Times New Roman"/>
              </a:rPr>
              <a:t> 2 cm</a:t>
            </a:r>
            <a:r>
              <a:rPr b="0" lang="fr-FR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36.8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    44.4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0.00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0000cc"/>
                </a:solidFill>
                <a:latin typeface="Times New Roman"/>
              </a:rPr>
              <a:t>pT&gt;2cm</a:t>
            </a:r>
            <a:r>
              <a:rPr b="0" lang="fr-FR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63.2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    55.6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0000cc"/>
                </a:solidFill>
                <a:latin typeface="Times New Roman"/>
              </a:rPr>
              <a:t>pN1-3</a:t>
            </a:r>
            <a:r>
              <a:rPr b="0" lang="fr-FR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23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    24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48                  43           0.024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0000cc"/>
                </a:solidFill>
                <a:latin typeface="Times New Roman"/>
              </a:rPr>
              <a:t>pN&gt;3</a:t>
            </a:r>
            <a:r>
              <a:rPr b="0" lang="fr-FR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25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    19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2700360" y="1844640"/>
            <a:ext cx="1366920" cy="43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&lt; 35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5003640" y="1844640"/>
            <a:ext cx="1366920" cy="43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35-50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7667640" y="1844640"/>
            <a:ext cx="647640" cy="43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8"/>
          <p:cNvSpPr/>
          <p:nvPr/>
        </p:nvSpPr>
        <p:spPr>
          <a:xfrm>
            <a:off x="3632040" y="494172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9"/>
          <p:cNvSpPr/>
          <p:nvPr/>
        </p:nvSpPr>
        <p:spPr>
          <a:xfrm>
            <a:off x="5867280" y="494172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831996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3366"/>
                </a:solidFill>
                <a:latin typeface="Albertus Medium"/>
              </a:rPr>
              <a:t>SURVIVAL ANALYSIS BY NODAL STATUS IN </a:t>
            </a:r>
            <a:br>
              <a:rPr sz="2400"/>
            </a:br>
            <a:r>
              <a:rPr b="1" i="1" lang="fr-FR" sz="2400" spc="-1" strike="noStrike">
                <a:solidFill>
                  <a:srgbClr val="003366"/>
                </a:solidFill>
                <a:latin typeface="Albertus Medium"/>
              </a:rPr>
              <a:t>KOREAN WOMEN WITH BREAST CANCER (pN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4" descr="Sans titre - 1"/>
          <p:cNvPicPr/>
          <p:nvPr/>
        </p:nvPicPr>
        <p:blipFill>
          <a:blip r:embed="rId1"/>
          <a:stretch/>
        </p:blipFill>
        <p:spPr>
          <a:xfrm>
            <a:off x="3780000" y="1773360"/>
            <a:ext cx="3308040" cy="5084640"/>
          </a:xfrm>
          <a:prstGeom prst="rect">
            <a:avLst/>
          </a:prstGeom>
          <a:ln w="0">
            <a:noFill/>
          </a:ln>
        </p:spPr>
      </p:pic>
      <p:sp>
        <p:nvSpPr>
          <p:cNvPr id="369" name="Line 6"/>
          <p:cNvSpPr/>
          <p:nvPr/>
        </p:nvSpPr>
        <p:spPr>
          <a:xfrm>
            <a:off x="468360" y="242100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807480" y="222552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ge younger than 35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ge from 35 to 50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9"/>
          <p:cNvSpPr/>
          <p:nvPr/>
        </p:nvSpPr>
        <p:spPr>
          <a:xfrm>
            <a:off x="468360" y="270828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7020000" y="2492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82.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7020000" y="28465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69.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2"/>
          <p:cNvSpPr/>
          <p:nvPr/>
        </p:nvSpPr>
        <p:spPr>
          <a:xfrm>
            <a:off x="7020000" y="53672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74.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3"/>
          <p:cNvSpPr/>
          <p:nvPr/>
        </p:nvSpPr>
        <p:spPr>
          <a:xfrm>
            <a:off x="7020000" y="58705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imes New Roman"/>
              </a:rPr>
              <a:t>58.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2"/>
          <a:stretch/>
        </p:blipFill>
        <p:spPr>
          <a:xfrm>
            <a:off x="829476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3" descr="Sans titre - 1"/>
          <p:cNvPicPr/>
          <p:nvPr/>
        </p:nvPicPr>
        <p:blipFill>
          <a:blip r:embed="rId1"/>
          <a:stretch/>
        </p:blipFill>
        <p:spPr>
          <a:xfrm>
            <a:off x="3708360" y="1557360"/>
            <a:ext cx="3502080" cy="53006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66"/>
                </a:solidFill>
                <a:latin typeface="Albertus Medium"/>
              </a:rPr>
              <a:t>SURVIVAL ANALYSIS BY NODAL STATUS IN </a:t>
            </a:r>
            <a:br>
              <a:rPr sz="2400"/>
            </a:br>
            <a:r>
              <a:rPr b="1" i="1" lang="fr-FR" sz="2400" spc="-1" strike="noStrike">
                <a:solidFill>
                  <a:srgbClr val="000066"/>
                </a:solidFill>
                <a:latin typeface="Albertus Medium"/>
              </a:rPr>
              <a:t>KOREAN WOMEN WITH BREAST CANCER (pN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807480" y="222552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ge younger than 35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ge from 35 to 50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468360" y="242100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7"/>
          <p:cNvSpPr/>
          <p:nvPr/>
        </p:nvSpPr>
        <p:spPr>
          <a:xfrm>
            <a:off x="468360" y="270828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3640" y="352440"/>
            <a:ext cx="7993080" cy="73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66"/>
                </a:solidFill>
                <a:latin typeface="Albertus Medium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32920" y="1197000"/>
            <a:ext cx="849636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Tutti gli studi confermano che circa il 7% dei Ca. Mammari insorge in donne sotto i 40an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La diagnosi è quasi sempre cli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Le lesioni hanno delle caratteristiche istopatologiche più aggressive (SBR3, RH-, Her2+++), in particolare con un gruppo importante di lesioni triple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Il rischio di RL e metastasi e più elevato che nelle pazienti più anzi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Studi specifici sono indispensabili per ottenere un miglioramento della prog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8317080" y="-3240"/>
            <a:ext cx="82692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FREQUENZA DEI CA. MAMMARI INFILTRANTI NELLE DONNE DI 40 ANNI O M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496360" cy="41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Studio Svedese    (1992-2005) </a:t>
            </a: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      23 345</a:t>
            </a: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   5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(FREDHOL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Studio Americano (1998-2003)</a:t>
            </a: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    243 000       6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[SEER] (GNERLI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Studio Francese (2007-2008)</a:t>
            </a: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        1647       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(CUTUL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8317080" y="-3240"/>
            <a:ext cx="826920" cy="1441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179280" y="1982880"/>
            <a:ext cx="1135080" cy="760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187200" y="3573360"/>
            <a:ext cx="1119240" cy="669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4"/>
          <a:stretch/>
        </p:blipFill>
        <p:spPr>
          <a:xfrm>
            <a:off x="139680" y="5067360"/>
            <a:ext cx="1166760" cy="665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à coins arrondis 1"/>
          <p:cNvSpPr/>
          <p:nvPr/>
        </p:nvSpPr>
        <p:spPr>
          <a:xfrm>
            <a:off x="6659640" y="1628640"/>
            <a:ext cx="792000" cy="43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à coins arrondis 8"/>
          <p:cNvSpPr/>
          <p:nvPr/>
        </p:nvSpPr>
        <p:spPr>
          <a:xfrm>
            <a:off x="7885080" y="1628640"/>
            <a:ext cx="790560" cy="43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4840" y="609480"/>
            <a:ext cx="811224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3366"/>
                </a:solidFill>
                <a:latin typeface="Albertus Medium"/>
              </a:rPr>
              <a:t>RECENT INCREASE OF BREAST CANCER INCIDENCE AMONG WOMEN UNDER THE AGE OF FORTY</a:t>
            </a:r>
            <a:br>
              <a:rPr sz="2000"/>
            </a:br>
            <a:r>
              <a:rPr b="1" i="1" lang="fr-FR" sz="1800" spc="-1" strike="noStrike">
                <a:solidFill>
                  <a:srgbClr val="003366"/>
                </a:solidFill>
                <a:latin typeface="Albertus Medium"/>
              </a:rPr>
              <a:t>BOUCHARDY,</a:t>
            </a:r>
            <a:r>
              <a:rPr b="1" i="1" lang="fr-FR" sz="2400" spc="-1" strike="noStrike">
                <a:solidFill>
                  <a:srgbClr val="003366"/>
                </a:solidFill>
                <a:latin typeface="Albertus Medium"/>
              </a:rPr>
              <a:t> </a:t>
            </a:r>
            <a:r>
              <a:rPr b="1" i="1" lang="fr-FR" sz="1800" spc="-1" strike="noStrike">
                <a:solidFill>
                  <a:srgbClr val="003366"/>
                </a:solidFill>
                <a:latin typeface="Albertus Medium"/>
              </a:rPr>
              <a:t>BJC 2007, 96 : 1743-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2637000"/>
            <a:ext cx="8496000" cy="34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Increase of BC incidence among 25 and 39 years in  Geneva registry : (rate for 100 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19.7</a:t>
            </a: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53.9      (+8.7% / 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Possible explic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- Best detection in high risk groups by M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- </a:t>
            </a:r>
            <a:r>
              <a:rPr b="0" lang="fr-FR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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 of risk factors : - nulli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- pregnancy &gt; 3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050920" y="3500280"/>
            <a:ext cx="10810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786200" y="3500280"/>
            <a:ext cx="10810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8317080" y="-3240"/>
            <a:ext cx="82692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3366"/>
                </a:solidFill>
                <a:latin typeface="Albertus Medium"/>
              </a:rPr>
              <a:t>RECENT TRENDS IN BREAST CANCER AMONG YOUNGER WOMEN IN THE UNITED STATES</a:t>
            </a:r>
            <a:br>
              <a:rPr sz="2400"/>
            </a:br>
            <a:r>
              <a:rPr b="1" i="1" lang="fr-FR" sz="2000" spc="-1" strike="noStrike">
                <a:solidFill>
                  <a:srgbClr val="003366"/>
                </a:solidFill>
                <a:latin typeface="Albertus Medium"/>
              </a:rPr>
              <a:t>BRINTON L,  JNCI 2008, 100 : 1643-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496000" cy="43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Analysis of 387 231 patients treated from 1992 to 2004 (SE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&lt; 30 y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   1850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  0.4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5.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30-39 y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 19640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  5.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40-49 y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 71650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18.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≥ 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50 y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94090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75.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7524720" y="2852640"/>
            <a:ext cx="1150920" cy="792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7156440" y="2852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8317080" y="-3240"/>
            <a:ext cx="82692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3366"/>
                </a:solidFill>
                <a:latin typeface="Albertus Medium"/>
              </a:rPr>
              <a:t>HYSTOPATHOLOGICAL FEATURES COMPARISON (IN 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DCIS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      12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21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16.4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1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IC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      88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79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83.6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8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pN+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     45.9*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38.2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30.2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3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« High grade »   62*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47.5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36.5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ER +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     59*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70.7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80.2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411280" y="1844640"/>
            <a:ext cx="936720" cy="3603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Times New Roman"/>
              </a:rPr>
              <a:t>&lt;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706920" y="1844640"/>
            <a:ext cx="1081080" cy="3603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Times New Roman"/>
              </a:rPr>
              <a:t>40 - 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5651640" y="1844640"/>
            <a:ext cx="936360" cy="3603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Times New Roman"/>
              </a:rPr>
              <a:t>&gt;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308720" y="1844640"/>
            <a:ext cx="136692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8"/>
          <p:cNvSpPr/>
          <p:nvPr/>
        </p:nvSpPr>
        <p:spPr>
          <a:xfrm>
            <a:off x="2411280" y="3716280"/>
            <a:ext cx="93672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411280" y="4653000"/>
            <a:ext cx="792360" cy="431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2411280" y="5516640"/>
            <a:ext cx="79236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370836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Times New Roman"/>
              </a:rPr>
              <a:t>* p &lt; 0.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8317080" y="-3240"/>
            <a:ext cx="82692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66"/>
                </a:solidFill>
                <a:latin typeface="Albertus Medium"/>
              </a:rPr>
              <a:t>SWEDISH COHORT</a:t>
            </a:r>
            <a:br>
              <a:rPr sz="3200"/>
            </a:br>
            <a:r>
              <a:rPr b="1" i="1" lang="fr-FR" sz="2000" spc="-1" strike="noStrike">
                <a:solidFill>
                  <a:srgbClr val="003366"/>
                </a:solidFill>
                <a:latin typeface="Albertus Medium"/>
              </a:rPr>
              <a:t>(FREDHOLM et al, PLOSNE 2009, 4, e 76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2637000"/>
            <a:ext cx="8496000" cy="34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22 000 women treated from 1992 to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Comparative analysis according age (histopathological feature and progno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1139760" cy="762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8300880" y="0"/>
            <a:ext cx="8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10:44Z</dcterms:created>
  <dc:creator>Nathalie</dc:creator>
  <dc:description/>
  <dc:language>en-US</dc:language>
  <cp:lastModifiedBy>Nathalie HEIL</cp:lastModifiedBy>
  <cp:lastPrinted>2011-06-14T14:39:07Z</cp:lastPrinted>
  <dcterms:modified xsi:type="dcterms:W3CDTF">2011-06-14T14:39:35Z</dcterms:modified>
  <cp:revision>41</cp:revision>
  <dc:subject/>
  <dc:title>Diapositive 1</dc:title>
</cp:coreProperties>
</file>