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DB73-1480-43DB-B08E-6D2A92E7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055-6EB8-4DA5-B360-AA3368BF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7A6-0A16-4AA1-A6E0-C1296EE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BA8E-566E-4893-85CB-492D4091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4DCD-D1E9-4E46-B5B7-7474580A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B753-6FC4-487F-AFB6-88FD42CE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7947-4E19-4A41-8A73-D9139256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6F87-DAD9-471E-A816-60D4BC62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677-486F-4522-880A-7D43AA7B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3AF-DEB5-4A70-96C4-C2F915C8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664F-FD06-475B-970A-A4499064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8BE-BEC2-4AAC-B38A-8D77E05B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3D40-C802-4DD7-B7E1-6ACE3FCC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8893-D9B4-4DA7-9481-18AEDA9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C6BF-5AD0-428E-9EC0-38F6375A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48C9-08E1-4E23-9CD5-C04339D14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F40F-C8E4-4EF0-AD5F-9AE190965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DBC-BD5B-4B86-AA3C-FC074359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F85-4E5B-4E0D-884C-31482367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2F5-034A-4B68-8855-C8A6206F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03D6-7A7E-4B5A-8766-24040DD7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F8A-F65E-430C-AF4B-7646AA17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2E5-2FDA-40A6-88FC-26E25C40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05E-2FF3-453E-BBF5-D2218962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C7AB-320A-4AF0-8574-17718E11DF6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790D-07AE-4249-9B2B-C31AFB292D83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Comic Sans MS"/>
              </a:rPr>
              <a:t>Il tumore della mammella nelle donne di età inferiore a 40 ann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isultati del trattamento conservativ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4724280" y="4114800"/>
            <a:ext cx="358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lisabetta Perrucci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C Radioterapia Oncolog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zienda Ospedaliera di Perug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ssisi (PG), 17-18 giugno 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-762120" y="3276720"/>
          <a:ext cx="464832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62120" y="3276720"/>
                    <a:ext cx="464832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8"/>
          <p:cNvSpPr/>
          <p:nvPr/>
        </p:nvSpPr>
        <p:spPr>
          <a:xfrm>
            <a:off x="-838080" y="3189240"/>
            <a:ext cx="2514600" cy="37062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28600" y="1522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Young age </a:t>
            </a:r>
            <a:br>
              <a:rPr sz="3600"/>
            </a:b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 BCT vs mastectomy: Local relapse </a:t>
            </a:r>
            <a:br>
              <a:rPr sz="3600"/>
            </a:b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Randomized and non randomized trials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380880" y="1905120"/>
            <a:ext cx="8610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ata not always reported for age groups in R tr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ost of pts in R trials older 50 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on Randomized trials only young 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ifference in age cut-off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3809880" y="4800600"/>
          <a:ext cx="2311560" cy="154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800600"/>
                    <a:ext cx="2311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7" descr="New_Breast30"/>
          <p:cNvPicPr/>
          <p:nvPr/>
        </p:nvPicPr>
        <p:blipFill>
          <a:blip r:embed="rId3"/>
          <a:stretch/>
        </p:blipFill>
        <p:spPr>
          <a:xfrm>
            <a:off x="7010280" y="411480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57200" y="1522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Young age and risk of LR </a:t>
            </a:r>
            <a:br>
              <a:rPr sz="2800"/>
            </a:b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Randomized Trials: BCT vs mastect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088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ilan 1 Trial in BCT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   LR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.05 per 100 woman years &lt; 45 aa v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0.34 e 0.35 in 45-60aa e &gt;60 a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YE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eronesi U et al. N Engl J med 347:1227-1232, 200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ORTC 10801 Trial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ongen JA et al. J Natl Cancer Inst 92:1143-1150,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ORTC-DBCG T. in BCT  LR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9.24 times higer risk ≤ 35 ys vs ≥ 60 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Y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oogd AC et al. J Clin Oncol 19:1688-1697,200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 EORTC Trials m. analysis risk factors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LRR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age &lt;35 ys and B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&lt;35 y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HR 2.34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(1.30-4.24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35-50 ys HR 1.60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(1.14-2.25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&gt;50 ys HR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YES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de Bock GH et al. Eur J Cancer 42:351-356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228600" y="277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Young age </a:t>
            </a: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and risk of LR 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Non R Trials: Mastectomy vs B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71600" y="28954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152280" y="1828800"/>
            <a:ext cx="89917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utor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°pts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ge range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ge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FUaa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R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BCT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Arriagada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2006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&lt;40-7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≤40 vs &gt;61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2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p=.10-6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200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Kroman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928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&lt;50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&lt;35 vs &gt;4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5.4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ss nd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200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eadle 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652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&lt;3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≤3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9.8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p=.05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24.1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5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2009 </a:t>
            </a:r>
            <a:r>
              <a:rPr b="0" lang="it-IT" sz="1000" spc="-1" strike="noStrike">
                <a:solidFill>
                  <a:srgbClr val="ffffff"/>
                </a:solidFill>
                <a:latin typeface="Tahoma"/>
              </a:rPr>
              <a:t>LRR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541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≤40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&lt;40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27.9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p&lt;.0001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Sangen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6477120" y="2895480"/>
            <a:ext cx="914400" cy="2133720"/>
          </a:xfrm>
          <a:prstGeom prst="ellipse">
            <a:avLst/>
          </a:prstGeom>
          <a:noFill/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9"/>
          <p:cNvSpPr/>
          <p:nvPr/>
        </p:nvSpPr>
        <p:spPr>
          <a:xfrm>
            <a:off x="5791320" y="2133720"/>
            <a:ext cx="304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Young patients: Mastectomy or BCT? </a:t>
            </a:r>
            <a:br>
              <a:rPr sz="3600"/>
            </a:br>
            <a:r>
              <a:rPr b="1" lang="it-IT" sz="3600" spc="-1" strike="noStrike">
                <a:solidFill>
                  <a:srgbClr val="dbbd71"/>
                </a:solidFill>
                <a:latin typeface="Comic Sans MS"/>
              </a:rPr>
              <a:t>Survival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Globally higher risk LR after BCT than mastectomy in young 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Higher risk LR after BCT in ≤ 35 ys  warrants further study to rule out the possibility of a negative impact of breast conservation on survival… 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oogd AC et al. J Clin Oncol 19:1688-1697,20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Young patients: Mastectomy or BCT?  </a:t>
            </a:r>
            <a:br>
              <a:rPr sz="3600"/>
            </a:br>
            <a:r>
              <a:rPr b="1" lang="it-IT" sz="3600" spc="-1" strike="noStrike">
                <a:solidFill>
                  <a:srgbClr val="dbbd71"/>
                </a:solidFill>
                <a:latin typeface="Comic Sans MS"/>
              </a:rPr>
              <a:t>Survival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Young age per se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ndependent prognostic factor for recurr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8a500"/>
                </a:solidFill>
                <a:latin typeface="Comic Sans MS"/>
              </a:rPr>
              <a:t>worse prognosis of young age independent of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 si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 stat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rad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hormone receptor stat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djuvant systemic thera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ocoregional trea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4% decrese in recurrence for every year of 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8a500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de la Rochefordiere A et al. Lancet 341:1039-1043, 199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228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Young patients: Mastectomy or BCT?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dbbd71"/>
                </a:solidFill>
                <a:latin typeface="Comic Sans MS"/>
              </a:rPr>
              <a:t>Survi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152280" y="1219320"/>
            <a:ext cx="8991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9285 premenopausal &lt; 50 ys pts BCT vs mastectomy. Median FU 7.4 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ts &lt;35 ys </a:t>
            </a:r>
            <a:r>
              <a:rPr b="0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5.2 fold &gt; incidence LR after BCT within 5 years vs 45-49 ys p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imilar long-term survival at multivariable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o difference for group T&lt; 2c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Kroman N et al. Cancer 100:688-93, 200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52280" y="4114800"/>
            <a:ext cx="8763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1451 pts ≤40 ys BCT vs mastectomy. Median FU 7.4 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0y DRFS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71.0%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(95% CI 67.6-74.4)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BCT vs 67.0%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(95% CI 62.4-71.6)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.08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0y OS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74.9%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(95% CI 71.7-78.1)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BCT vs 71.2%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(95% CI 66.4-76.0)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 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=.21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3809880"/>
            <a:ext cx="2895840" cy="0"/>
          </a:xfrm>
          <a:prstGeom prst="line">
            <a:avLst/>
          </a:prstGeom>
          <a:ln w="9360">
            <a:solidFill>
              <a:srgbClr val="f8a5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Young patients: Mastectomy or BCT?</a:t>
            </a:r>
            <a:br>
              <a:rPr sz="3200"/>
            </a:b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Survival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652 pts ≤ 35 ys  I-II-III stage BCT vs M vs M+R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I stadio BCT vs mast no difference LRR, DM, 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0 ys LRR rate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8.0% BCT vs 19.8% M  p=.56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0 ys DM rate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27.4% BCT vs 27.7% M p=.1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0 ys OS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92.4% BCT vs 72.0% M p=.1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II stage post-M RT improve LRR and OS 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0 ys LRR rate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7.7% BCT, 22.8% M, 5.7% MRT   p=.02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10 ys OS rate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81.0% BCT, 63.4% M, 85.4% MRT p=.03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Stage II Locoregional treatment may have largest benef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rong consideration for postmastectomy 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CT choice understanding of risk and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eadle BM et al. Int J Radiat Oncol biol Phys 73:734-744, 200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4191120" y="40384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Young patients: Mastectomy or BCT?  </a:t>
            </a:r>
            <a:br>
              <a:rPr sz="3200"/>
            </a:br>
            <a:r>
              <a:rPr b="1" lang="it-IT" sz="3200" spc="-1" strike="noStrike">
                <a:solidFill>
                  <a:srgbClr val="dbbd71"/>
                </a:solidFill>
                <a:latin typeface="Comic Sans MS"/>
              </a:rPr>
              <a:t>Survival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453 pts &lt;40ys T1 N0-1 BCT vs mastectomy, mFU 9.6 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BCT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10y OS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 val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______________________________________________________________________________________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ll N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83%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78%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=.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N0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84%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81%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p=.26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N1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79%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71% 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8a500"/>
                </a:solidFill>
                <a:latin typeface="Comic Sans MS"/>
              </a:rPr>
              <a:t>p=.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N0 pts vs N1 10y 0S 83% vs 75% p&lt;.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ifference in II stage is </a:t>
            </a: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Radiotherapy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one in all BCT pt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± draining nodes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antema-Joppe EJ et al. Int J Radiat Oncol Biol Phys 2011, in pres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105520"/>
            <a:ext cx="8001000" cy="15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Globally no negative effect of LR on survi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Nes JG, van de Velde CJ Breast 15:S3-S10,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eadle BM et al Semin Radiat Oncol 21:26-34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Zhou P, Recht A. Cancer 101:1264-1274, 200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5029200"/>
            <a:ext cx="335304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438280" y="48006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5720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Local relapse after BCT</a:t>
            </a:r>
            <a:br>
              <a:rPr sz="3200"/>
            </a:b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Factors treatment 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28600" y="1066680"/>
            <a:ext cx="830592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argins st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Final margin status is a strong predictor for relapse after BC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Park CC et al. JCO, 18:1668-1675, 2000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Luini A et al. Breast Cancer Res Treat 113:397-402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Jobsen JJ et al. Eur J Cancer 37:1820-27, 20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Leest M et al. Cancer 109:1957-64, 200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Fourquet A et al. Int J Radiat Oncol biol Phys 17:719-725, 198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adiotherapy bo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Radiotherapy boost improve local contro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000" spc="-1" strike="noStrike">
                <a:solidFill>
                  <a:srgbClr val="ffffff"/>
                </a:solidFill>
                <a:latin typeface="Comic Sans MS"/>
              </a:rPr>
              <a:t>Romestaing P et al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. J Clin Oncol 15: 963-968, 1997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Bartelink HM et al. N Engl J Med 345:1378-1387, 2001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omic Sans MS"/>
              </a:rPr>
              <a:t>Antonini N et al. Radiother Oncol 82:265-271, 200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Poortmans PM et al. Cancer Radiother 12:565-570, 200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djuvant systemic ther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Reduction LR by chemotherapy and hormonetherap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Leest M et al. Cancer 109:1957-64, 200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de Bock GH et al. Eur J Cancer 42:351-356,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Park CC et al. JCO, 18:1668-1675, 200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eadle BM et al. Int J Radiat Oncol biol Phys 73:734-744,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Jobsen JJ ey al. Eur J Cancer 37:1820-1827, 200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EBCTCG Lancet 365: 1687-1717, 2005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Margin status and local relapse</a:t>
            </a:r>
            <a:br>
              <a:rPr sz="3600"/>
            </a:b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according to ag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342864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85 pts T1 BCT 50Gy + 14 Gy boost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ge groups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≤ 4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____________________________________________________________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R%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5ys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ys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5ys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argin -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8.4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15.2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.6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6.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argin +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36.9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57.9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.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6.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Jobsen JJ et al. Int J Radiat Oncol Biol Phys 57:724-731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7315200" y="5334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No 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2666880" y="3048120"/>
            <a:ext cx="3733920" cy="0"/>
          </a:xfrm>
          <a:prstGeom prst="line">
            <a:avLst/>
          </a:prstGeom>
          <a:ln w="9360">
            <a:solidFill>
              <a:srgbClr val="f8a5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533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P=.00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334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P=.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228600" y="1295280"/>
            <a:ext cx="868680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young women with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negative margin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had statically increased risk of L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8 ys LR: </a:t>
            </a: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≤ 35ys 31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6-50ys 7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≥50 14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&lt;.00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Fowble B et al.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Int J Radiat Oncol Biol Phys 30:23-33, 199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&lt;33ys 14% vs 3.5% &gt;33ys p&lt;.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Fourquet A et al. Int J Radiat Oncol biol Phys 17:719-725, 198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" y="152280"/>
            <a:ext cx="822960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Early breast cancer</a:t>
            </a:r>
            <a:br>
              <a:rPr sz="2800"/>
            </a:b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dbbd71"/>
                </a:solidFill>
                <a:latin typeface="Comic Sans MS"/>
              </a:rPr>
              <a:t>Standard treatment</a:t>
            </a:r>
            <a:br>
              <a:rPr sz="2800"/>
            </a:br>
            <a:r>
              <a:rPr b="1" lang="it-IT" sz="2800" spc="-1" strike="noStrike">
                <a:solidFill>
                  <a:srgbClr val="dbbd71"/>
                </a:solidFill>
                <a:latin typeface="Comic Sans MS"/>
              </a:rPr>
              <a:t>Breast Conserving Therapy</a:t>
            </a:r>
            <a:r>
              <a:rPr b="0" lang="it-IT" sz="2800" spc="-1" strike="noStrike">
                <a:solidFill>
                  <a:srgbClr val="dbbd71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18288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andomized trials BCT vs Mastecto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~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ncrese in LR for BCT vs mastecto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o differences DFS e 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eronesi U et al. N Engl J Med 347:1227-1232, 2002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Arriagada R et al. J Clin Oncol 14:1558-1564, 1996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ongen JA et al. J Natl Cancer Inst 92:1143-1150,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Fisher B et al. N Engl J Med 347:1233-1241, 200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lichert-Toft M et al. Acta Oncol 47:672-81, 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28600" y="4114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bbd71"/>
                </a:solidFill>
                <a:latin typeface="Comic Sans MS"/>
              </a:rPr>
              <a:t>DC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reast Conserving Therapy</a:t>
            </a:r>
            <a:r>
              <a:rPr b="0" lang="it-IT" sz="2400" spc="-1" strike="noStrike">
                <a:solidFill>
                  <a:srgbClr val="dbbd71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andard op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04920" y="502920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Fisher B et al. N Engl J Med 328:1581-6, 1993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Fisher B et al. J Clin Oncol 16:441-52, 199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oyages J et al. Cancer  85:616, 1999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Julien JP et al. Lancet 355:528-33, 2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UKCCCR Ductal Carcinoma in Situ Lancet 362:95-102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Cutuli B et al. 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Int J Radiat Oncol Biol Phys  53:868-79, </a:t>
            </a:r>
            <a:r>
              <a:rPr b="0" lang="fr-FR" sz="1200" spc="-1" strike="noStrike">
                <a:solidFill>
                  <a:srgbClr val="ffffff"/>
                </a:solidFill>
                <a:latin typeface="Comic Sans MS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212760"/>
            <a:ext cx="82296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Margin status and local relap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04920" y="849240"/>
            <a:ext cx="86868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451 pts ≤40 ys BCT/mastect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ctuarial LR risk 889 pts B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5y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y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5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icroscopic tumor exc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omplet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7.6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6.9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6.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complete/doubtful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25.1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8a500"/>
                </a:solidFill>
                <a:latin typeface="Comic Sans MS"/>
              </a:rPr>
              <a:t>38.9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 flipV="1" rot="10800000">
            <a:off x="8076960" y="3443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=.0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4724280" y="24382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4648320"/>
            <a:ext cx="7162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Comic Sans MS"/>
              </a:rPr>
              <a:t>Negative margins are requir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Sabel MS. Sem Radiat Oncol 21:10-19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Nes JG, van de Velde CJ Breast 15:S3-S10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0" y="4495680"/>
            <a:ext cx="4267080" cy="0"/>
          </a:xfrm>
          <a:prstGeom prst="line">
            <a:avLst/>
          </a:prstGeom>
          <a:ln w="9360">
            <a:solidFill>
              <a:srgbClr val="f8a5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BCT Local relapse </a:t>
            </a:r>
            <a:br>
              <a:rPr sz="3200"/>
            </a:b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Effect of boost according 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52280" y="1447920"/>
            <a:ext cx="6096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ORTC trial, 5318 pts BC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 ys LR Risk reduction greater ≤ 40 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rom 23.9% to 13.5% p=.00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o differences SS i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istant relapse risk at 10 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OS 10 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Breast cancer mort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artelink H et al. J Clin Oncol 22:3259-3265, 200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rieling C et al. Eur J Cancer 39:932-944, 2003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Jones H et al. J Clin Oncol 27:4939-4947, 2009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858000" y="31240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52280" y="5410080"/>
            <a:ext cx="86108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Age itself and boost independent prognostic factors for Local Control 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8a500"/>
                </a:solidFill>
                <a:latin typeface="Comic Sans MS"/>
              </a:rPr>
              <a:t>p&lt;.00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rieling C et al. Eur J Cancer 39:932-944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BCT Local relapse </a:t>
            </a:r>
            <a:br>
              <a:rPr sz="3200"/>
            </a:b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Effect of boost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ctuarial LR risk 889 pts ≤40 ys B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5y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10y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15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Boost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8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17.9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26.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No boost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11.4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24.1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37.9</a:t>
            </a:r>
            <a:r>
              <a:rPr b="0" lang="it-IT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ORTC 10Gy vs 26Gy boost 251 pts incomplete excision (37.5% &lt; 50 ys, 42% pre-menopaus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o difference in 10ys LC and OS p&gt;0.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oortmans P et al Radiother Oncol 90:80-85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Jones H et al. J Clin Oncol 27:4939-4947, 2009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769608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=.0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2590920" y="4267080"/>
            <a:ext cx="3733560" cy="0"/>
          </a:xfrm>
          <a:prstGeom prst="line">
            <a:avLst/>
          </a:prstGeom>
          <a:ln w="9360">
            <a:solidFill>
              <a:srgbClr val="f8a5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685800" y="2286000"/>
            <a:ext cx="754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BCT Local relapse </a:t>
            </a:r>
            <a:br>
              <a:rPr sz="3200"/>
            </a:b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Adjuvant systemic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22860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ctuarial LR risks 889 pts ≤40 ys B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5y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0y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5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ystemic Therapy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Ye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4.2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1.3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6.1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1.3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2.3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2.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N0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0.0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1.4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3.0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N1-2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4.5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0.6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3.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Increase local control over time explained by increasing use adjuv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systemic therapy in N0 pts </a:t>
            </a: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from 15%  1994-99ys to 60%  2000-05y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7772400" y="2895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=.000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777240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=.000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4495680" y="365760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2895480" y="2133720"/>
            <a:ext cx="4876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457200" y="1522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BCT Local relapse </a:t>
            </a:r>
            <a:br>
              <a:rPr sz="4000"/>
            </a:b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Adjuvant systemic therap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600200"/>
            <a:ext cx="8534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758 T1-2 N0-2 pts &lt;40 ys B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ow incidence LR in N+ pts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systemic treat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ultivariate analysis for Local Recurr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djuvant systemic treatment reduced risk LR by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HR 0.47; 95% CI, 0.28-0.78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p=.00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an der Leest M et al. Cancer 109:1957-64, 200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AutoShape 4"/>
          <p:cNvSpPr/>
          <p:nvPr/>
        </p:nvSpPr>
        <p:spPr>
          <a:xfrm>
            <a:off x="4038480" y="2362320"/>
            <a:ext cx="38412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2666880" y="4419720"/>
            <a:ext cx="419112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5029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djuvant systemic therapy affect local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457200" y="152280"/>
            <a:ext cx="82296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Early BreastCancer Age &lt; 4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152280" y="838080"/>
            <a:ext cx="88394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vailable data sugg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ocal control BCT in &lt; 40 ys pts worse than older p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R rate 1%/year during long-term FU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continuation F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o evidence of clear effect of BCT on OS, bu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rom Halsted to Fisher paradigms, today LR, DM and OS are rel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ositive effect of Radiotherapy in N1 -II stage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djuvant systemic therapy &lt; L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eeded predictive models for LR risk after BCT to define the optimal loco-regional treatment for each patient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Nes JG, van de Velde CJ Breast 15:S3-S10,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eadle BM et al Semin Radiat Oncol 21:26-34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Zhou P, Recht A. Cancer 101:1264-1274, 200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Miyamoto DT, Harris JR. Semin Radiat Oncol 21:35-42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antema-Joppe EJ et al. Int J Radiat Oncol Biol Phys 2011, in pres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Conclu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Young age not controindication in itself for B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ultidisciplinary 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volve the patients in the dec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timate LRR risk at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Treatment selection should focus on improvement of local control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egative margins are require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ptimum RT and bo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djuvant systemic thera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de Bock GH et al. Breast Cancer Res Treat 117:401-408, 2009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Poortmans P. Radiother Oncol 84:84-101,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Nes JG, van de Velde CJ Breast 15:S3-S10, 2006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3962520" y="320040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1" name="Picture 6" descr="scelta"/>
          <p:cNvPicPr/>
          <p:nvPr/>
        </p:nvPicPr>
        <p:blipFill>
          <a:blip r:embed="rId1"/>
          <a:stretch/>
        </p:blipFill>
        <p:spPr>
          <a:xfrm>
            <a:off x="6019920" y="4419720"/>
            <a:ext cx="2209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Conclusion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overall, </a:t>
            </a:r>
            <a:r>
              <a:rPr b="0" lang="it-IT" sz="2800" spc="-1" strike="noStrike">
                <a:solidFill>
                  <a:srgbClr val="f8a500"/>
                </a:solidFill>
                <a:latin typeface="Comic Sans MS"/>
              </a:rPr>
              <a:t>age as a significant impact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on the outcomes of patients with early-stage breast cancer, even accounting for biological characteristics and stage; it should be considered with regard to locoregional treatment decisions and warrants further stud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eadle BM et al. Semin Radiat Oncol 21:26-34, 2011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With </a:t>
            </a:r>
            <a:r>
              <a:rPr b="0" lang="it-IT" sz="2800" spc="-1" strike="noStrike">
                <a:solidFill>
                  <a:srgbClr val="f8a500"/>
                </a:solidFill>
                <a:latin typeface="Comic Sans MS"/>
              </a:rPr>
              <a:t>Careful attention to margins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and appropriate use of </a:t>
            </a:r>
            <a:r>
              <a:rPr b="0" lang="it-IT" sz="2800" spc="-1" strike="noStrike">
                <a:solidFill>
                  <a:srgbClr val="f8a500"/>
                </a:solidFill>
                <a:latin typeface="Comic Sans MS"/>
              </a:rPr>
              <a:t>radiation and systemic therap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8a5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8a500"/>
                </a:solidFill>
                <a:latin typeface="Comic Sans MS"/>
              </a:rPr>
              <a:t>BCT remain a safe option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for young women with breast canc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4"/>
          <p:cNvSpPr txBox="1"/>
          <p:nvPr/>
        </p:nvSpPr>
        <p:spPr>
          <a:xfrm>
            <a:off x="762120" y="1981080"/>
            <a:ext cx="7696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zie per l'attenzion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53352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Randomized Trial BCT vs RM</a:t>
            </a:r>
            <a:br>
              <a:rPr sz="3600"/>
            </a:b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Local relap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52280" y="1295280"/>
            <a:ext cx="89917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utor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°pts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FUa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LR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RM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B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Arriagada 1996 IGR*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79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9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4   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=.48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an Dongen 2000 EORTC*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90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2.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9.7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=.009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oogd 2001  EORTC-DBCG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77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9     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o S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Veronesi 2002 Milan I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701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.3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8.8  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&lt;.0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Fisher 2002 NSABP B-06^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217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.2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.7  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nd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Jacobson 1995 NCI*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47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4      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p=.9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7238880" y="2819520"/>
            <a:ext cx="1752840" cy="2590560"/>
          </a:xfrm>
          <a:prstGeom prst="ellipse">
            <a:avLst/>
          </a:prstGeom>
          <a:noFill/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9436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After longer follow-up higher LR in BCT, no effect on survival in individual tri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22860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… </a:t>
            </a:r>
            <a:r>
              <a:rPr b="0" lang="it-IT" sz="4000" spc="-1" strike="noStrike">
                <a:solidFill>
                  <a:srgbClr val="dbbd71"/>
                </a:solidFill>
                <a:latin typeface="Comic Sans MS"/>
              </a:rPr>
              <a:t>but young pati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04920" y="129528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Breast cancer at young age </a:t>
            </a:r>
            <a:r>
              <a:rPr b="0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 worse pro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ggressive pathologic features high G, LVI, EIC, ER-, familia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High risk distant metasta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Decrese OS and DF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High risk LR after BCT vs older p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eadle BM et al Semin Radiat Oncol 21:26-34, 2011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an Nes JG, van de Velde CJ Breast 15:S3-10, 2006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Vrieling C et al Eur J Cancer 39:932-944, 200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de la Rochefordiere A et al. Lancet 341:1039-1042, 1993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Bollet MA et al. Expert Rev Anticancer Ther 10:1215-27, 20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6" descr="MP900439284[1]"/>
          <p:cNvPicPr/>
          <p:nvPr/>
        </p:nvPicPr>
        <p:blipFill>
          <a:blip r:embed="rId1"/>
          <a:stretch/>
        </p:blipFill>
        <p:spPr>
          <a:xfrm>
            <a:off x="838080" y="4191120"/>
            <a:ext cx="2743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Can tumor and other characteristics justifie worse prognosis in young patients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o scre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dvanced disease at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ultifocal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Aggressive biopathologic feat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ore conservative surg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More final positive mar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No re-exci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rieling C et al. Eur J Cancer 39:932-944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eadle BM et al Semin Radiat Oncol 21:26-34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Zhou P, Recht A. Cancer 101:1264-1274, 200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Fourquet A et al. Int J Radiat Oncol Biol Phys 17:719-725, 1989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425520" y="30312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Risk factors for Local relapse after B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152280" y="1219320"/>
            <a:ext cx="434340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bbd71"/>
                </a:solidFill>
                <a:latin typeface="Comic Sans MS"/>
              </a:rPr>
              <a:t>Pati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age (&lt; 40 y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familiarity (BRCA 1/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bbd71"/>
                </a:solidFill>
                <a:latin typeface="Comic Sans MS"/>
              </a:rPr>
              <a:t>Thera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Surgery (margi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Radiotherapy (no RT, TD, boos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Systemic Thera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642960" y="2629080"/>
            <a:ext cx="2286000" cy="2133360"/>
          </a:xfrm>
          <a:custGeom>
            <a:avLst/>
            <a:gdLst>
              <a:gd name="textAreaLeft" fmla="*/ 334800 w 2286000"/>
              <a:gd name="textAreaRight" fmla="*/ 1951200 w 22860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328760" y="3314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Local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495680" y="1905120"/>
            <a:ext cx="4496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dbbd71"/>
                </a:solidFill>
                <a:latin typeface="Comic Sans MS"/>
              </a:rPr>
              <a:t>Tum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Size 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N+, n° N+/N excis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histology (lobular ~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Multifocal disease (~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IC if not negative margi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LV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tumor necr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High Gra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- Genic profiles, molecular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ubty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609480" y="2133720"/>
            <a:ext cx="5335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3048120" y="37339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Line 12"/>
          <p:cNvSpPr/>
          <p:nvPr/>
        </p:nvSpPr>
        <p:spPr>
          <a:xfrm flipV="1">
            <a:off x="1676520" y="48769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4876920" y="6019920"/>
            <a:ext cx="4038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AIRO La radioterapia dei tumori della mammella. Indicazioni e criteri di guida. 200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457200" y="304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Breast cancer and Young 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80880" y="990720"/>
            <a:ext cx="8153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Young age is a strong risk fac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for Local Relapse after B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Fourquet A et al. 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Int J Radiat Oncol Biol Phys 17:719-725, 1989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Fowble B et al. 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Int J Radiat Oncol Biol Phys 30:23-33, 1994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Jobsen JJ et al. Eur J Cancer 37:1820-27, 200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oogd AC et al. JCO 19:1688-1697, 200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rieling C et al. Eur J Cancer 39:932-944, 2003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Arriagada R at al. Ann Oncol 14:1617-1622, 2003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Kroman N et al. Cancer 100:688-93, 2005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ffffff"/>
                </a:solidFill>
                <a:latin typeface="Comic Sans MS"/>
              </a:rPr>
              <a:t>Komoike Y et al.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 Cancer, 2006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de Bock GH et al. Eur J Cancer 42:351-356, 2006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Bollet MA et al. Radiother Oncol 82:272-280,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Poortmans PM Cancer Radiother 12:565-570, 2008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Kirova YM et al. Breast Cancer Res Treat 120:119-26, 201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Botteri E et al. Ann Oncol 21:723-728, 2010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Kim K et al. Breast J 17:75-78, 201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80880" y="4038480"/>
            <a:ext cx="8534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8a500"/>
                </a:solidFill>
                <a:latin typeface="Comic Sans MS"/>
              </a:rPr>
              <a:t>Relative risk of LRR increased by 7% for every decreasing year of age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Comic Sans MS"/>
              </a:rPr>
              <a:t>Bollet MA et al Radiother Oncol 82:272-280,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28600" y="4876920"/>
            <a:ext cx="86104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ime: 50-45% within  5 ys, 30-33% 5-10 ys, 10-22% thereaf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ide: 76-67% tumor bed, 7-11% elsewhere, 4-5% diff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Arriagada R et al. J Clin Oncol 14:1558-1564, 1996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der Leest M et al. Cancer 109:1957-64,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agnosis: 47% routine control visits, 44% patient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900" spc="-1" strike="noStrike">
                <a:solidFill>
                  <a:srgbClr val="ffffff"/>
                </a:solidFill>
                <a:latin typeface="Comic Sans MS"/>
              </a:rPr>
              <a:t>van der Leest M et al. Cancer 109:1957-64, 2007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dbbd71"/>
                </a:solidFill>
                <a:latin typeface="Comic Sans MS"/>
              </a:rPr>
              <a:t>Young  age: Local relapse after B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1085 pts T1 B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ge groups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≤ 4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5ys LR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0.6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.7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=.004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M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9.4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2.2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&lt;.0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5y DF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71.2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88.8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&lt;.0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Jobsen JJ et al. Eur J Cancer 37:1820-27, 2001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2743200" y="3657600"/>
            <a:ext cx="3581280" cy="0"/>
          </a:xfrm>
          <a:prstGeom prst="line">
            <a:avLst/>
          </a:prstGeom>
          <a:ln w="9360">
            <a:solidFill>
              <a:srgbClr val="f8a5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304920" y="1752480"/>
            <a:ext cx="7924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228600" y="3900600"/>
            <a:ext cx="8610480" cy="23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980 pts Stage I-II BC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ge groups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≤ 35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36-50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≥5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reast R 8ys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4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4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2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=.0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egional R 8y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7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=.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FDM 8ys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76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75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83%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=.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</a:rPr>
              <a:t>Fowble B et al. </a:t>
            </a:r>
            <a:r>
              <a:rPr b="0" lang="en-GB" sz="1400" spc="-1" strike="noStrike">
                <a:solidFill>
                  <a:srgbClr val="ffffff"/>
                </a:solidFill>
                <a:latin typeface="Comic Sans MS"/>
              </a:rPr>
              <a:t>Int J Radiat Oncol Biol Phys 30:23-33, 1994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380880" y="4648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533520" y="1522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Young patients</a:t>
            </a:r>
            <a:br>
              <a:rPr sz="3600"/>
            </a:br>
            <a:r>
              <a:rPr b="0" lang="it-IT" sz="3600" spc="-1" strike="noStrike">
                <a:solidFill>
                  <a:srgbClr val="dbbd71"/>
                </a:solidFill>
                <a:latin typeface="Comic Sans MS"/>
              </a:rPr>
              <a:t>Mastectomy or BC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880" y="121932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vidence of higher rates of LR after BCT in pts ≤ 35 - 40ys vs older 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s BCT appropriate for young p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ong lifes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ffect on survival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King TA J Surg Oncol 103:330-336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Beadle BM et al Semin Radiat Oncol 21:26-34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Zhou P, Recht A. Cancer 101:1264-1274, 2004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Nes JG, van de Velde CJ Breast 15:S3-10, 200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rieling C et al Eur J Cancer 39:932-944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Van der Sangen MJC et al. Breast Cancer Res Treat 127:207-15, 201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etanalysis of Randomized trials evi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ocal relapse affect Survival ratio 4: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</a:rPr>
              <a:t>Clarke M et al. Lancet 366:2087-2106, 200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162920" y="19810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264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785373"/>
                <a:lnTo>
                  <a:pt x="6825" y="21213"/>
                </a:lnTo>
                <a:lnTo>
                  <a:pt x="0" y="17280"/>
                </a:lnTo>
                <a:lnTo>
                  <a:pt x="6825" y="12573"/>
                </a:lnTo>
                <a:lnTo>
                  <a:pt x="6825" y="14733"/>
                </a:lnTo>
                <a:arcTo wR="21600" hR="7560" stAng="2785373" swAng="-2427938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ga Raoul</cp:lastModifiedBy>
  <dcterms:modified xsi:type="dcterms:W3CDTF">2011-06-16T22:08:04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