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2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2820-C53E-4EEC-AD0D-A2EA78C667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523C-BC74-4432-AAE0-E5E1171A07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F08B-49CD-4226-8C34-AADD2742CD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0D5-1E71-4135-BF9C-CFEC8125C9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06E2-A0F5-41A5-B23C-9FE76FB824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cases per million per annum, approx 2000 cases per annum in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905-79CF-46AB-8486-0AA98F19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424-2735-4C33-9CDE-DEA04B2D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719-60EC-417C-883E-9C22BD35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A1B-AD21-4CE5-AF59-A4862093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98D-5D6F-4B60-8C18-95E3660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103-35DC-4A83-A05C-6CF5CBE0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6AF-2548-4432-A937-59810734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6B2-3580-4308-B2FB-759D3A86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E33-2B3C-405B-90FA-82B7B76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E8C-2EAF-4556-8333-C218316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872-B3D9-4719-B868-38B7305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DA0-D91C-4FDA-8383-640D397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416-A176-4A11-99B5-362F22FAA5B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55640" y="404640"/>
            <a:ext cx="40388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AL PLANNING ALLA DELIVERY NELLA RADIOTERAPIA DEI TUMORI DEL SNC NELL’ADU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AURO  ARCI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O AV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2503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90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CENTUALI  DI  ISTOTIPI  IN  NEURO-ON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Immagine2"/>
          <p:cNvPicPr/>
          <p:nvPr/>
        </p:nvPicPr>
        <p:blipFill>
          <a:blip r:embed="rId1"/>
          <a:stretch/>
        </p:blipFill>
        <p:spPr>
          <a:xfrm>
            <a:off x="1692360" y="2349360"/>
            <a:ext cx="619272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900000" y="5373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pendimoma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1116000" y="4653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ningioma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332000" y="429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foma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1619280" y="3933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pofisi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2843280" y="35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406728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oma 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6443640" y="602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3  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5435640" y="580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2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7740720" y="4005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4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5219640" y="5157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1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 CT per planning in radioterapi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sorsa dispon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nformazioni su sede e dimensioni neopl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dentificazione e rintracciabilità del sistema di coordinate del paz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ssibilità di variare la qualità della visualizzazione (window, leve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finizione non ottimale del target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067280" y="537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T – evoluzione della tecn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5875200"/>
            <a:ext cx="8507520" cy="5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19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Immagine3"/>
          <p:cNvPicPr/>
          <p:nvPr/>
        </p:nvPicPr>
        <p:blipFill>
          <a:blip r:embed="rId1"/>
          <a:stretch/>
        </p:blipFill>
        <p:spPr>
          <a:xfrm>
            <a:off x="0" y="1413000"/>
            <a:ext cx="3112920" cy="394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Immagine4"/>
          <p:cNvPicPr/>
          <p:nvPr/>
        </p:nvPicPr>
        <p:blipFill>
          <a:blip r:embed="rId2"/>
          <a:stretch/>
        </p:blipFill>
        <p:spPr>
          <a:xfrm>
            <a:off x="2916360" y="1413000"/>
            <a:ext cx="3233520" cy="3963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mmagine5"/>
          <p:cNvPicPr/>
          <p:nvPr/>
        </p:nvPicPr>
        <p:blipFill>
          <a:blip r:embed="rId3"/>
          <a:stretch/>
        </p:blipFill>
        <p:spPr>
          <a:xfrm>
            <a:off x="5951520" y="1413000"/>
            <a:ext cx="31924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lioblastom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5322600"/>
            <a:ext cx="2209680" cy="6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733920" y="52578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084720" y="5257800"/>
            <a:ext cx="295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1 + G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928800" y="59500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R (magnetic resona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Immagine7"/>
          <p:cNvPicPr/>
          <p:nvPr/>
        </p:nvPicPr>
        <p:blipFill>
          <a:blip r:embed="rId1"/>
          <a:stretch/>
        </p:blipFill>
        <p:spPr>
          <a:xfrm>
            <a:off x="2771640" y="1341360"/>
            <a:ext cx="3699000" cy="3772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Immagine8"/>
          <p:cNvPicPr/>
          <p:nvPr/>
        </p:nvPicPr>
        <p:blipFill>
          <a:blip r:embed="rId2"/>
          <a:stretch/>
        </p:blipFill>
        <p:spPr>
          <a:xfrm>
            <a:off x="6070680" y="1341360"/>
            <a:ext cx="3073320" cy="377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Immagine6"/>
          <p:cNvPicPr/>
          <p:nvPr/>
        </p:nvPicPr>
        <p:blipFill>
          <a:blip r:embed="rId3"/>
          <a:stretch/>
        </p:blipFill>
        <p:spPr>
          <a:xfrm>
            <a:off x="0" y="1341360"/>
            <a:ext cx="322596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Immagine9"/>
          <p:cNvPicPr/>
          <p:nvPr/>
        </p:nvPicPr>
        <p:blipFill>
          <a:blip r:embed="rId1"/>
          <a:stretch/>
        </p:blipFill>
        <p:spPr>
          <a:xfrm>
            <a:off x="1663560" y="0"/>
            <a:ext cx="581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immagine1"/>
          <p:cNvPicPr/>
          <p:nvPr/>
        </p:nvPicPr>
        <p:blipFill>
          <a:blip r:embed="rId1"/>
          <a:stretch/>
        </p:blipFill>
        <p:spPr>
          <a:xfrm>
            <a:off x="324000" y="1008000"/>
            <a:ext cx="856908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1384200" y="4960800"/>
            <a:ext cx="19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76360" y="522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492360" y="54338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492360" y="5229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rf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580000" y="522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ioch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403280" y="69228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maging  integ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Immagine10"/>
          <p:cNvPicPr/>
          <p:nvPr/>
        </p:nvPicPr>
        <p:blipFill>
          <a:blip r:embed="rId1"/>
          <a:stretch/>
        </p:blipFill>
        <p:spPr>
          <a:xfrm>
            <a:off x="1434960" y="2023920"/>
            <a:ext cx="62740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mmagine26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920" y="1330200"/>
            <a:ext cx="856908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1360" y="781200"/>
            <a:ext cx="88012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magine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57120" y="284040"/>
            <a:ext cx="842796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mic Sans MS"/>
              </a:rPr>
              <a:t>Nuove tecnologie in radiotera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400536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 a d i o t e r a p i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059280" y="2349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le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03640" y="400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ereota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987640" y="602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achi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148360" y="2349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DC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804000" y="19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732720" y="2565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MOTERA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156360" y="335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ammakn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15636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INAC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15636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yberkn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V="1">
            <a:off x="2484360" y="2707920"/>
            <a:ext cx="574920" cy="10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556000" y="422100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2484360" y="4581360"/>
            <a:ext cx="50328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4500720" y="2565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6227640" y="2133720"/>
            <a:ext cx="50508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6227640" y="2565360"/>
            <a:ext cx="50508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 flipV="1">
            <a:off x="4716360" y="3645000"/>
            <a:ext cx="1295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4716360" y="414972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4716360" y="4149720"/>
            <a:ext cx="129564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magine12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77920" y="108000"/>
            <a:ext cx="858672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05816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Immagine13"/>
          <p:cNvPicPr/>
          <p:nvPr/>
        </p:nvPicPr>
        <p:blipFill>
          <a:blip r:embed="rId1"/>
          <a:stretch/>
        </p:blipFill>
        <p:spPr>
          <a:xfrm>
            <a:off x="250920" y="765000"/>
            <a:ext cx="86374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Immagine14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7840" y="1244520"/>
            <a:ext cx="87883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Immagine15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7840" y="1384200"/>
            <a:ext cx="878832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wwwwwwwwwwwwwwwwwwww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24000" y="668160"/>
            <a:ext cx="842472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Immagine16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Immagine17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Immagine18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Immagine19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04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ività del radioterapista nella pratica clin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sulenza radioterapica con indicazione alla radioterapia e/o terapie associate e informazione del paziente (consenso inform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finizione dei volumi di trat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celta del piano di cura e della dose di trat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rveglianza clinica del paziente durante la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 del paz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826920" y="3284640"/>
            <a:ext cx="734544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Immagine24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Immagine25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Immagine2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Immagine2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Immagine2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3DCRT"/>
          <p:cNvPicPr/>
          <p:nvPr/>
        </p:nvPicPr>
        <p:blipFill>
          <a:blip r:embed="rId1"/>
          <a:stretch/>
        </p:blipFill>
        <p:spPr>
          <a:xfrm>
            <a:off x="0" y="0"/>
            <a:ext cx="3924360" cy="348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MRT"/>
          <p:cNvPicPr/>
          <p:nvPr/>
        </p:nvPicPr>
        <p:blipFill>
          <a:blip r:embed="rId2"/>
          <a:stretch/>
        </p:blipFill>
        <p:spPr>
          <a:xfrm>
            <a:off x="2627280" y="1700280"/>
            <a:ext cx="3960720" cy="35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TOMO"/>
          <p:cNvPicPr/>
          <p:nvPr/>
        </p:nvPicPr>
        <p:blipFill>
          <a:blip r:embed="rId3"/>
          <a:stretch/>
        </p:blipFill>
        <p:spPr>
          <a:xfrm>
            <a:off x="5219640" y="3375000"/>
            <a:ext cx="39243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Immagine 129"/>
          <p:cNvPicPr/>
          <p:nvPr/>
        </p:nvPicPr>
        <p:blipFill>
          <a:blip r:embed="rId1"/>
          <a:stretch/>
        </p:blipFill>
        <p:spPr>
          <a:xfrm>
            <a:off x="4140360" y="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Tomo01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Immagine trilogy 013"/>
          <p:cNvPicPr/>
          <p:nvPr/>
        </p:nvPicPr>
        <p:blipFill>
          <a:blip r:embed="rId3"/>
          <a:stretch/>
        </p:blipFill>
        <p:spPr>
          <a:xfrm>
            <a:off x="4211640" y="3157560"/>
            <a:ext cx="4932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“ treatment planning and delivery” presentano alcune incertezze dovut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umenti per la definizione volumi (GTV – CTV e O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vimento org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izione paz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rrelazione dose-RT e risposta clinico-strume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Somministrazione dose di RT accurata e riproduci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duzione tossic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radioterapia è un trattamento che si basa sull’anat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rea da trattare è local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definizione del target tumorale è fondam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glior localizzazione - miglior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calizzazione strutture sane - minore  tossi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284720" y="4292640"/>
            <a:ext cx="287280" cy="865080"/>
          </a:xfrm>
          <a:prstGeom prst="downArrow">
            <a:avLst>
              <a:gd name="adj1" fmla="val 50000"/>
              <a:gd name="adj2" fmla="val 75282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611280" y="5516640"/>
            <a:ext cx="215640" cy="433440"/>
          </a:xfrm>
          <a:custGeom>
            <a:avLst/>
            <a:gdLst>
              <a:gd name="textAreaLeft" fmla="*/ 28800 w 215640"/>
              <a:gd name="textAreaRight" fmla="*/ 186840 w 21564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779400" y="762120"/>
            <a:ext cx="75279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nfronto sui volumi trat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3520" y="5502240"/>
            <a:ext cx="2286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33920" y="5486400"/>
            <a:ext cx="2286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300720" y="5486400"/>
            <a:ext cx="2664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RT - T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magine1"/>
          <p:cNvPicPr/>
          <p:nvPr/>
        </p:nvPicPr>
        <p:blipFill>
          <a:blip r:embed="rId1"/>
          <a:stretch/>
        </p:blipFill>
        <p:spPr>
          <a:xfrm>
            <a:off x="324000" y="1557360"/>
            <a:ext cx="8497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mori del SNC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mori gl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rocitoma  (inc Pilocitico &amp; Piloci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ovan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igodendrogli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igo-astrocit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ioblastoma (GB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endimo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ingi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oma ipofisario + Craniofaringi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mori del SNC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wannoma vestibolare (neurinoma acust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ulloblast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inoma + terat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f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urocitoma + Gangliogli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neoblast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itive neuro-ectodermal tumour (P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ordoma + condrosarco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etastas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1:33:37Z</dcterms:created>
  <dc:creator>marcicasa</dc:creator>
  <dc:description/>
  <dc:language>en-US</dc:language>
  <cp:lastModifiedBy>marcicasa</cp:lastModifiedBy>
  <dcterms:modified xsi:type="dcterms:W3CDTF">2011-02-15T17:11:13Z</dcterms:modified>
  <cp:revision>41</cp:revision>
  <dc:subject/>
  <dc:title>Diapositiva 1</dc:title>
</cp:coreProperties>
</file>