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95650"/>
                </a:solidFill>
                <a:latin typeface="Hoefler Tex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C46D-854C-4541-A12C-0C5DD69678B5}" type="datetime">
              <a:rPr b="0" lang="it-IT" sz="1200" spc="-1" strike="noStrike">
                <a:solidFill>
                  <a:srgbClr val="595650"/>
                </a:solidFill>
                <a:latin typeface="Hoefler Text"/>
              </a:rPr>
              <a:t>31/07/26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move the slide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95650"/>
                </a:solidFill>
                <a:latin typeface="Hoefler Tex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88FC-3C0C-4C1F-BA7F-DE94BD7FDBED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5395-8F3B-4539-B460-BC5ACF70D9E5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voluzione diagnostico terapeutico clinico in caso di gl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BD7C-3150-4EFD-B0AE-47FCD1D1E7A0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attori che possono determinare la prognosi. Enfatizzare i fattori biologici che sono attualmente il goal standard della rice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912B-E102-4846-A8FB-AD3F03F8FF83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0A8-2339-4C4B-B8CC-0616179AB7E3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efinizione e diffusione di t cerebrale. Origeine istolog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ipo istologico più frequente (GB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5B8-F4B4-4E15-B27F-FC07FFA52CFF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roduzione sul valore prognostico dell’emoglob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6AE1-C338-44D2-9683-50449F520658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ffusione a livello modiale ed europea. Maggiore incidenza nei paesi sviluppa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034F-81C5-4567-88AB-DEFDC06BD381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ffusione tra le razze um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troversia sull’aumento dell’incidenza negli anni 80 e 90 dovuta principalmente all’affinamento dei metodi diagnost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77C2-C4B4-4592-BAB9-A9F7D15FC8DC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ffusione attuale (2011). Puntualizzare aumento dell’incidenza nel sesso femminile in paesi in via di svilup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65F-2C04-4D1F-B78F-19504E61D473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pidemiologia in Ita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76D-F6C6-442C-8691-0162FA4D7290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requenza e tipo in Ita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D0F9-BFC6-4C1E-9BA3-C5BBC9238419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nfatizzare l’ultimo capoverso con accenno alla problematica legata all’ampia diffusione della telefonia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B12F-7D92-474B-915B-319051EE963C}" type="slidenum">
              <a:rPr b="0" lang="it-IT" sz="1200" spc="-1" strike="noStrike">
                <a:solidFill>
                  <a:srgbClr val="595650"/>
                </a:solidFill>
                <a:latin typeface="Hoefler Text"/>
              </a:rPr>
              <a:t>&lt;number&gt;</a:t>
            </a:fld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-99360" algn="ctr">
              <a:buClr>
                <a:srgbClr val="4b4b4b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marL="215280" indent="-82800" algn="ctr">
              <a:buClr>
                <a:srgbClr val="4b4b4b"/>
              </a:buClr>
              <a:buFont typeface="Hoefl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marL="331200" indent="-66240" algn="ctr">
              <a:buClr>
                <a:srgbClr val="4b4b4b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marL="464040" indent="-66240" algn="ctr">
              <a:buClr>
                <a:srgbClr val="4b4b4b"/>
              </a:buClr>
              <a:buFont typeface="Hoefl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marL="596520" indent="-66240" algn="ctr">
              <a:buClr>
                <a:srgbClr val="4b4b4b"/>
              </a:buClr>
              <a:buFont typeface="Hoefler Tex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marL="596520" indent="-66240" algn="ctr">
              <a:buClr>
                <a:srgbClr val="595650"/>
              </a:buClr>
              <a:buFont typeface="Hoefler Tex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marL="596520" indent="-66240" algn="ctr">
              <a:buClr>
                <a:srgbClr val="595650"/>
              </a:buClr>
              <a:buFont typeface="Hoefler Tex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44560" y="3733560"/>
            <a:ext cx="981540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600" spc="-1" strike="noStrike">
                <a:solidFill>
                  <a:srgbClr val="1f5b5a"/>
                </a:solidFill>
                <a:latin typeface="Baskerville"/>
              </a:rPr>
              <a:t>TUMORI PRIMITIVI</a:t>
            </a:r>
            <a:br>
              <a:rPr sz="4600"/>
            </a:br>
            <a:r>
              <a:rPr b="1" lang="it-IT" sz="4600" spc="-1" strike="noStrike">
                <a:solidFill>
                  <a:srgbClr val="1f5b5a"/>
                </a:solidFill>
                <a:latin typeface="Baskerville"/>
              </a:rPr>
              <a:t>DEL SNC NELL’ADULTO</a:t>
            </a:r>
            <a:br>
              <a:rPr sz="4800"/>
            </a:br>
            <a:r>
              <a:rPr b="0" lang="it-IT" sz="3600" spc="-1" strike="noStrike">
                <a:solidFill>
                  <a:srgbClr val="1f5b5a"/>
                </a:solidFill>
                <a:latin typeface="Baskerville"/>
              </a:rPr>
              <a:t>Incidenza, evoluzione e fattori prognostici</a:t>
            </a:r>
            <a:endParaRPr b="0" lang="en-US" sz="36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35640" y="7808760"/>
            <a:ext cx="678168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900" spc="-1" strike="noStrike">
                <a:solidFill>
                  <a:srgbClr val="4b4b4b"/>
                </a:solidFill>
                <a:latin typeface="Hoefler Text"/>
              </a:rPr>
              <a:t>Angelo Di Pilla</a:t>
            </a:r>
            <a:endParaRPr b="0" lang="en-US" sz="39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85" name="Immagine 8" descr="Logo  ASL Lanciano Vasto Chieti.jpg"/>
          <p:cNvPicPr/>
          <p:nvPr/>
        </p:nvPicPr>
        <p:blipFill>
          <a:blip r:embed="rId2"/>
          <a:stretch/>
        </p:blipFill>
        <p:spPr>
          <a:xfrm>
            <a:off x="573120" y="5191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7" descr="UDA_logo.jpeg"/>
          <p:cNvPicPr/>
          <p:nvPr/>
        </p:nvPicPr>
        <p:blipFill>
          <a:blip r:embed="rId3"/>
          <a:stretch/>
        </p:blipFill>
        <p:spPr>
          <a:xfrm>
            <a:off x="10922040" y="533520"/>
            <a:ext cx="1514520" cy="142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473120" y="514440"/>
            <a:ext cx="102110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57"/>
                </a:solidFill>
                <a:latin typeface="Marker Felt"/>
              </a:rPr>
              <a:t>ASL Lanciano Vasto Chieti – Università  G. D’Annunzio</a:t>
            </a:r>
            <a:endParaRPr b="0" lang="en-US" sz="25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3b57"/>
                </a:solidFill>
                <a:latin typeface="Marker Felt"/>
              </a:rPr>
              <a:t>UNITA’ OPERATIVA DI RADIOTERAPIA</a:t>
            </a:r>
            <a:endParaRPr b="0" lang="en-US" sz="25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b57"/>
                </a:solidFill>
                <a:latin typeface="Marker Felt"/>
              </a:rPr>
              <a:t>Direttore:  Prof. G. Ausili Cefaro</a:t>
            </a:r>
            <a:endParaRPr b="0" lang="en-US" sz="2400" spc="-1" strike="noStrike">
              <a:solidFill>
                <a:srgbClr val="595650"/>
              </a:solidFill>
              <a:latin typeface="Hoefler Text"/>
            </a:endParaRPr>
          </a:p>
        </p:txBody>
      </p:sp>
      <p:pic>
        <p:nvPicPr>
          <p:cNvPr id="88" name="Immagine 7" descr="locandina.jpg"/>
          <p:cNvPicPr/>
          <p:nvPr/>
        </p:nvPicPr>
        <p:blipFill>
          <a:blip r:embed="rId4"/>
          <a:stretch/>
        </p:blipFill>
        <p:spPr>
          <a:xfrm>
            <a:off x="325440" y="3368520"/>
            <a:ext cx="2747880" cy="6080400"/>
          </a:xfrm>
          <a:prstGeom prst="rect">
            <a:avLst/>
          </a:prstGeom>
          <a:ln w="12600">
            <a:solidFill>
              <a:srgbClr val="0070c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2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11430000" cy="90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VOLUTION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grpSp>
        <p:nvGrpSpPr>
          <p:cNvPr id="118" name="CasellaDiTesto 3"/>
          <p:cNvGrpSpPr/>
          <p:nvPr/>
        </p:nvGrpSpPr>
        <p:grpSpPr>
          <a:xfrm>
            <a:off x="3517920" y="1341360"/>
            <a:ext cx="5321160" cy="511200"/>
            <a:chOff x="3517920" y="1341360"/>
            <a:chExt cx="5321160" cy="511200"/>
          </a:xfrm>
        </p:grpSpPr>
        <p:pic>
          <p:nvPicPr>
            <p:cNvPr id="119" name="CasellaDiTesto 3" descr=""/>
            <p:cNvPicPr/>
            <p:nvPr/>
          </p:nvPicPr>
          <p:blipFill>
            <a:blip r:embed="rId2"/>
            <a:stretch/>
          </p:blipFill>
          <p:spPr>
            <a:xfrm>
              <a:off x="3517920" y="1341360"/>
              <a:ext cx="53211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573360" y="13762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060"/>
                  </a:solidFill>
                  <a:latin typeface="Hoefler Text"/>
                </a:rPr>
                <a:t>Patient will suspected dignosis of glioma</a:t>
              </a:r>
              <a:endParaRPr b="0" lang="en-US" sz="2000" spc="-1" strike="noStrike">
                <a:solidFill>
                  <a:srgbClr val="595650"/>
                </a:solidFill>
                <a:latin typeface="Hoefler Text"/>
              </a:endParaRPr>
            </a:p>
          </p:txBody>
        </p:sp>
      </p:grpSp>
      <p:sp>
        <p:nvSpPr>
          <p:cNvPr id="121" name="CasellaDiTesto 4"/>
          <p:cNvSpPr/>
          <p:nvPr/>
        </p:nvSpPr>
        <p:spPr>
          <a:xfrm>
            <a:off x="4430880" y="2376360"/>
            <a:ext cx="3286080" cy="70380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Neurology/neuroradiology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22" name="CasellaDiTesto 5"/>
          <p:cNvSpPr/>
          <p:nvPr/>
        </p:nvSpPr>
        <p:spPr>
          <a:xfrm>
            <a:off x="2930400" y="3090960"/>
            <a:ext cx="2571840" cy="39888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Neurosurgery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23" name="CasellaDiTesto 7"/>
          <p:cNvSpPr/>
          <p:nvPr/>
        </p:nvSpPr>
        <p:spPr>
          <a:xfrm>
            <a:off x="6216480" y="3090960"/>
            <a:ext cx="4500720" cy="70380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Neuropatology, molecular pathology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grpSp>
        <p:nvGrpSpPr>
          <p:cNvPr id="124" name="CasellaDiTesto 8"/>
          <p:cNvGrpSpPr/>
          <p:nvPr/>
        </p:nvGrpSpPr>
        <p:grpSpPr>
          <a:xfrm>
            <a:off x="4303800" y="3767040"/>
            <a:ext cx="3462120" cy="513000"/>
            <a:chOff x="4303800" y="3767040"/>
            <a:chExt cx="3462120" cy="513000"/>
          </a:xfrm>
        </p:grpSpPr>
        <p:pic>
          <p:nvPicPr>
            <p:cNvPr id="125" name="CasellaDiTesto 8" descr=""/>
            <p:cNvPicPr/>
            <p:nvPr/>
          </p:nvPicPr>
          <p:blipFill>
            <a:blip r:embed="rId3"/>
            <a:stretch/>
          </p:blipFill>
          <p:spPr>
            <a:xfrm>
              <a:off x="4303800" y="3767040"/>
              <a:ext cx="34621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359240" y="3805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060"/>
                  </a:solidFill>
                  <a:latin typeface="Hoefler Text"/>
                </a:rPr>
                <a:t>DIAGNOSIS</a:t>
              </a:r>
              <a:endParaRPr b="0" lang="en-US" sz="2000" spc="-1" strike="noStrike">
                <a:solidFill>
                  <a:srgbClr val="595650"/>
                </a:solidFill>
                <a:latin typeface="Hoefler Text"/>
              </a:endParaRPr>
            </a:p>
          </p:txBody>
        </p:sp>
      </p:grpSp>
      <p:sp>
        <p:nvSpPr>
          <p:cNvPr id="127" name="CasellaDiTesto 9"/>
          <p:cNvSpPr/>
          <p:nvPr/>
        </p:nvSpPr>
        <p:spPr>
          <a:xfrm>
            <a:off x="3859200" y="4376880"/>
            <a:ext cx="4357800" cy="39888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Interdisciplinary tumor board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28" name="CasellaDiTesto 10"/>
          <p:cNvSpPr/>
          <p:nvPr/>
        </p:nvSpPr>
        <p:spPr>
          <a:xfrm>
            <a:off x="2001960" y="5019840"/>
            <a:ext cx="3286080" cy="39888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Clinical Trials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29" name="CasellaDiTesto 11"/>
          <p:cNvSpPr/>
          <p:nvPr/>
        </p:nvSpPr>
        <p:spPr>
          <a:xfrm>
            <a:off x="6573960" y="4948200"/>
            <a:ext cx="4214520" cy="100872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Best standard of care: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Radiation oncology/Neuro oncology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grpSp>
        <p:nvGrpSpPr>
          <p:cNvPr id="130" name="CasellaDiTesto 12"/>
          <p:cNvGrpSpPr/>
          <p:nvPr/>
        </p:nvGrpSpPr>
        <p:grpSpPr>
          <a:xfrm>
            <a:off x="4370400" y="5913360"/>
            <a:ext cx="3041640" cy="511200"/>
            <a:chOff x="4370400" y="5913360"/>
            <a:chExt cx="3041640" cy="511200"/>
          </a:xfrm>
        </p:grpSpPr>
        <p:pic>
          <p:nvPicPr>
            <p:cNvPr id="131" name="CasellaDiTesto 12" descr=""/>
            <p:cNvPicPr/>
            <p:nvPr/>
          </p:nvPicPr>
          <p:blipFill>
            <a:blip r:embed="rId4"/>
            <a:stretch/>
          </p:blipFill>
          <p:spPr>
            <a:xfrm>
              <a:off x="4370400" y="5913360"/>
              <a:ext cx="30416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430880" y="5948280"/>
              <a:ext cx="29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060"/>
                  </a:solidFill>
                  <a:latin typeface="Hoefler Text"/>
                </a:rPr>
                <a:t>RELAPSE</a:t>
              </a:r>
              <a:endParaRPr b="0" lang="en-US" sz="2000" spc="-1" strike="noStrike">
                <a:solidFill>
                  <a:srgbClr val="595650"/>
                </a:solidFill>
                <a:latin typeface="Hoefler Text"/>
              </a:endParaRPr>
            </a:p>
          </p:txBody>
        </p:sp>
      </p:grpSp>
      <p:sp>
        <p:nvSpPr>
          <p:cNvPr id="133" name="CasellaDiTesto 13"/>
          <p:cNvSpPr/>
          <p:nvPr/>
        </p:nvSpPr>
        <p:spPr>
          <a:xfrm>
            <a:off x="3930480" y="6620040"/>
            <a:ext cx="3786480" cy="39888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Interdisciplinary tumor board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34" name="CasellaDiTesto 14"/>
          <p:cNvSpPr/>
          <p:nvPr/>
        </p:nvSpPr>
        <p:spPr>
          <a:xfrm>
            <a:off x="2573280" y="7334280"/>
            <a:ext cx="3429000" cy="39888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Clinical Trials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35" name="CasellaDiTesto 15"/>
          <p:cNvSpPr/>
          <p:nvPr/>
        </p:nvSpPr>
        <p:spPr>
          <a:xfrm>
            <a:off x="6216480" y="7311960"/>
            <a:ext cx="5214960" cy="100872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Best standard of care: 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Surgery/Radiation oncology/Neuro oncology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36" name="CasellaDiTesto 16"/>
          <p:cNvSpPr/>
          <p:nvPr/>
        </p:nvSpPr>
        <p:spPr>
          <a:xfrm>
            <a:off x="4502160" y="8377200"/>
            <a:ext cx="2857320" cy="398880"/>
          </a:xfrm>
          <a:prstGeom prst="rect">
            <a:avLst/>
          </a:prstGeom>
          <a:solidFill>
            <a:srgbClr val="a6a9a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650"/>
                </a:solidFill>
                <a:latin typeface="Hoefler Text"/>
              </a:rPr>
              <a:t>Palliative care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grpSp>
        <p:nvGrpSpPr>
          <p:cNvPr id="137" name="CasellaDiTesto 17"/>
          <p:cNvGrpSpPr/>
          <p:nvPr/>
        </p:nvGrpSpPr>
        <p:grpSpPr>
          <a:xfrm>
            <a:off x="4870440" y="9083520"/>
            <a:ext cx="2182680" cy="511200"/>
            <a:chOff x="4870440" y="9083520"/>
            <a:chExt cx="2182680" cy="511200"/>
          </a:xfrm>
        </p:grpSpPr>
        <p:pic>
          <p:nvPicPr>
            <p:cNvPr id="138" name="CasellaDiTesto 17" descr=""/>
            <p:cNvPicPr/>
            <p:nvPr/>
          </p:nvPicPr>
          <p:blipFill>
            <a:blip r:embed="rId5"/>
            <a:stretch/>
          </p:blipFill>
          <p:spPr>
            <a:xfrm>
              <a:off x="4870440" y="9083520"/>
              <a:ext cx="21826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930920" y="9120240"/>
              <a:ext cx="20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060"/>
                  </a:solidFill>
                  <a:latin typeface="Hoefler Text"/>
                </a:rPr>
                <a:t>DEATH</a:t>
              </a:r>
              <a:endParaRPr b="0" lang="en-US" sz="2000" spc="-1" strike="noStrike">
                <a:solidFill>
                  <a:srgbClr val="595650"/>
                </a:solidFill>
                <a:latin typeface="Hoefler Text"/>
              </a:endParaRPr>
            </a:p>
          </p:txBody>
        </p:sp>
      </p:grpSp>
      <p:sp>
        <p:nvSpPr>
          <p:cNvPr id="140" name="Freccia in giù 19"/>
          <p:cNvSpPr/>
          <p:nvPr/>
        </p:nvSpPr>
        <p:spPr>
          <a:xfrm>
            <a:off x="5788080" y="1947960"/>
            <a:ext cx="785880" cy="28548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1" name="Freccia circolare a destra 21"/>
          <p:cNvSpPr/>
          <p:nvPr/>
        </p:nvSpPr>
        <p:spPr>
          <a:xfrm>
            <a:off x="2287440" y="2590920"/>
            <a:ext cx="642960" cy="857160"/>
          </a:xfrm>
          <a:custGeom>
            <a:avLst/>
            <a:gdLst>
              <a:gd name="textAreaLeft" fmla="*/ 86040 w 642960"/>
              <a:gd name="textAreaRight" fmla="*/ 556920 w 642960"/>
              <a:gd name="textAreaTop" fmla="*/ 154080 h 857160"/>
              <a:gd name="textAreaBottom" fmla="*/ 62280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3" stAng="-5400000" swAng="-5400000"/>
                <a:lnTo>
                  <a:pt x="0" y="11813"/>
                </a:lnTo>
                <a:arcTo wR="21600" hR="7763" stAng="10800000" swAng="-3258241"/>
                <a:lnTo>
                  <a:pt x="16200" y="21354"/>
                </a:lnTo>
                <a:lnTo>
                  <a:pt x="21600" y="17550"/>
                </a:lnTo>
                <a:lnTo>
                  <a:pt x="16200" y="13254"/>
                </a:lnTo>
                <a:lnTo>
                  <a:pt x="16200" y="15279"/>
                </a:lnTo>
                <a:arcTo wR="21600" hR="7763" stAng="7541759" swAng="2925436"/>
                <a:lnTo>
                  <a:pt x="748" y="9788"/>
                </a:lnTo>
                <a:arcTo wR="21600" hR="7763" stAng="-10467195" swAng="5067195"/>
                <a:close/>
              </a:path>
              <a:path fill="darkenLess" w="21600" h="21600">
                <a:moveTo>
                  <a:pt x="21600" y="0"/>
                </a:moveTo>
                <a:arcTo wR="21600" hR="7763" stAng="-5400000" swAng="-5400000"/>
                <a:lnTo>
                  <a:pt x="0" y="7763"/>
                </a:lnTo>
                <a:arcTo wR="21600" hR="7763" stAng="10800000" swAng="-332805"/>
                <a:lnTo>
                  <a:pt x="748" y="9788"/>
                </a:lnTo>
                <a:arcTo wR="21600" hR="7763" stAng="-10467195" swAng="5067195"/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2" name="Freccia a destra 22"/>
          <p:cNvSpPr/>
          <p:nvPr/>
        </p:nvSpPr>
        <p:spPr>
          <a:xfrm>
            <a:off x="5716440" y="3090960"/>
            <a:ext cx="428760" cy="285480"/>
          </a:xfrm>
          <a:prstGeom prst="rightArrow">
            <a:avLst>
              <a:gd name="adj1" fmla="val 50000"/>
              <a:gd name="adj2" fmla="val 50063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3" name="Freccia circolare a sinistra 23"/>
          <p:cNvSpPr/>
          <p:nvPr/>
        </p:nvSpPr>
        <p:spPr>
          <a:xfrm>
            <a:off x="10788480" y="3162240"/>
            <a:ext cx="714600" cy="1000080"/>
          </a:xfrm>
          <a:custGeom>
            <a:avLst/>
            <a:gdLst>
              <a:gd name="textAreaLeft" fmla="*/ 95760 w 714600"/>
              <a:gd name="textAreaRight" fmla="*/ 618840 w 714600"/>
              <a:gd name="textAreaTop" fmla="*/ 182880 h 1000080"/>
              <a:gd name="textAreaBottom" fmla="*/ 727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555836"/>
                <a:lnTo>
                  <a:pt x="4594" y="21419"/>
                </a:lnTo>
                <a:lnTo>
                  <a:pt x="0" y="17743"/>
                </a:lnTo>
                <a:lnTo>
                  <a:pt x="4594" y="13705"/>
                </a:lnTo>
                <a:lnTo>
                  <a:pt x="4594" y="15633"/>
                </a:lnTo>
                <a:arcTo wR="21600" hR="7907" stAng="3555836" swAng="-3240151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4" name="Freccia circolare a sinistra 24"/>
          <p:cNvSpPr/>
          <p:nvPr/>
        </p:nvSpPr>
        <p:spPr>
          <a:xfrm>
            <a:off x="10931400" y="4519440"/>
            <a:ext cx="714600" cy="1000440"/>
          </a:xfrm>
          <a:custGeom>
            <a:avLst/>
            <a:gdLst>
              <a:gd name="textAreaLeft" fmla="*/ 95760 w 714600"/>
              <a:gd name="textAreaRight" fmla="*/ 618840 w 714600"/>
              <a:gd name="textAreaTop" fmla="*/ 182880 h 1000440"/>
              <a:gd name="textAreaBottom" fmla="*/ 728280 h 10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555836"/>
                <a:lnTo>
                  <a:pt x="4594" y="21419"/>
                </a:lnTo>
                <a:lnTo>
                  <a:pt x="0" y="17743"/>
                </a:lnTo>
                <a:lnTo>
                  <a:pt x="4594" y="13705"/>
                </a:lnTo>
                <a:lnTo>
                  <a:pt x="4594" y="15633"/>
                </a:lnTo>
                <a:arcTo wR="21600" hR="7907" stAng="3555836" swAng="-3240151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5" name="Freccia circolare a destra 25"/>
          <p:cNvSpPr/>
          <p:nvPr/>
        </p:nvSpPr>
        <p:spPr>
          <a:xfrm>
            <a:off x="1287360" y="4519440"/>
            <a:ext cx="642960" cy="857520"/>
          </a:xfrm>
          <a:custGeom>
            <a:avLst/>
            <a:gdLst>
              <a:gd name="textAreaLeft" fmla="*/ 86040 w 642960"/>
              <a:gd name="textAreaRight" fmla="*/ 556920 w 642960"/>
              <a:gd name="textAreaTop" fmla="*/ 154080 h 857520"/>
              <a:gd name="textAreaBottom" fmla="*/ 6231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3" stAng="-5400000" swAng="-5400000"/>
                <a:lnTo>
                  <a:pt x="0" y="11813"/>
                </a:lnTo>
                <a:arcTo wR="21600" hR="7763" stAng="10800000" swAng="-3258241"/>
                <a:lnTo>
                  <a:pt x="16200" y="21354"/>
                </a:lnTo>
                <a:lnTo>
                  <a:pt x="21600" y="17550"/>
                </a:lnTo>
                <a:lnTo>
                  <a:pt x="16200" y="13254"/>
                </a:lnTo>
                <a:lnTo>
                  <a:pt x="16200" y="15279"/>
                </a:lnTo>
                <a:arcTo wR="21600" hR="7763" stAng="7541759" swAng="2925436"/>
                <a:lnTo>
                  <a:pt x="748" y="9788"/>
                </a:lnTo>
                <a:arcTo wR="21600" hR="7763" stAng="-10467195" swAng="5067195"/>
                <a:close/>
              </a:path>
              <a:path fill="darkenLess" w="21600" h="21600">
                <a:moveTo>
                  <a:pt x="21600" y="0"/>
                </a:moveTo>
                <a:arcTo wR="21600" hR="7763" stAng="-5400000" swAng="-5400000"/>
                <a:lnTo>
                  <a:pt x="0" y="7763"/>
                </a:lnTo>
                <a:arcTo wR="21600" hR="7763" stAng="10800000" swAng="-332805"/>
                <a:lnTo>
                  <a:pt x="748" y="9788"/>
                </a:lnTo>
                <a:arcTo wR="21600" hR="7763" stAng="-10467195" swAng="5067195"/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6" name="Freccia circolare a destra 27"/>
          <p:cNvSpPr/>
          <p:nvPr/>
        </p:nvSpPr>
        <p:spPr>
          <a:xfrm>
            <a:off x="1787400" y="6805440"/>
            <a:ext cx="642960" cy="857520"/>
          </a:xfrm>
          <a:custGeom>
            <a:avLst/>
            <a:gdLst>
              <a:gd name="textAreaLeft" fmla="*/ 86040 w 642960"/>
              <a:gd name="textAreaRight" fmla="*/ 556920 w 642960"/>
              <a:gd name="textAreaTop" fmla="*/ 154080 h 857520"/>
              <a:gd name="textAreaBottom" fmla="*/ 6231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3" stAng="-5400000" swAng="-5400000"/>
                <a:lnTo>
                  <a:pt x="0" y="11813"/>
                </a:lnTo>
                <a:arcTo wR="21600" hR="7763" stAng="10800000" swAng="-3258241"/>
                <a:lnTo>
                  <a:pt x="16200" y="21354"/>
                </a:lnTo>
                <a:lnTo>
                  <a:pt x="21600" y="17550"/>
                </a:lnTo>
                <a:lnTo>
                  <a:pt x="16200" y="13254"/>
                </a:lnTo>
                <a:lnTo>
                  <a:pt x="16200" y="15279"/>
                </a:lnTo>
                <a:arcTo wR="21600" hR="7763" stAng="7541759" swAng="2925436"/>
                <a:lnTo>
                  <a:pt x="748" y="9788"/>
                </a:lnTo>
                <a:arcTo wR="21600" hR="7763" stAng="-10467195" swAng="5067195"/>
                <a:close/>
              </a:path>
              <a:path fill="darkenLess" w="21600" h="21600">
                <a:moveTo>
                  <a:pt x="21600" y="0"/>
                </a:moveTo>
                <a:arcTo wR="21600" hR="7763" stAng="-5400000" swAng="-5400000"/>
                <a:lnTo>
                  <a:pt x="0" y="7763"/>
                </a:lnTo>
                <a:arcTo wR="21600" hR="7763" stAng="10800000" swAng="-332805"/>
                <a:lnTo>
                  <a:pt x="748" y="9788"/>
                </a:lnTo>
                <a:arcTo wR="21600" hR="7763" stAng="-10467195" swAng="5067195"/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7" name="Freccia circolare a sinistra 28"/>
          <p:cNvSpPr/>
          <p:nvPr/>
        </p:nvSpPr>
        <p:spPr>
          <a:xfrm>
            <a:off x="11574360" y="6877080"/>
            <a:ext cx="714600" cy="1000080"/>
          </a:xfrm>
          <a:custGeom>
            <a:avLst/>
            <a:gdLst>
              <a:gd name="textAreaLeft" fmla="*/ 95760 w 714600"/>
              <a:gd name="textAreaRight" fmla="*/ 618840 w 714600"/>
              <a:gd name="textAreaTop" fmla="*/ 182880 h 1000080"/>
              <a:gd name="textAreaBottom" fmla="*/ 727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555836"/>
                <a:lnTo>
                  <a:pt x="4594" y="21419"/>
                </a:lnTo>
                <a:lnTo>
                  <a:pt x="0" y="17743"/>
                </a:lnTo>
                <a:lnTo>
                  <a:pt x="4594" y="13705"/>
                </a:lnTo>
                <a:lnTo>
                  <a:pt x="4594" y="15633"/>
                </a:lnTo>
                <a:arcTo wR="21600" hR="7907" stAng="3555836" swAng="-3240151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8" name="Freccia in giù 29"/>
          <p:cNvSpPr/>
          <p:nvPr/>
        </p:nvSpPr>
        <p:spPr>
          <a:xfrm>
            <a:off x="5288040" y="7948440"/>
            <a:ext cx="785880" cy="28584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49" name="Freccia in giù 30"/>
          <p:cNvSpPr/>
          <p:nvPr/>
        </p:nvSpPr>
        <p:spPr>
          <a:xfrm>
            <a:off x="6145200" y="8091360"/>
            <a:ext cx="785880" cy="28584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50" name="Freccia in giù 31"/>
          <p:cNvSpPr/>
          <p:nvPr/>
        </p:nvSpPr>
        <p:spPr>
          <a:xfrm>
            <a:off x="5573880" y="8805960"/>
            <a:ext cx="785520" cy="28548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51" name="CasellaDiTesto 32"/>
          <p:cNvSpPr/>
          <p:nvPr/>
        </p:nvSpPr>
        <p:spPr>
          <a:xfrm>
            <a:off x="8288280" y="88390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Tabatabai, Acta Neuropathol, 2010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Helset, Acta Neurol Scand, 2010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52" name="Freccia giù 28"/>
          <p:cNvSpPr/>
          <p:nvPr/>
        </p:nvSpPr>
        <p:spPr>
          <a:xfrm>
            <a:off x="254160" y="1523880"/>
            <a:ext cx="914400" cy="7620120"/>
          </a:xfrm>
          <a:prstGeom prst="down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222268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53" name="CasellaDiTesto 29"/>
          <p:cNvSpPr/>
          <p:nvPr/>
        </p:nvSpPr>
        <p:spPr>
          <a:xfrm rot="16200000">
            <a:off x="-1801800" y="47991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Hoefler Text"/>
              </a:rPr>
              <a:t>Median os: 14,6 months (GBM)</a:t>
            </a:r>
            <a:endParaRPr b="0" lang="en-US" sz="24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13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15680" y="2768400"/>
            <a:ext cx="11001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0" algn="just">
              <a:lnSpc>
                <a:spcPct val="15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	</a:t>
            </a: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The life expectancy of patients with glioblastoma multiforme (GBM), the most malignant glioma using the current standard of care is on </a:t>
            </a:r>
            <a:r>
              <a:rPr b="0" i="1" lang="it-IT" sz="3600" spc="-1" strike="noStrike">
                <a:solidFill>
                  <a:srgbClr val="4b4b4b"/>
                </a:solidFill>
                <a:latin typeface="Hoefler Text"/>
              </a:rPr>
              <a:t>average 14 months after diagnosis despite aggressive surgery, radiation, and chemotherapies 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0" algn="just">
              <a:lnSpc>
                <a:spcPct val="15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med" advTm="11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7320" y="519120"/>
            <a:ext cx="11430000" cy="1193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6053"/>
                </a:solidFill>
                <a:latin typeface="Baskerville"/>
                <a:ea typeface="ＭＳ Ｐゴシック"/>
              </a:rPr>
              <a:t>PROGNOSI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87320" y="1733400"/>
            <a:ext cx="11430000" cy="739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lnSpc>
                <a:spcPts val="38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Several factors can help determine a patient’s prognosi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lnSpc>
                <a:spcPts val="20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Tumor histology 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 algn="just">
              <a:lnSpc>
                <a:spcPts val="2098"/>
              </a:lnSpc>
              <a:spcBef>
                <a:spcPts val="2801"/>
              </a:spcBef>
              <a:buClr>
                <a:srgbClr val="3c8c93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Hoefler Text"/>
                <a:ea typeface="ＭＳ Ｐゴシック"/>
              </a:rPr>
              <a:t>how the tumor looks under a microscope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lnSpc>
                <a:spcPts val="20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Age of the patient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lnSpc>
                <a:spcPts val="20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Extent of tumor residual</a:t>
            </a:r>
            <a:r>
              <a:rPr b="0" i="1" lang="en-US" sz="32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 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 algn="just">
              <a:lnSpc>
                <a:spcPts val="2098"/>
              </a:lnSpc>
              <a:spcBef>
                <a:spcPts val="2801"/>
              </a:spcBef>
              <a:buClr>
                <a:srgbClr val="3c8c93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Hoefler Text"/>
                <a:ea typeface="ＭＳ Ｐゴシック"/>
              </a:rPr>
              <a:t>amount of tumor remaining after surgery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lnSpc>
                <a:spcPts val="20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Tumor location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lnSpc>
                <a:spcPts val="20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Functional neurologic status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lnSpc>
                <a:spcPts val="20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Metastatic spread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lnSpc>
                <a:spcPts val="2098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b4b4b"/>
                </a:solidFill>
                <a:uFillTx/>
                <a:latin typeface="Hoefler Text"/>
                <a:ea typeface="ＭＳ Ｐゴシック"/>
              </a:rPr>
              <a:t>Biologic markers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med" advTm="5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87320" y="609480"/>
            <a:ext cx="1143000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PROGNOSTIC FACTOR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87320" y="259056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re considered </a:t>
            </a: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unfavorable prognostic factor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Age&gt;40 years 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tumor size&gt;</a:t>
            </a: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5–6 cm 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tumors crossing the midline 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neurologic deficits 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contrast enhancement on imaging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9" name="CasellaDiTesto 3"/>
          <p:cNvSpPr/>
          <p:nvPr/>
        </p:nvSpPr>
        <p:spPr>
          <a:xfrm>
            <a:off x="5859360" y="890604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Pignatti, JCO, 2002 - Tabatabai, Acta Neuropathol, 2010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3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7320" y="590400"/>
            <a:ext cx="11430000" cy="12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PROGNOSTIC FACTOR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6960" y="2590560"/>
            <a:ext cx="112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 algn="just">
              <a:lnSpc>
                <a:spcPts val="4700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 presence of </a:t>
            </a: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3 or more of these risk factors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has been shown to be associated with a </a:t>
            </a: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significantly shorter surviva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0160" indent="-560160" algn="just">
              <a:lnSpc>
                <a:spcPts val="4700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More aggressive treatment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s commonly recommended for patients with less favorable prognostic factors, but it has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mained uncertain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hether this patient population derives more benefit from these treatments than patients with favorable prognostic  </a:t>
            </a: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factor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med" advTm="4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18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PROGNOSTIC FACTOR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58360" y="2362320"/>
            <a:ext cx="601524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lnSpc>
                <a:spcPct val="150000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4b4b4b"/>
                </a:solidFill>
                <a:latin typeface="Hoefler Text"/>
              </a:rPr>
              <a:t>health-related quality of life (HRQOL) information can play a key role in cancer research and may help in individual patient care </a:t>
            </a:r>
            <a:endParaRPr b="0" lang="en-US" sz="34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164" name="Segnaposto contenuto 8" descr="EORTC1.jpg"/>
          <p:cNvPicPr/>
          <p:nvPr/>
        </p:nvPicPr>
        <p:blipFill>
          <a:blip r:embed="rId2"/>
          <a:stretch/>
        </p:blipFill>
        <p:spPr>
          <a:xfrm>
            <a:off x="7031160" y="2435400"/>
            <a:ext cx="2685960" cy="5727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65" name="Immagine 9" descr="EORTC2.jpg"/>
          <p:cNvPicPr/>
          <p:nvPr/>
        </p:nvPicPr>
        <p:blipFill>
          <a:blip r:embed="rId3"/>
          <a:stretch/>
        </p:blipFill>
        <p:spPr>
          <a:xfrm>
            <a:off x="9717120" y="2448000"/>
            <a:ext cx="2797200" cy="571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6" name="CasellaDiTesto 5"/>
          <p:cNvSpPr/>
          <p:nvPr/>
        </p:nvSpPr>
        <p:spPr>
          <a:xfrm>
            <a:off x="7645320" y="890604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Mauer,  British Journal of cancer,  2007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7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MOLECULAR MARKERS: MGMT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935400" y="2768400"/>
            <a:ext cx="5281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lnSpc>
                <a:spcPct val="15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	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Nomogram for predicting median survival and probability of survival at 2 years 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415800" y="3591000"/>
            <a:ext cx="6443640" cy="4572000"/>
          </a:xfrm>
          <a:prstGeom prst="rect">
            <a:avLst/>
          </a:prstGeom>
          <a:ln w="0">
            <a:noFill/>
          </a:ln>
          <a:effectLst>
            <a:outerShdw dist="38166" dir="3252661" blurRad="0" rotWithShape="0">
              <a:srgbClr val="000000">
                <a:alpha val="43000"/>
              </a:srgbClr>
            </a:outerShdw>
          </a:effectLst>
        </p:spPr>
      </p:pic>
      <p:sp>
        <p:nvSpPr>
          <p:cNvPr id="170" name="CasellaDiTesto 5"/>
          <p:cNvSpPr/>
          <p:nvPr/>
        </p:nvSpPr>
        <p:spPr>
          <a:xfrm>
            <a:off x="7859880" y="894888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Gorlia , Lancet Oncology , 2008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4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519120"/>
            <a:ext cx="11430000" cy="135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MOLECULAR MARKER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87320" y="2090880"/>
            <a:ext cx="11358720" cy="657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In contrast to the classical molecular markers in this field, p53 and epidermal growth factor receptor (EGFR) status, the </a:t>
            </a:r>
            <a:r>
              <a:rPr b="0" lang="en-US" sz="3200" spc="-1" strike="noStrike" u="sng">
                <a:solidFill>
                  <a:srgbClr val="4b4b4b"/>
                </a:solidFill>
                <a:uFillTx/>
                <a:latin typeface="Hoefler Text"/>
              </a:rPr>
              <a:t>clinical significance of which has remained controversial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at least </a:t>
            </a: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three important molecular markers 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with clinical implications have now been identified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b4b4b"/>
                </a:solidFill>
                <a:latin typeface="Hoefler Text"/>
              </a:rPr>
              <a:t>1p/19q codeletion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b4b4b"/>
                </a:solidFill>
                <a:latin typeface="Hoefler Text"/>
              </a:rPr>
              <a:t>O6-methylguanine methyltransferase (MGMT) promoter methylation 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b4b4b"/>
                </a:solidFill>
                <a:latin typeface="Hoefler Text"/>
              </a:rPr>
              <a:t>isocitrate dehydrogenase-1 (IDH1) mutations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CasellaDiTesto 3"/>
          <p:cNvSpPr/>
          <p:nvPr/>
        </p:nvSpPr>
        <p:spPr>
          <a:xfrm>
            <a:off x="7931160" y="8906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Tabatabai, Acta Neropathol, 2010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3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MOLECULAR MARKER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7320" y="251892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sults from cell culture studies and animal experiments suggest that other factors signaling is involved in the pathogenesis of glioma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autocrine platelet-derived growth factor (PDGF)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phosphorylated-Akt (pAkt)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2801"/>
              </a:spcBef>
              <a:buClr>
                <a:srgbClr val="4b4b4b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PDGFR</a:t>
            </a:r>
            <a:r>
              <a:rPr b="0" i="1" lang="el-GR" sz="3200" spc="-1" strike="noStrike">
                <a:solidFill>
                  <a:srgbClr val="4b4b4b"/>
                </a:solidFill>
                <a:latin typeface="Hoefler Text"/>
              </a:rPr>
              <a:t>α</a:t>
            </a:r>
            <a:r>
              <a:rPr b="0" i="1" lang="en-US" sz="3200" spc="-1" strike="noStrike">
                <a:solidFill>
                  <a:srgbClr val="4b4b4b"/>
                </a:solidFill>
                <a:latin typeface="Hoefler Text"/>
              </a:rPr>
              <a:t> expression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med" advTm="1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MOLECULAR MARKER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177" name="Segnaposto contenuto 10" descr="Tabatabai2.jpg"/>
          <p:cNvPicPr/>
          <p:nvPr/>
        </p:nvPicPr>
        <p:blipFill>
          <a:blip r:embed="rId2"/>
          <a:stretch/>
        </p:blipFill>
        <p:spPr>
          <a:xfrm>
            <a:off x="1001880" y="3233880"/>
            <a:ext cx="11021760" cy="307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8" name=""/>
          <p:cNvSpPr txBox="1"/>
          <p:nvPr/>
        </p:nvSpPr>
        <p:spPr>
          <a:xfrm>
            <a:off x="1216080" y="7162920"/>
            <a:ext cx="10423440" cy="100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531360" indent="-5313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Molecular markers in glioma: prognostic or predictive?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9" name="Ovale 4"/>
          <p:cNvSpPr/>
          <p:nvPr/>
        </p:nvSpPr>
        <p:spPr>
          <a:xfrm>
            <a:off x="9074160" y="4948200"/>
            <a:ext cx="2857320" cy="85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180" name="Rettangolo 6"/>
          <p:cNvSpPr/>
          <p:nvPr/>
        </p:nvSpPr>
        <p:spPr>
          <a:xfrm>
            <a:off x="1144440" y="5091120"/>
            <a:ext cx="3000600" cy="357120"/>
          </a:xfrm>
          <a:prstGeom prst="rect">
            <a:avLst/>
          </a:prstGeom>
          <a:solidFill>
            <a:srgbClr val="ffff00">
              <a:alpha val="19000"/>
            </a:srgbClr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2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7320" y="330120"/>
            <a:ext cx="1143000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PIDEMIOLOGY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1480" y="2437920"/>
            <a:ext cx="578664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Gliomas of astrocytic, oligodendroglial and ependymal origin account for more than 70% of all brain tumors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The most frequent (65%) and most malignant histological type is the </a:t>
            </a: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glioblastoma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91" name="Segnaposto contenuto 5" descr="glioblastoma.jpg"/>
          <p:cNvPicPr/>
          <p:nvPr/>
        </p:nvPicPr>
        <p:blipFill>
          <a:blip r:embed="rId2"/>
          <a:stretch/>
        </p:blipFill>
        <p:spPr>
          <a:xfrm>
            <a:off x="6724800" y="2459160"/>
            <a:ext cx="5635440" cy="602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2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7320" y="468000"/>
            <a:ext cx="11430000" cy="16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MOLECULAR MARKERS: MGMT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182" name="Segnaposto contenuto 7" descr="nejm1.jpg"/>
          <p:cNvPicPr/>
          <p:nvPr/>
        </p:nvPicPr>
        <p:blipFill>
          <a:blip r:embed="rId2"/>
          <a:srcRect l="835" t="1169" r="417" b="1169"/>
          <a:stretch/>
        </p:blipFill>
        <p:spPr>
          <a:xfrm>
            <a:off x="485640" y="3355920"/>
            <a:ext cx="6078600" cy="4295880"/>
          </a:xfrm>
          <a:prstGeom prst="rect">
            <a:avLst/>
          </a:prstGeom>
          <a:ln w="19080">
            <a:solidFill>
              <a:srgbClr val="00b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3" name=""/>
          <p:cNvSpPr txBox="1"/>
          <p:nvPr/>
        </p:nvSpPr>
        <p:spPr>
          <a:xfrm>
            <a:off x="6430680" y="2768400"/>
            <a:ext cx="57862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554400" indent="-554400" algn="just">
              <a:lnSpc>
                <a:spcPct val="15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b4b4b"/>
                </a:solidFill>
                <a:latin typeface="Hoefler Text"/>
              </a:rPr>
              <a:t>	</a:t>
            </a:r>
            <a:r>
              <a:rPr b="0" lang="it-IT" sz="2800" spc="-1" strike="noStrike">
                <a:solidFill>
                  <a:srgbClr val="4b4b4b"/>
                </a:solidFill>
                <a:latin typeface="Hoefler Text"/>
              </a:rPr>
              <a:t>The difference in survival between patients with a methylated </a:t>
            </a:r>
            <a:r>
              <a:rPr b="0" i="1" lang="it-IT" sz="2800" spc="-1" strike="noStrike">
                <a:solidFill>
                  <a:srgbClr val="4b4b4b"/>
                </a:solidFill>
                <a:latin typeface="Hoefler Text"/>
              </a:rPr>
              <a:t>MGMT </a:t>
            </a:r>
            <a:r>
              <a:rPr b="0" lang="it-IT" sz="2800" spc="-1" strike="noStrike">
                <a:solidFill>
                  <a:srgbClr val="4b4b4b"/>
                </a:solidFill>
                <a:latin typeface="Hoefler Text"/>
              </a:rPr>
              <a:t>Promoter and those with an unmethylated</a:t>
            </a:r>
            <a:r>
              <a:rPr b="0" i="1" lang="it-IT" sz="2800" spc="-1" strike="noStrike">
                <a:solidFill>
                  <a:srgbClr val="4b4b4b"/>
                </a:solidFill>
                <a:latin typeface="Hoefler Text"/>
              </a:rPr>
              <a:t> MGMT </a:t>
            </a:r>
            <a:r>
              <a:rPr b="0" lang="it-IT" sz="2800" spc="-1" strike="noStrike">
                <a:solidFill>
                  <a:srgbClr val="4b4b4b"/>
                </a:solidFill>
                <a:latin typeface="Hoefler Text"/>
              </a:rPr>
              <a:t>promoter was highly significant indicating that the </a:t>
            </a:r>
            <a:r>
              <a:rPr b="0" i="1" lang="it-IT" sz="2800" spc="-1" strike="noStrike">
                <a:solidFill>
                  <a:srgbClr val="4b4b4b"/>
                </a:solidFill>
                <a:latin typeface="Hoefler Text"/>
              </a:rPr>
              <a:t>MGMT </a:t>
            </a:r>
            <a:r>
              <a:rPr b="0" lang="it-IT" sz="2800" spc="-1" strike="noStrike">
                <a:solidFill>
                  <a:srgbClr val="4b4b4b"/>
                </a:solidFill>
                <a:latin typeface="Hoefler Text"/>
              </a:rPr>
              <a:t>methylation status has prognostic value.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4" name="CasellaDiTesto 5"/>
          <p:cNvSpPr/>
          <p:nvPr/>
        </p:nvSpPr>
        <p:spPr>
          <a:xfrm>
            <a:off x="7859880" y="89488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c00000"/>
                </a:solidFill>
                <a:latin typeface="Hoefler Text"/>
              </a:rPr>
              <a:t>Hegi , NEJM , 2005</a:t>
            </a:r>
            <a:endParaRPr b="0" lang="en-US" sz="18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1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MOLECULAR MARKER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186" name="Segnaposto contenuto 5" descr="CAJournal1.jpg"/>
          <p:cNvPicPr/>
          <p:nvPr/>
        </p:nvPicPr>
        <p:blipFill>
          <a:blip r:embed="rId2"/>
          <a:srcRect l="1162" t="0" r="0" b="0"/>
          <a:stretch/>
        </p:blipFill>
        <p:spPr>
          <a:xfrm>
            <a:off x="369720" y="3344760"/>
            <a:ext cx="6589800" cy="4732560"/>
          </a:xfrm>
          <a:prstGeom prst="rect">
            <a:avLst/>
          </a:prstGeom>
          <a:ln w="25560">
            <a:solidFill>
              <a:srgbClr val="3c8c93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>
            <a:off x="7111800" y="2768400"/>
            <a:ext cx="5105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b4b4b"/>
                </a:solidFill>
                <a:latin typeface="Hoefler Text"/>
              </a:rPr>
              <a:t>Sequential Genetic Changes Observed in the Pathogenesis of Different Subtypes of Glioblastoma. </a:t>
            </a:r>
            <a:endParaRPr b="0" lang="en-US" sz="2200" spc="-1" strike="noStrike">
              <a:solidFill>
                <a:srgbClr val="4b4b4b"/>
              </a:solidFill>
              <a:latin typeface="Hoefler Text"/>
            </a:endParaRPr>
          </a:p>
          <a:p>
            <a:pPr marL="565920" indent="-5659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b4b4b"/>
                </a:solidFill>
                <a:latin typeface="Hoefler Text"/>
              </a:rPr>
              <a:t>Some cells in the normal brain undergo genetic alterations, which leads to a population of tumor–initiating cells (TICs), which can then further accumulate genetic and epigenetic changes and become brain cancer–propagating cells (BCPC).</a:t>
            </a:r>
            <a:endParaRPr b="0" lang="en-US" sz="2200" spc="-1" strike="noStrike">
              <a:solidFill>
                <a:srgbClr val="4b4b4b"/>
              </a:solidFill>
              <a:latin typeface="Hoefler Text"/>
            </a:endParaRPr>
          </a:p>
          <a:p>
            <a:pPr marL="565920" indent="-5659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b4b4b"/>
                </a:solidFill>
                <a:latin typeface="Hoefler Text"/>
              </a:rPr>
              <a:t>The latter cells are responsible for the formation of glioblastoma. </a:t>
            </a:r>
            <a:endParaRPr b="0" lang="en-US" sz="22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CasellaDiTesto 4"/>
          <p:cNvSpPr/>
          <p:nvPr/>
        </p:nvSpPr>
        <p:spPr>
          <a:xfrm>
            <a:off x="7859880" y="89488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800000"/>
                </a:solidFill>
                <a:latin typeface="Hoefler Text"/>
              </a:rPr>
              <a:t>Van Meir, CA Jounal for Clinicians , 2010</a:t>
            </a:r>
            <a:endParaRPr b="0" lang="en-US" sz="18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31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59560" y="8734320"/>
            <a:ext cx="4214520" cy="57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26053"/>
                </a:solidFill>
                <a:latin typeface="Baskerville"/>
              </a:rPr>
              <a:t>Abruzzo, 2011</a:t>
            </a:r>
            <a:endParaRPr b="0" lang="en-US" sz="2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190" name="Segnaposto contenuto 5" descr="DSC_1968_2.jpg"/>
          <p:cNvPicPr/>
          <p:nvPr/>
        </p:nvPicPr>
        <p:blipFill>
          <a:blip r:embed="rId2"/>
          <a:stretch/>
        </p:blipFill>
        <p:spPr>
          <a:xfrm>
            <a:off x="1168560" y="1066680"/>
            <a:ext cx="9296280" cy="6174000"/>
          </a:xfrm>
          <a:prstGeom prst="rect">
            <a:avLst/>
          </a:prstGeom>
          <a:ln w="28440">
            <a:solidFill>
              <a:srgbClr val="ff3399"/>
            </a:solidFill>
            <a:miter/>
          </a:ln>
          <a:effectLst>
            <a:outerShdw dist="38183" dir="2700000" blurRad="0" rotWithShape="0">
              <a:srgbClr val="3c8c93">
                <a:alpha val="43000"/>
              </a:srgbClr>
            </a:outerShdw>
          </a:effectLst>
        </p:spPr>
      </p:pic>
    </p:spTree>
  </p:cSld>
  <p:transition spd="med" advTm="2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176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MOGLOBIN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7320" y="3161880"/>
            <a:ext cx="11430000" cy="453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lnSpc>
                <a:spcPts val="4499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Low Hb levels have been shown to negatively influence local control and survival in a variety of neoplasms, e.g., carcinomas of the uterine cervix, bladder, or head and neck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 algn="just">
              <a:lnSpc>
                <a:spcPts val="4300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4b4b4b"/>
                </a:solidFill>
                <a:latin typeface="Hoefler Text"/>
              </a:rPr>
              <a:t>Anemia</a:t>
            </a: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, and raised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rum LDH levels to have a strong negative influence on surviva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3" name="CasellaDiTesto 4"/>
          <p:cNvSpPr/>
          <p:nvPr/>
        </p:nvSpPr>
        <p:spPr>
          <a:xfrm>
            <a:off x="7216920" y="894888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Lutterbach, Strahlenther Onkol. 2003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2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519120"/>
            <a:ext cx="11430000" cy="174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CHIETI: </a:t>
            </a: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	</a:t>
            </a: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work in progres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1120" y="2233080"/>
            <a:ext cx="11501640" cy="35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lnSpc>
                <a:spcPts val="4037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b4b4b"/>
                </a:solidFill>
                <a:latin typeface="Hoefler Text"/>
              </a:rPr>
              <a:t>	</a:t>
            </a:r>
            <a:r>
              <a:rPr b="0" lang="en-GB" sz="3200" spc="-1" strike="noStrike">
                <a:solidFill>
                  <a:srgbClr val="4b4b4b"/>
                </a:solidFill>
                <a:latin typeface="Hoefler Text"/>
              </a:rPr>
              <a:t>Prognostic impact of hemoglobin level and other common prognostic factors in patients with high grade gliomas treated with postoperative radiochemotherapy and sequential chemotherapy based on temozolomide. 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10 years experience of a single institution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196" name="Immagine 3" descr="IJCO.jpg"/>
          <p:cNvPicPr/>
          <p:nvPr/>
        </p:nvPicPr>
        <p:blipFill>
          <a:blip r:embed="rId2"/>
          <a:stretch/>
        </p:blipFill>
        <p:spPr>
          <a:xfrm>
            <a:off x="9788400" y="6234120"/>
            <a:ext cx="2357640" cy="3173400"/>
          </a:xfrm>
          <a:prstGeom prst="rect">
            <a:avLst/>
          </a:prstGeom>
          <a:ln w="0">
            <a:noFill/>
          </a:ln>
        </p:spPr>
      </p:pic>
      <p:pic>
        <p:nvPicPr>
          <p:cNvPr id="197" name="Immagine 5" descr="ospedaleChieti.jpg"/>
          <p:cNvPicPr/>
          <p:nvPr/>
        </p:nvPicPr>
        <p:blipFill>
          <a:blip r:embed="rId3"/>
          <a:stretch/>
        </p:blipFill>
        <p:spPr>
          <a:xfrm>
            <a:off x="787320" y="6551640"/>
            <a:ext cx="3733920" cy="280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 advTm="20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44480" y="590400"/>
            <a:ext cx="9637920" cy="10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CHIETI:  work in progres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1947600"/>
            <a:ext cx="5072400" cy="667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just">
              <a:lnSpc>
                <a:spcPts val="3699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b4b4b"/>
                </a:solidFill>
                <a:latin typeface="Hoefler Text"/>
              </a:rPr>
              <a:t>Kaplan-Meier </a:t>
            </a:r>
            <a:r>
              <a:rPr b="1" i="1" lang="en-GB" sz="2800" spc="-1" strike="noStrike">
                <a:solidFill>
                  <a:srgbClr val="4b4b4b"/>
                </a:solidFill>
                <a:latin typeface="Hoefler Text"/>
              </a:rPr>
              <a:t>Overall Survival </a:t>
            </a:r>
            <a:r>
              <a:rPr b="0" lang="en-GB" sz="2800" spc="-1" strike="noStrike">
                <a:solidFill>
                  <a:srgbClr val="4b4b4b"/>
                </a:solidFill>
                <a:latin typeface="Hoefler Text"/>
              </a:rPr>
              <a:t>curves according to pre-treatment hemoglobin level. Continuous line is relative to patients with Hb ≤12 while dotter line is relative to patients with Hb&gt;12 (Log-rank test p=0.038).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200" name="Segnaposto contenuto 13" descr="Hemoglobin1.jpg"/>
          <p:cNvPicPr/>
          <p:nvPr/>
        </p:nvPicPr>
        <p:blipFill>
          <a:blip r:embed="rId2"/>
          <a:stretch/>
        </p:blipFill>
        <p:spPr>
          <a:xfrm>
            <a:off x="5788080" y="2590920"/>
            <a:ext cx="6883200" cy="61052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6040" y="396360"/>
            <a:ext cx="11430000" cy="9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CHIETI:  work in progres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202" name="Segnaposto contenuto 4" descr="Emoglobina_CH_univariata.jpg"/>
          <p:cNvPicPr/>
          <p:nvPr/>
        </p:nvPicPr>
        <p:blipFill>
          <a:blip r:embed="rId2"/>
          <a:stretch/>
        </p:blipFill>
        <p:spPr>
          <a:xfrm>
            <a:off x="2216160" y="1630440"/>
            <a:ext cx="8286840" cy="6532560"/>
          </a:xfrm>
          <a:prstGeom prst="rect">
            <a:avLst/>
          </a:prstGeom>
          <a:ln w="19080">
            <a:solidFill>
              <a:srgbClr val="ff339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3" name=""/>
          <p:cNvSpPr txBox="1"/>
          <p:nvPr/>
        </p:nvSpPr>
        <p:spPr>
          <a:xfrm>
            <a:off x="2144880" y="8448480"/>
            <a:ext cx="8858160" cy="87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b4b4b"/>
                </a:solidFill>
                <a:latin typeface="Hoefler Text"/>
              </a:rPr>
              <a:t>	</a:t>
            </a:r>
            <a:r>
              <a:rPr b="0" lang="en-GB" sz="3200" spc="-1" strike="noStrike">
                <a:solidFill>
                  <a:srgbClr val="4b4b4b"/>
                </a:solidFill>
                <a:latin typeface="Hoefler Text"/>
              </a:rPr>
              <a:t>Estimated effect of prognostic factors on overall survival. Univariate analysis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Ovale 7"/>
          <p:cNvSpPr/>
          <p:nvPr/>
        </p:nvSpPr>
        <p:spPr>
          <a:xfrm>
            <a:off x="9360000" y="7377120"/>
            <a:ext cx="785880" cy="4287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205" name="Rettangolo 8"/>
          <p:cNvSpPr/>
          <p:nvPr/>
        </p:nvSpPr>
        <p:spPr>
          <a:xfrm>
            <a:off x="2216160" y="7020000"/>
            <a:ext cx="2214720" cy="28584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206" name="Ovale 9"/>
          <p:cNvSpPr/>
          <p:nvPr/>
        </p:nvSpPr>
        <p:spPr>
          <a:xfrm>
            <a:off x="2502000" y="7448400"/>
            <a:ext cx="785880" cy="28584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13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49440" y="533160"/>
            <a:ext cx="9352080" cy="95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CHIETI:  work in progres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5160" y="7590960"/>
            <a:ext cx="10177560" cy="176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indent="0" algn="just">
              <a:lnSpc>
                <a:spcPts val="3662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b4b4b"/>
                </a:solidFill>
                <a:latin typeface="Hoefler Text"/>
              </a:rPr>
              <a:t>Multivariate analysis of factors having an influence on </a:t>
            </a:r>
            <a:r>
              <a:rPr b="1" i="1" lang="en-GB" sz="2800" spc="-1" strike="noStrike">
                <a:solidFill>
                  <a:srgbClr val="4b4b4b"/>
                </a:solidFill>
                <a:latin typeface="Hoefler Text"/>
              </a:rPr>
              <a:t>Overall Survival </a:t>
            </a:r>
            <a:r>
              <a:rPr b="0" lang="en-GB" sz="2800" spc="-1" strike="noStrike">
                <a:solidFill>
                  <a:srgbClr val="4b4b4b"/>
                </a:solidFill>
                <a:latin typeface="Hoefler Text"/>
              </a:rPr>
              <a:t>as identified by Cox’s proportional hazard model. The items in brackets represent hazard risk equal to 1.</a:t>
            </a:r>
            <a:endParaRPr b="0" lang="en-US" sz="28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209" name="Segnaposto contenuto 6" descr="Hemoglobin2.jpg"/>
          <p:cNvPicPr/>
          <p:nvPr/>
        </p:nvPicPr>
        <p:blipFill>
          <a:blip r:embed="rId2"/>
          <a:stretch/>
        </p:blipFill>
        <p:spPr>
          <a:xfrm>
            <a:off x="1430280" y="1828800"/>
            <a:ext cx="10001160" cy="5584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7320" y="457200"/>
            <a:ext cx="114300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CHIETI:  work in progress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87320" y="259056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s study shows that </a:t>
            </a: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performance status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d </a:t>
            </a: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adjuvant chemotherapy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re the major determinants of  survival in this patient group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5920" indent="-5659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Our experience also suggests  that </a:t>
            </a: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low hemoglobin level is correlated with shorter overall survival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5920" indent="-56592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us </a:t>
            </a: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hemoglobin levels may provide a therapeutic tool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d that interventions aimed at the correction of anemia are desirable.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med" advTm="3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7320" y="533160"/>
            <a:ext cx="114300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CONCLUSION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87320" y="1914120"/>
            <a:ext cx="11430000" cy="731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 algn="just">
              <a:lnSpc>
                <a:spcPts val="4099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In future trials of patients with newly diagnosed glioblastoma, </a:t>
            </a: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MGMT promoter methylation status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, </a:t>
            </a: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age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, </a:t>
            </a: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performance status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, </a:t>
            </a: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extent of resection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, and </a:t>
            </a: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MMSE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 score should be considered as eligibility criteria or stratification factors, or both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marL="560160" indent="-560160" algn="just">
              <a:lnSpc>
                <a:spcPts val="4099"/>
              </a:lnSpc>
              <a:spcBef>
                <a:spcPts val="2801"/>
              </a:spcBef>
              <a:buClr>
                <a:srgbClr val="99000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0000"/>
                </a:solidFill>
                <a:latin typeface="Hoefler Text"/>
              </a:rPr>
              <a:t>Despite our best efforts, though prognosis is clearly improving, there remains no cure for high grade glioma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marL="560160" indent="-560160" algn="just">
              <a:lnSpc>
                <a:spcPts val="4099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It would still be of great value to patients to </a:t>
            </a:r>
            <a:r>
              <a:rPr b="0" i="1" lang="it-IT" sz="3200" spc="-1" strike="noStrike">
                <a:solidFill>
                  <a:srgbClr val="4b4b4b"/>
                </a:solidFill>
                <a:latin typeface="Hoefler Text"/>
              </a:rPr>
              <a:t>convert this disease to a chronic condition 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that is treated with nontoxic, tumor-directed agents and followed by disease-specific and treatment-specific imaging or regular serologic or CSF analysis of circulating nucleic acid or protein markers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ransition spd="med" advTm="8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5437080" y="5448240"/>
            <a:ext cx="7180200" cy="39448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0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PIDEMIOLOGY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94" name="Immagine 12" descr="Incidenza2.jpg"/>
          <p:cNvPicPr/>
          <p:nvPr/>
        </p:nvPicPr>
        <p:blipFill>
          <a:blip r:embed="rId3"/>
          <a:stretch/>
        </p:blipFill>
        <p:spPr>
          <a:xfrm>
            <a:off x="430200" y="1590840"/>
            <a:ext cx="10022040" cy="3500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95" name="CasellaDiTesto 4"/>
          <p:cNvSpPr/>
          <p:nvPr/>
        </p:nvSpPr>
        <p:spPr>
          <a:xfrm>
            <a:off x="287280" y="90201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Ohgaki, Acta Neuropathol, </a:t>
            </a:r>
            <a:r>
              <a:rPr b="0" i="1" lang="pt-BR" sz="2000" spc="-1" strike="noStrike">
                <a:solidFill>
                  <a:srgbClr val="c00000"/>
                </a:solidFill>
                <a:latin typeface="Hoefler Text"/>
              </a:rPr>
              <a:t>2005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5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egnaposto contenuto 3" descr="thanks-letter-735644.jpg"/>
          <p:cNvPicPr/>
          <p:nvPr/>
        </p:nvPicPr>
        <p:blipFill>
          <a:blip r:embed="rId2"/>
          <a:stretch/>
        </p:blipFill>
        <p:spPr>
          <a:xfrm>
            <a:off x="4573440" y="3162240"/>
            <a:ext cx="7572600" cy="5024520"/>
          </a:xfrm>
          <a:prstGeom prst="rect">
            <a:avLst/>
          </a:prstGeom>
          <a:ln w="1260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3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7320" y="662040"/>
            <a:ext cx="11430000" cy="12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PIDEMIOLOGY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7320" y="1947600"/>
            <a:ext cx="11430000" cy="70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aucasians are more frequently affected than people of African or Asian descen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re has been some controversy regarding a possible increase of approximately </a:t>
            </a:r>
            <a:r>
              <a:rPr b="0" i="1" lang="en-US" sz="3600" spc="-1" strike="noStrike">
                <a:solidFill>
                  <a:srgbClr val="4b4b4b"/>
                </a:solidFill>
                <a:latin typeface="Hoefler Text"/>
              </a:rPr>
              <a:t>1–2% per year in the incidence of brain tumors during the 1980s and 1990s, particularly in the elderly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s apparent increase appears to be largely due to the introduction of high-resolution neuroimaging, which has greatly improved the clinical </a:t>
            </a:r>
            <a:r>
              <a:rPr b="0" lang="it-IT" sz="3600" spc="-1" strike="noStrike">
                <a:solidFill>
                  <a:srgbClr val="4b4b4b"/>
                </a:solidFill>
                <a:latin typeface="Hoefler Text"/>
              </a:rPr>
              <a:t>diagnosis of neurological diseas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CasellaDiTesto 8"/>
          <p:cNvSpPr/>
          <p:nvPr/>
        </p:nvSpPr>
        <p:spPr>
          <a:xfrm>
            <a:off x="8002440" y="894888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Ohgaki, Acta Neuropathol, </a:t>
            </a:r>
            <a:r>
              <a:rPr b="0" i="1" lang="pt-BR" sz="2000" spc="-1" strike="noStrike">
                <a:solidFill>
                  <a:srgbClr val="c00000"/>
                </a:solidFill>
                <a:latin typeface="Hoefler Text"/>
              </a:rPr>
              <a:t>2005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49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880" y="375840"/>
            <a:ext cx="11702880" cy="107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PIDEMIOLOGY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100" name="Segnaposto contenuto 11" descr="CAJournal2.jpg"/>
          <p:cNvPicPr/>
          <p:nvPr/>
        </p:nvPicPr>
        <p:blipFill>
          <a:blip r:embed="rId2"/>
          <a:stretch/>
        </p:blipFill>
        <p:spPr>
          <a:xfrm>
            <a:off x="501480" y="4826160"/>
            <a:ext cx="4786560" cy="4551120"/>
          </a:xfrm>
          <a:prstGeom prst="rect">
            <a:avLst/>
          </a:prstGeom>
          <a:ln w="19080">
            <a:solidFill>
              <a:srgbClr val="0070c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44800" y="5305320"/>
            <a:ext cx="6643800" cy="221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95000"/>
          </a:bodyPr>
          <a:p>
            <a:pPr indent="0" algn="just">
              <a:lnSpc>
                <a:spcPct val="15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b4b"/>
                </a:solidFill>
                <a:latin typeface="Hoefler Text"/>
              </a:rPr>
              <a:t>Incidence and Mortality Rates and Cumulative Probability of Developing Cancer by Age 75 by Sex and Cancer Site for More Developed and Less Developed Areas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2" name="Ovale 9"/>
          <p:cNvSpPr/>
          <p:nvPr/>
        </p:nvSpPr>
        <p:spPr>
          <a:xfrm>
            <a:off x="3359160" y="8448840"/>
            <a:ext cx="178596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644400" y="1662120"/>
            <a:ext cx="11630160" cy="2867040"/>
          </a:xfrm>
          <a:prstGeom prst="rect">
            <a:avLst/>
          </a:prstGeom>
          <a:ln w="19080">
            <a:solidFill>
              <a:srgbClr val="0070c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CasellaDiTesto 19"/>
          <p:cNvSpPr/>
          <p:nvPr/>
        </p:nvSpPr>
        <p:spPr>
          <a:xfrm>
            <a:off x="7716960" y="887724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Jemal, </a:t>
            </a:r>
            <a:r>
              <a:rPr b="0" i="1" lang="pt-BR" sz="2000" spc="-1" strike="noStrike">
                <a:solidFill>
                  <a:srgbClr val="c00000"/>
                </a:solidFill>
                <a:latin typeface="Hoefler Text"/>
              </a:rPr>
              <a:t>CA CANCER J CLIN 2011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5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7320" y="375840"/>
            <a:ext cx="11430000" cy="142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PIDEMIOLOGY: ITALY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4400" y="1733400"/>
            <a:ext cx="11430000" cy="714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During 1998-2002, brain cancer (including also malignant meninges, spinal cord, and other cancers of the central nervous system organs), represented </a:t>
            </a:r>
            <a:r>
              <a:rPr b="0" lang="en-US" sz="3200" spc="-1" strike="noStrike">
                <a:solidFill>
                  <a:srgbClr val="ff0000"/>
                </a:solidFill>
                <a:latin typeface="Hoefler Text"/>
              </a:rPr>
              <a:t>1.3%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 of all the </a:t>
            </a:r>
            <a:r>
              <a:rPr b="0" lang="en-US" sz="3200" spc="-1" strike="noStrike" u="sng">
                <a:solidFill>
                  <a:srgbClr val="4597a0"/>
                </a:solidFill>
                <a:uFillTx/>
                <a:latin typeface="Hoefler Text"/>
              </a:rPr>
              <a:t>diagnosed cancer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Hoefler Text"/>
              </a:rPr>
              <a:t> 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among males and </a:t>
            </a:r>
            <a:r>
              <a:rPr b="0" lang="en-US" sz="3200" spc="-1" strike="noStrike">
                <a:solidFill>
                  <a:srgbClr val="ff0000"/>
                </a:solidFill>
                <a:latin typeface="Hoefler Text"/>
              </a:rPr>
              <a:t>1.4%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 among females; as regards </a:t>
            </a:r>
            <a:r>
              <a:rPr b="0" lang="en-US" sz="3200" spc="-1" strike="noStrike" u="sng">
                <a:solidFill>
                  <a:srgbClr val="4597a0"/>
                </a:solidFill>
                <a:uFillTx/>
                <a:latin typeface="Hoefler Text"/>
              </a:rPr>
              <a:t>mortality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, it represented </a:t>
            </a:r>
            <a:r>
              <a:rPr b="0" lang="en-US" sz="3200" spc="-1" strike="noStrike">
                <a:solidFill>
                  <a:srgbClr val="ff0000"/>
                </a:solidFill>
                <a:latin typeface="Hoefler Text"/>
              </a:rPr>
              <a:t>1.9%</a:t>
            </a:r>
            <a:r>
              <a:rPr b="0" lang="en-US" sz="3200" spc="-1" strike="noStrike">
                <a:solidFill>
                  <a:srgbClr val="4b4b4b"/>
                </a:solidFill>
                <a:latin typeface="Hoefler Text"/>
              </a:rPr>
              <a:t> of all cancer deaths among males 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and </a:t>
            </a:r>
            <a:r>
              <a:rPr b="0" lang="it-IT" sz="3200" spc="-1" strike="noStrike">
                <a:solidFill>
                  <a:srgbClr val="ff0000"/>
                </a:solidFill>
                <a:latin typeface="Hoefler Text"/>
              </a:rPr>
              <a:t>2.1%</a:t>
            </a:r>
            <a:r>
              <a:rPr b="0" lang="it-IT" sz="3200" spc="-1" strike="noStrike">
                <a:solidFill>
                  <a:srgbClr val="4b4b4b"/>
                </a:solidFill>
                <a:latin typeface="Hoefler Text"/>
              </a:rPr>
              <a:t> among females</a:t>
            </a:r>
            <a:endParaRPr b="0" lang="en-US" sz="32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4b4b"/>
                </a:solidFill>
                <a:latin typeface="Hoefler Text"/>
              </a:rPr>
              <a:t>In the area of the Italian Network of Cancer Registries there were, on </a:t>
            </a:r>
            <a:r>
              <a:rPr b="0" i="1" lang="en-US" sz="3000" spc="-1" strike="noStrike">
                <a:solidFill>
                  <a:srgbClr val="4b4b4b"/>
                </a:solidFill>
                <a:latin typeface="Hoefler Text"/>
              </a:rPr>
              <a:t>yearly average, 10.5 new brain cancers per 100,000 males and 8.2 per 100,000 </a:t>
            </a:r>
            <a:r>
              <a:rPr b="0" i="1" lang="it-IT" sz="3000" spc="-1" strike="noStrike">
                <a:solidFill>
                  <a:srgbClr val="4b4b4b"/>
                </a:solidFill>
                <a:latin typeface="Hoefler Text"/>
              </a:rPr>
              <a:t>women</a:t>
            </a:r>
            <a:endParaRPr b="0" lang="en-US" sz="30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 algn="just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4b4b"/>
                </a:solidFill>
                <a:latin typeface="Hoefler Text"/>
              </a:rPr>
              <a:t>It has been estimated that there are 2,414 new brain cancers diagnoses every year in Italy among males and 1,873 among females</a:t>
            </a:r>
            <a:endParaRPr b="0" lang="en-US" sz="30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7" name="CasellaDiTesto 3"/>
          <p:cNvSpPr/>
          <p:nvPr/>
        </p:nvSpPr>
        <p:spPr>
          <a:xfrm>
            <a:off x="7288200" y="88772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Associazione Italiana Registri Tumori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8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12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26053"/>
                </a:solidFill>
                <a:latin typeface="Baskerville"/>
              </a:rPr>
              <a:t>EPIDEMIOLOGY: ITALY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109" name="Segnaposto contenuto 11" descr="RegTum1.jpg"/>
          <p:cNvPicPr/>
          <p:nvPr/>
        </p:nvPicPr>
        <p:blipFill>
          <a:blip r:embed="rId2"/>
          <a:stretch/>
        </p:blipFill>
        <p:spPr>
          <a:xfrm>
            <a:off x="358920" y="1876320"/>
            <a:ext cx="6702120" cy="3786120"/>
          </a:xfrm>
          <a:prstGeom prst="rect">
            <a:avLst/>
          </a:prstGeom>
          <a:ln w="0">
            <a:noFill/>
          </a:ln>
        </p:spPr>
      </p:pic>
      <p:pic>
        <p:nvPicPr>
          <p:cNvPr id="110" name="Segnaposto contenuto 13" descr="RegTum2.jpg"/>
          <p:cNvPicPr/>
          <p:nvPr/>
        </p:nvPicPr>
        <p:blipFill>
          <a:blip r:embed="rId3"/>
          <a:stretch/>
        </p:blipFill>
        <p:spPr>
          <a:xfrm>
            <a:off x="6462720" y="4948200"/>
            <a:ext cx="6183360" cy="4429080"/>
          </a:xfrm>
          <a:prstGeom prst="rect">
            <a:avLst/>
          </a:prstGeom>
          <a:ln w="0">
            <a:noFill/>
          </a:ln>
        </p:spPr>
      </p:pic>
      <p:sp>
        <p:nvSpPr>
          <p:cNvPr id="111" name="CasellaDiTesto 4"/>
          <p:cNvSpPr/>
          <p:nvPr/>
        </p:nvSpPr>
        <p:spPr>
          <a:xfrm>
            <a:off x="358920" y="88772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00000"/>
                </a:solidFill>
                <a:latin typeface="Hoefler Text"/>
              </a:rPr>
              <a:t>Associazione italiana Registri Tumori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transition spd="med" advTm="2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egnaposto contenuto 4" descr="Campotosto.jpg"/>
          <p:cNvPicPr/>
          <p:nvPr/>
        </p:nvPicPr>
        <p:blipFill>
          <a:blip r:embed="rId2"/>
          <a:stretch/>
        </p:blipFill>
        <p:spPr>
          <a:xfrm>
            <a:off x="787320" y="1600200"/>
            <a:ext cx="10274400" cy="5715000"/>
          </a:xfrm>
          <a:prstGeom prst="rect">
            <a:avLst/>
          </a:prstGeom>
          <a:ln w="1908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59560" y="8734320"/>
            <a:ext cx="4214520" cy="57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26053"/>
                </a:solidFill>
                <a:latin typeface="Baskerville"/>
              </a:rPr>
              <a:t>Abruzzo, 2011</a:t>
            </a:r>
            <a:endParaRPr b="0" lang="en-US" sz="2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transition spd="med" advTm="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4160" y="380520"/>
            <a:ext cx="12344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6053"/>
                </a:solidFill>
                <a:latin typeface="Baskerville"/>
                <a:ea typeface="ＭＳ Ｐゴシック"/>
              </a:rPr>
              <a:t>RISK FACTORS FOR A BRAIN TUMOR?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44160" y="1676160"/>
            <a:ext cx="1089684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Ag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Gender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Family history/genetic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Exposure to infections, viruses, and allerge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Race and ethnicity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Ionizing radiat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Head injury and seizur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Diet (N-nitroso compounds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ＭＳ Ｐゴシック"/>
              </a:rPr>
              <a:t>Exposure to nerve agent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lnSpc>
                <a:spcPts val="3025"/>
              </a:lnSpc>
              <a:spcBef>
                <a:spcPts val="2801"/>
              </a:spcBef>
              <a:buClr>
                <a:srgbClr val="660066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Hoefler Text"/>
                <a:ea typeface="ＭＳ Ｐゴシック"/>
              </a:rPr>
              <a:t>Non ionizing radiation (radiofrequency) ??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116" name="Immagine 7" descr="cellulare.jpg"/>
          <p:cNvPicPr/>
          <p:nvPr/>
        </p:nvPicPr>
        <p:blipFill>
          <a:blip r:embed="rId2"/>
          <a:stretch/>
        </p:blipFill>
        <p:spPr>
          <a:xfrm>
            <a:off x="10769760" y="7467480"/>
            <a:ext cx="1752480" cy="1967040"/>
          </a:xfrm>
          <a:prstGeom prst="rect">
            <a:avLst/>
          </a:prstGeom>
          <a:ln w="28440">
            <a:solidFill>
              <a:srgbClr val="3366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 advTm="13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49:35Z</dcterms:created>
  <dc:creator/>
  <dc:description/>
  <cp:keywords/>
  <dc:language>en-US</dc:language>
  <cp:lastModifiedBy>Lupogrande</cp:lastModifiedBy>
  <cp:lastPrinted>2011-02-16T21:50:53Z</cp:lastPrinted>
  <dcterms:modified xsi:type="dcterms:W3CDTF">2011-02-16T21:53:39Z</dcterms:modified>
  <cp:revision>309</cp:revision>
  <dc:subject/>
  <dc:title>Diapositiva 1</dc:title>
</cp:coreProperties>
</file>