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28.png" ContentType="image/png"/>
  <Override PartName="/ppt/media/image29.jpeg" ContentType="image/jpeg"/>
  <Override PartName="/ppt/media/image9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047-C431-466F-AE89-DE794929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45D-EAB5-4EC3-8C20-41E7D2A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5C1-1C38-4391-8C95-95A54B83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466-51B9-46B1-862B-C289B5BF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AAF-DBAF-415B-9CC5-872D32D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A0B-F5EF-482F-8B29-81181585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33C-A87B-471B-BA40-2C7B00E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E90-4344-4C52-8346-34371BB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A37-68FC-4387-B15B-F157C1F4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9E3-0258-4574-841B-4324F94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FDF-B360-46DB-BD31-2A6123B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2E9-3DBA-4757-82FC-D3F0258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4D53-4BEC-4B9F-BE73-64A7E877EB4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260280"/>
            <a:ext cx="8348400" cy="147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 TUMORI SECONDARI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EL SISTEMA NERVOSO NELL’ADULT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E TERAPIE INTEGRATE</a:t>
            </a:r>
            <a:br>
              <a:rPr sz="1800"/>
            </a:b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Radioterapia: indicazioni e risul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3640" y="3933720"/>
            <a:ext cx="504036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Calibri"/>
              </a:rPr>
              <a:t>E. Maranzano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Calibri"/>
              </a:rPr>
              <a:t>Dipartimento di Oncologia e                                                                       S.C. di Radioterapia Oncolo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</a:rPr>
              <a:t>Az. Ospedaliera “S. Maria” - </a:t>
            </a:r>
            <a:r>
              <a:rPr b="1" i="1" lang="en-US" sz="2400" spc="-1" strike="noStrike">
                <a:solidFill>
                  <a:srgbClr val="000066"/>
                </a:solidFill>
                <a:latin typeface="Calibri"/>
              </a:rPr>
              <a:t>Ter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432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685800" y="2819520"/>
            <a:ext cx="8001000" cy="22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after Surgical Re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after Stereotactic Radiosurgery (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23960" y="693720"/>
            <a:ext cx="7543800" cy="6426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djuvant” (WB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685800" y="2819520"/>
            <a:ext cx="8001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after Surgical Re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4e5e6"/>
                </a:solidFill>
                <a:latin typeface="Arial"/>
              </a:rPr>
              <a:t>after Stereotactic Radiosurgery (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23960" y="693720"/>
            <a:ext cx="7543800" cy="6426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djuvant” (WB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33360"/>
            <a:ext cx="7558200" cy="4572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Calibri"/>
              </a:rPr>
              <a:t>Recommendations for </a:t>
            </a:r>
            <a:r>
              <a:rPr b="1" i="1" lang="en-GB" sz="3600" spc="-1" strike="noStrike">
                <a:solidFill>
                  <a:srgbClr val="000066"/>
                </a:solidFill>
                <a:latin typeface="Calibri"/>
              </a:rPr>
              <a:t>surg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197000"/>
            <a:ext cx="7572240" cy="495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66"/>
                </a:solidFill>
                <a:latin typeface="Calibri"/>
              </a:rPr>
              <a:t>Surgical excision should be considered for </a:t>
            </a:r>
            <a:r>
              <a:rPr b="1" i="1" lang="en-GB" sz="2600" spc="-1" strike="noStrike">
                <a:solidFill>
                  <a:srgbClr val="000066"/>
                </a:solidFill>
                <a:latin typeface="Calibri"/>
              </a:rPr>
              <a:t>pts with</a:t>
            </a:r>
            <a:r>
              <a:rPr b="1" lang="en-GB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4360" y="1812960"/>
            <a:ext cx="784836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good 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minimal or no evidence of extracranial dise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nd a surgically accessible single brain metastasis amenable to complete ex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in case of diagnostic dou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to decompress in case of symptomatic lesion/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5219640"/>
            <a:ext cx="81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S has not been assessed from EBM for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larger lesions (&gt;3 cm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for those causing significant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ss eff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gt;1 cm midline shif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ttangolo arrotondato 2"/>
          <p:cNvSpPr/>
          <p:nvPr/>
        </p:nvSpPr>
        <p:spPr>
          <a:xfrm>
            <a:off x="539640" y="4869000"/>
            <a:ext cx="8209080" cy="7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6897960" cy="2457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50920" y="3141720"/>
            <a:ext cx="82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rgical resection plus WBRT versus WBRT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Level 1 Class I evid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the use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ical resection plus post-operative WB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compared to WBRT alone, in patients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od 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ctionally independent and spending less than 50% of time in bed)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mited brain metastases / limited extra-cranial d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arrotondato 4"/>
          <p:cNvSpPr/>
          <p:nvPr/>
        </p:nvSpPr>
        <p:spPr>
          <a:xfrm>
            <a:off x="1476360" y="1413000"/>
            <a:ext cx="3311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po 6"/>
          <p:cNvGrpSpPr/>
          <p:nvPr/>
        </p:nvGrpSpPr>
        <p:grpSpPr>
          <a:xfrm>
            <a:off x="431640" y="1357200"/>
            <a:ext cx="8212320" cy="5000760"/>
            <a:chOff x="431640" y="1357200"/>
            <a:chExt cx="8212320" cy="5000760"/>
          </a:xfrm>
        </p:grpSpPr>
        <p:pic>
          <p:nvPicPr>
            <p:cNvPr id="97" name="Group 1256" descr=""/>
            <p:cNvPicPr/>
            <p:nvPr/>
          </p:nvPicPr>
          <p:blipFill>
            <a:blip r:embed="rId1"/>
            <a:stretch/>
          </p:blipFill>
          <p:spPr>
            <a:xfrm>
              <a:off x="431640" y="1357200"/>
              <a:ext cx="8212320" cy="49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Ovale 2"/>
            <p:cNvSpPr/>
            <p:nvPr/>
          </p:nvSpPr>
          <p:spPr>
            <a:xfrm>
              <a:off x="6733800" y="2948040"/>
              <a:ext cx="1559160" cy="568080"/>
            </a:xfrm>
            <a:prstGeom prst="ellipse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e 3"/>
            <p:cNvSpPr/>
            <p:nvPr/>
          </p:nvSpPr>
          <p:spPr>
            <a:xfrm>
              <a:off x="6733800" y="4155840"/>
              <a:ext cx="1559160" cy="568080"/>
            </a:xfrm>
            <a:prstGeom prst="ellipse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e 4"/>
            <p:cNvSpPr/>
            <p:nvPr/>
          </p:nvSpPr>
          <p:spPr>
            <a:xfrm rot="5400000">
              <a:off x="5066640" y="5541840"/>
              <a:ext cx="1065600" cy="566640"/>
            </a:xfrm>
            <a:prstGeom prst="ellipse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ttangolo 5"/>
          <p:cNvSpPr/>
          <p:nvPr/>
        </p:nvSpPr>
        <p:spPr>
          <a:xfrm>
            <a:off x="571680" y="21420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Randomized phase III trials of surgery ± WBRT in pts with brain metast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93840" y="5410080"/>
            <a:ext cx="8229600" cy="9399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334120" y="541008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346720" y="583560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257800" y="3429000"/>
            <a:ext cx="609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181480" y="396252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334120" y="457200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105520" y="518148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497844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85800" y="2819520"/>
            <a:ext cx="8001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4e5e6"/>
                </a:solidFill>
                <a:latin typeface="Arial"/>
              </a:rPr>
              <a:t>after Surgical Re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after Stereotactic Radiosurgery (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23960" y="693720"/>
            <a:ext cx="7543800" cy="6426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djuvant” (WB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260280"/>
            <a:ext cx="7772400" cy="147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Radiotherapy of brain metast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68360" y="3068640"/>
            <a:ext cx="842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Whole brain radiotherapy (</a:t>
            </a:r>
            <a:r>
              <a:rPr b="1" i="1" lang="en-US" sz="2400" spc="-1" strike="noStrike">
                <a:solidFill>
                  <a:srgbClr val="d9d9d9"/>
                </a:solidFill>
                <a:latin typeface="Arial"/>
              </a:rPr>
              <a:t>alone or as an adjuvant tool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ereotactic rad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Re-ir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755640" y="2008080"/>
            <a:ext cx="7561440" cy="316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election criteria for Stereotactic 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adio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Fractionated Stereotactic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52"/>
          <p:cNvSpPr/>
          <p:nvPr/>
        </p:nvSpPr>
        <p:spPr>
          <a:xfrm>
            <a:off x="1003320" y="3143160"/>
            <a:ext cx="73137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lection criteria for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Radiosur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79280" y="438120"/>
            <a:ext cx="873756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RTOG Recursive Partitioning Analysis 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PA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e2e2e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24000" y="2119320"/>
            <a:ext cx="8577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asse I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KPS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e2e2e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70, controlled primary,  year &lt; 65 aa, brain mets only:  </a:t>
            </a:r>
            <a:r>
              <a:rPr b="1" lang="en-US" sz="3200" spc="-1" strike="noStrike">
                <a:solidFill>
                  <a:srgbClr val="2e2e2e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e2e2e"/>
                </a:solidFill>
                <a:latin typeface="Arial"/>
              </a:rPr>
              <a:t>median survival: 7.1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asse II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KPS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e2e2e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70 and no above mentioned variables </a:t>
            </a:r>
            <a:r>
              <a:rPr b="1" lang="en-US" sz="3200" spc="-1" strike="noStrike">
                <a:solidFill>
                  <a:srgbClr val="2e2e2e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e2e2e"/>
                </a:solidFill>
                <a:latin typeface="Arial"/>
              </a:rPr>
              <a:t>median survival: 4.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asse III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KPS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e2e2e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70:   </a:t>
            </a:r>
            <a:r>
              <a:rPr b="1" lang="en-US" sz="3200" spc="-1" strike="noStrike">
                <a:solidFill>
                  <a:srgbClr val="2e2e2e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e2e2e"/>
                </a:solidFill>
                <a:latin typeface="Arial"/>
              </a:rPr>
              <a:t>median survival: 2.3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12000" y="5805360"/>
            <a:ext cx="2716200" cy="337320"/>
          </a:xfrm>
          <a:prstGeom prst="rect">
            <a:avLst/>
          </a:prstGeom>
          <a:noFill/>
          <a:ln w="284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e2e2e"/>
                </a:solidFill>
                <a:latin typeface="Times New Roman"/>
              </a:rPr>
              <a:t>Gaspar L. et al. IJROBP, ‘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4320" y="260280"/>
            <a:ext cx="8204040" cy="147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Radiotherapy of brain metast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68360" y="3068640"/>
            <a:ext cx="842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ole brain radiotherapy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one or as an adjuvant tool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ereotactic rad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-ir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611280" y="393840"/>
            <a:ext cx="7848360" cy="88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e2e2e"/>
                </a:solidFill>
                <a:latin typeface="Arial Unicode MS"/>
              </a:rPr>
              <a:t>S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core </a:t>
            </a:r>
            <a:r>
              <a:rPr b="1" lang="it-IT" sz="2800" spc="-1" strike="noStrike">
                <a:solidFill>
                  <a:srgbClr val="2e2e2e"/>
                </a:solidFill>
                <a:latin typeface="Arial Unicode MS"/>
              </a:rPr>
              <a:t>I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ndex for </a:t>
            </a:r>
            <a:r>
              <a:rPr b="1" lang="it-IT" sz="2800" spc="-1" strike="noStrike">
                <a:solidFill>
                  <a:srgbClr val="2e2e2e"/>
                </a:solidFill>
                <a:latin typeface="Arial Unicode MS"/>
              </a:rPr>
              <a:t>R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adiosurgery </a:t>
            </a:r>
            <a:r>
              <a:rPr b="0" lang="it-IT" sz="2400" spc="-1" strike="noStrike">
                <a:solidFill>
                  <a:srgbClr val="2e2e2e"/>
                </a:solidFill>
                <a:latin typeface="Arial Unicode MS"/>
              </a:rPr>
              <a:t>(</a:t>
            </a:r>
            <a:r>
              <a:rPr b="1" lang="it-IT" sz="2800" spc="-1" strike="noStrike">
                <a:solidFill>
                  <a:srgbClr val="c00000"/>
                </a:solidFill>
                <a:latin typeface="Arial Unicode MS"/>
              </a:rPr>
              <a:t>SIR</a:t>
            </a:r>
            <a:r>
              <a:rPr b="0" lang="it-IT" sz="2400" spc="-1" strike="noStrike">
                <a:solidFill>
                  <a:srgbClr val="2e2e2e"/>
                </a:solidFill>
                <a:latin typeface="Arial Unicode MS"/>
              </a:rPr>
              <a:t>)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 for                        Brain Metastases: (SIR </a:t>
            </a:r>
            <a:r>
              <a:rPr b="0" i="1" lang="it-IT" sz="2400" spc="-1" strike="noStrike">
                <a:solidFill>
                  <a:srgbClr val="2e2e2e"/>
                </a:solidFill>
                <a:latin typeface="Symbol"/>
                <a:ea typeface="Symbol"/>
              </a:rPr>
              <a:t>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5 = median surv.</a:t>
            </a:r>
            <a:r>
              <a:rPr b="0" i="1" lang="it-IT" sz="2400" spc="-1" strike="noStrike">
                <a:solidFill>
                  <a:srgbClr val="2e2e2e"/>
                </a:solidFill>
                <a:latin typeface="Symbol"/>
                <a:ea typeface="Symbol"/>
              </a:rPr>
              <a:t></a:t>
            </a:r>
            <a:r>
              <a:rPr b="0" i="1" lang="it-IT" sz="2400" spc="-1" strike="noStrike">
                <a:solidFill>
                  <a:srgbClr val="2e2e2e"/>
                </a:solidFill>
                <a:latin typeface="Arial Unicode MS"/>
              </a:rPr>
              <a:t> 6 m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7"/>
          <p:cNvSpPr/>
          <p:nvPr/>
        </p:nvSpPr>
        <p:spPr>
          <a:xfrm>
            <a:off x="338040" y="2666880"/>
            <a:ext cx="8534520" cy="317628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e2e2e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Age:                         </a:t>
            </a:r>
            <a:r>
              <a:rPr b="0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60,    51-59,           </a:t>
            </a:r>
            <a:r>
              <a:rPr b="1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2e2e2e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Karnofsky PS:         </a:t>
            </a:r>
            <a:r>
              <a:rPr b="0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50,    60-70,            </a:t>
            </a:r>
            <a:r>
              <a:rPr b="1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</a:t>
            </a:r>
            <a:r>
              <a:rPr b="1" lang="it-IT" sz="2800" spc="-1" strike="noStrike">
                <a:solidFill>
                  <a:srgbClr val="2e2e2e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Extracranial mets:     P,       RP-S,          </a:t>
            </a:r>
            <a:r>
              <a:rPr b="1" lang="it-IT" sz="2800" spc="-1" strike="noStrike">
                <a:solidFill>
                  <a:srgbClr val="2e2e2e"/>
                </a:solidFill>
                <a:latin typeface="Arial"/>
              </a:rPr>
              <a:t>RC-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c00000"/>
                </a:solidFill>
                <a:latin typeface="Arial"/>
              </a:rPr>
              <a:t>N. of mets</a:t>
            </a:r>
            <a:r>
              <a:rPr b="0" i="1" lang="it-IT" sz="2800" spc="-1" strike="noStrike">
                <a:solidFill>
                  <a:srgbClr val="2e2e2e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3,         2,                   </a:t>
            </a:r>
            <a:r>
              <a:rPr b="1" lang="it-IT" sz="2800" spc="-1" strike="noStrike">
                <a:solidFill>
                  <a:srgbClr val="2e2e2e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c00000"/>
                </a:solidFill>
                <a:latin typeface="Arial"/>
              </a:rPr>
              <a:t>Volume</a:t>
            </a:r>
            <a:r>
              <a:rPr b="1" i="1" lang="it-IT" sz="2800" spc="-1" strike="noStrike">
                <a:solidFill>
                  <a:srgbClr val="2e2e2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2e2e2e"/>
                </a:solidFill>
                <a:latin typeface="Arial"/>
              </a:rPr>
              <a:t>(cm</a:t>
            </a:r>
            <a:r>
              <a:rPr b="1" i="1" lang="it-IT" sz="2800" spc="-1" strike="noStrike" baseline="30000">
                <a:solidFill>
                  <a:srgbClr val="2e2e2e"/>
                </a:solidFill>
                <a:latin typeface="Arial"/>
              </a:rPr>
              <a:t>3</a:t>
            </a:r>
            <a:r>
              <a:rPr b="0" i="1" lang="it-IT" sz="2800" spc="-1" strike="noStrike">
                <a:solidFill>
                  <a:srgbClr val="2e2e2e"/>
                </a:solidFill>
                <a:latin typeface="Arial"/>
              </a:rPr>
              <a:t>):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</a:t>
            </a:r>
            <a:r>
              <a:rPr b="0" lang="it-IT" sz="2800" spc="-1" strike="noStrike">
                <a:solidFill>
                  <a:srgbClr val="2e2e2e"/>
                </a:solidFill>
                <a:latin typeface="Arial"/>
              </a:rPr>
              <a:t>13,      5-13,             </a:t>
            </a:r>
            <a:r>
              <a:rPr b="1" lang="it-IT" sz="2800" spc="-1" strike="noStrike">
                <a:solidFill>
                  <a:srgbClr val="2e2e2e"/>
                </a:solidFill>
                <a:latin typeface="Symbol"/>
                <a:ea typeface="Symbol"/>
              </a:rPr>
              <a:t></a:t>
            </a:r>
            <a:r>
              <a:rPr b="1" lang="it-IT" sz="2800" spc="-1" strike="noStrike">
                <a:solidFill>
                  <a:srgbClr val="2e2e2e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28"/>
          <p:cNvSpPr/>
          <p:nvPr/>
        </p:nvSpPr>
        <p:spPr>
          <a:xfrm>
            <a:off x="5595840" y="6058080"/>
            <a:ext cx="3297240" cy="368280"/>
          </a:xfrm>
          <a:prstGeom prst="rect">
            <a:avLst/>
          </a:prstGeom>
          <a:noFill/>
          <a:ln w="284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2e2e2e"/>
                </a:solidFill>
                <a:latin typeface="Times New Roman"/>
              </a:rPr>
              <a:t>Weltman et al. IJROBP, ‘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29"/>
          <p:cNvSpPr/>
          <p:nvPr/>
        </p:nvSpPr>
        <p:spPr>
          <a:xfrm>
            <a:off x="3635280" y="1905120"/>
            <a:ext cx="51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e2e2e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2e2e2e"/>
                </a:solidFill>
                <a:latin typeface="Comic Sans MS"/>
              </a:rPr>
              <a:t>0          1      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26"/>
          <p:cNvSpPr/>
          <p:nvPr/>
        </p:nvSpPr>
        <p:spPr>
          <a:xfrm>
            <a:off x="396720" y="393840"/>
            <a:ext cx="8278920" cy="100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Unicode MS"/>
              </a:rPr>
              <a:t>BC-SIR</a:t>
            </a:r>
            <a:r>
              <a:rPr b="1" i="1" lang="en-US" sz="3200" spc="-1" strike="noStrike">
                <a:solidFill>
                  <a:srgbClr val="2e2e2e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2e2e2e"/>
                </a:solidFill>
                <a:latin typeface="Arial Unicode MS"/>
              </a:rPr>
              <a:t>                                                                              </a:t>
            </a:r>
            <a:r>
              <a:rPr b="1" i="1" lang="en-US" sz="2400" spc="-1" strike="noStrike">
                <a:solidFill>
                  <a:srgbClr val="2e2e2e"/>
                </a:solidFill>
                <a:latin typeface="Arial Unicode MS"/>
              </a:rPr>
              <a:t>a novel breast cancer score index for radio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8"/>
          <p:cNvSpPr/>
          <p:nvPr/>
        </p:nvSpPr>
        <p:spPr>
          <a:xfrm>
            <a:off x="2195640" y="5958000"/>
            <a:ext cx="6610320" cy="368280"/>
          </a:xfrm>
          <a:prstGeom prst="rect">
            <a:avLst/>
          </a:prstGeom>
          <a:noFill/>
          <a:ln w="284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e2e2e"/>
                </a:solidFill>
                <a:latin typeface="Times New Roman"/>
              </a:rPr>
              <a:t>Gupta et al., Abst . n. 10, Proceedings of the  ASTRO Meet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"/>
          <p:cNvSpPr/>
          <p:nvPr/>
        </p:nvSpPr>
        <p:spPr>
          <a:xfrm>
            <a:off x="826920" y="370044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Median OS after SRS for Her 2+ was 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37.3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months vs </a:t>
            </a:r>
            <a:r>
              <a:rPr b="1" lang="en-US" sz="2800" spc="-1" strike="noStrike">
                <a:solidFill>
                  <a:srgbClr val="2e2e2e"/>
                </a:solidFill>
                <a:latin typeface="Arial"/>
              </a:rPr>
              <a:t>13.1 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months for Her 2- patients   (</a:t>
            </a:r>
            <a:r>
              <a:rPr b="1" i="1" lang="en-US" sz="2800" spc="-1" strike="noStrike">
                <a:solidFill>
                  <a:srgbClr val="2e2e2e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e2e2e"/>
                </a:solidFill>
                <a:latin typeface="Arial"/>
              </a:rPr>
              <a:t> &lt; 0.000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2"/>
          <p:cNvSpPr/>
          <p:nvPr/>
        </p:nvSpPr>
        <p:spPr>
          <a:xfrm>
            <a:off x="803160" y="160020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r 2+</a:t>
            </a:r>
            <a:r>
              <a:rPr b="0" i="1" lang="en-US" sz="3200" spc="-1" strike="noStrike">
                <a:solidFill>
                  <a:srgbClr val="2e2e2e"/>
                </a:solidFill>
                <a:latin typeface="Times New Roman"/>
                <a:ea typeface="Times New Roman"/>
              </a:rPr>
              <a:t> breast cancer patients with brain metastases treated with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stuzumab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2e2e2e"/>
                </a:solidFill>
                <a:latin typeface="Times New Roman"/>
                <a:ea typeface="Times New Roman"/>
              </a:rPr>
              <a:t>and SRS have a surprisingly long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052"/>
          <p:cNvSpPr/>
          <p:nvPr/>
        </p:nvSpPr>
        <p:spPr>
          <a:xfrm>
            <a:off x="826920" y="2144880"/>
            <a:ext cx="7313760" cy="1069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lection criteria for                   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ractionated Stereotactic 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3520" y="533520"/>
            <a:ext cx="769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Be careful to the target volume !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</a:rPr>
              <a:t>D. Larson, IJROBP ’93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557360" y="2133720"/>
            <a:ext cx="56228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diosurgery target volumes are usually less than a few centimeters in maximum dimens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linical experience shows “that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diosurgery complic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much more strongly associated with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arget siz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volum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an do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947880" y="3933720"/>
            <a:ext cx="474480" cy="1143000"/>
          </a:xfrm>
          <a:custGeom>
            <a:avLst/>
            <a:gdLst>
              <a:gd name="textAreaLeft" fmla="*/ 63360 w 474480"/>
              <a:gd name="textAreaRight" fmla="*/ 411120 w 474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8120" y="44280"/>
            <a:ext cx="8809200" cy="2229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219800" y="320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33"/>
                </a:solidFill>
                <a:latin typeface="Arial"/>
              </a:rPr>
              <a:t>(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95280" y="2476440"/>
            <a:ext cx="820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s reported about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Radio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f which four used the scheme from RTOG 90-05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2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,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y,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 sf according to tumor siz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pers described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Fractionated Stereotactic 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x 6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y (two papers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x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y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13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24000" y="3860640"/>
            <a:ext cx="84978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clus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adiosurgery pts, a total of 20-24 Gy sf. and 18 Gy sf. for metastases of 0-2 cm and 2-3 cm respectively provide adequate local control with low necrosis r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r larger metastases (i.e., &gt; 3 c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of single fraction treatment are disappointing and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ractionated Stereotactic RT should be consi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2"/>
          <p:cNvSpPr/>
          <p:nvPr/>
        </p:nvSpPr>
        <p:spPr>
          <a:xfrm>
            <a:off x="1258920" y="1257480"/>
            <a:ext cx="2087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1052280"/>
            <a:ext cx="360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Radiosurgery (S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052"/>
          <p:cNvSpPr/>
          <p:nvPr/>
        </p:nvSpPr>
        <p:spPr>
          <a:xfrm>
            <a:off x="826920" y="333360"/>
            <a:ext cx="73137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000"/>
                </a:solidFill>
                <a:latin typeface="Arial"/>
              </a:rPr>
              <a:t>Selection criteria for </a:t>
            </a:r>
            <a:r>
              <a:rPr b="1" i="1" lang="en-US" sz="3600" spc="-1" strike="noStrike">
                <a:solidFill>
                  <a:srgbClr val="010000"/>
                </a:solidFill>
                <a:latin typeface="Arial"/>
              </a:rPr>
              <a:t>stereotactic 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53"/>
          <p:cNvSpPr/>
          <p:nvPr/>
        </p:nvSpPr>
        <p:spPr>
          <a:xfrm>
            <a:off x="539640" y="1601640"/>
            <a:ext cx="6705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8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ood performanc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led systemic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°of  lesions 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mited volum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Ø &lt; 3 c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Her 2+ in Brest cancer pat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55"/>
          <p:cNvSpPr/>
          <p:nvPr/>
        </p:nvSpPr>
        <p:spPr>
          <a:xfrm>
            <a:off x="5702400" y="2133720"/>
            <a:ext cx="2438280" cy="581400"/>
          </a:xfrm>
          <a:prstGeom prst="rect">
            <a:avLst/>
          </a:prstGeom>
          <a:noFill/>
          <a:ln w="381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R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arentesi graffa chiusa 1"/>
          <p:cNvSpPr/>
          <p:nvPr/>
        </p:nvSpPr>
        <p:spPr>
          <a:xfrm>
            <a:off x="5076720" y="1484280"/>
            <a:ext cx="287280" cy="1946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946160"/>
              <a:gd name="textAreaBottom" fmla="*/ 1938960 h 19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3"/>
          <p:cNvSpPr/>
          <p:nvPr/>
        </p:nvSpPr>
        <p:spPr>
          <a:xfrm>
            <a:off x="539640" y="46450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ractionated stereotactic RT (FS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4"/>
          <p:cNvSpPr/>
          <p:nvPr/>
        </p:nvSpPr>
        <p:spPr>
          <a:xfrm>
            <a:off x="539640" y="5246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f  lesion has a Ø &gt; 3 cm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or volume &gt; 14 cc)</a:t>
            </a:r>
            <a:r>
              <a:rPr b="0" lang="it-IT" sz="1800" spc="-1" strike="noStrike">
                <a:solidFill>
                  <a:srgbClr val="2e2e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If  lesion  is  near critical structure/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685800" y="2819520"/>
            <a:ext cx="8001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4e5e6"/>
                </a:solidFill>
                <a:latin typeface="Arial"/>
              </a:rPr>
              <a:t>after Surgical Re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99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</a:rPr>
              <a:t>after Stereotactic Radiosurgery (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23960" y="693720"/>
            <a:ext cx="7543800" cy="6426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djuvant” (WB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052"/>
          <p:cNvSpPr/>
          <p:nvPr/>
        </p:nvSpPr>
        <p:spPr>
          <a:xfrm>
            <a:off x="900000" y="2151000"/>
            <a:ext cx="7313760" cy="208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Brain metastases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RS vs SRS + WBRT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randomized clinical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289080" y="189000"/>
            <a:ext cx="85690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ndomized phase III trials in brain metastases</a:t>
            </a:r>
            <a:br>
              <a:rPr sz="2800"/>
            </a:b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SRS vs SRS + WBRT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39640" y="1700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197000"/>
          <a:ext cx="8642160" cy="544500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96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#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cranial progression free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verall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Aoyama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32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67 SRS vs 65 SRS+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4% vs 5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 &lt;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vs 7.5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4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Cha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30 SRS vs 28 SRS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7% vs 7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003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he trial was early stopped for toxicity in the combined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Kocher &amp; Soffietti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179 SRS/Surg. vs 180 SRS/Surg 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.4 vs 4.6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9 vs 10.7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9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ondschein 2010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Abst ASTRO) 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ELA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 SRS vs 29 SRS+WB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.1 vs 3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 vs 6.5  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9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89080" y="189000"/>
            <a:ext cx="85690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ndomized phase III trials in brain metastases</a:t>
            </a:r>
            <a:br>
              <a:rPr sz="2800"/>
            </a:b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SRS vs SRS + WBRT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9640" y="1700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197000"/>
          <a:ext cx="8642160" cy="544500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96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#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cranial progression free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verall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Aoyama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2   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67 SRS vs 65 SRS+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4% vs 5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 &lt;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vs 7.5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4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Cha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30 SRS vs 28 SRS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7% vs 7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003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he trial was early stopped for toxicity in the combined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Kocher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179 SRS/Surg. vs 180 SRS/Surg 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.4 vs 4.6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9 vs 10.7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9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ondschein 2010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Abst ASTRO) 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ELA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 SRS vs 29 SRS+WB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.1 vs 3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 vs 6.5  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9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36"/>
          <p:cNvSpPr/>
          <p:nvPr/>
        </p:nvSpPr>
        <p:spPr>
          <a:xfrm>
            <a:off x="4643280" y="2212920"/>
            <a:ext cx="2016360" cy="3416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vour to SRS + WB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732720" y="2205000"/>
            <a:ext cx="2087280" cy="459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0960" y="372960"/>
            <a:ext cx="5842080" cy="1760760"/>
          </a:xfrm>
          <a:prstGeom prst="rect">
            <a:avLst/>
          </a:prstGeom>
          <a:ln w="0">
            <a:noFill/>
          </a:ln>
        </p:spPr>
      </p:pic>
      <p:sp>
        <p:nvSpPr>
          <p:cNvPr id="47" name="Rettangolo arrotondato 2"/>
          <p:cNvSpPr/>
          <p:nvPr/>
        </p:nvSpPr>
        <p:spPr>
          <a:xfrm>
            <a:off x="324000" y="1208160"/>
            <a:ext cx="378612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259080" y="2276640"/>
            <a:ext cx="5586480" cy="1671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5594400" cy="194940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arrotondato 5"/>
          <p:cNvSpPr/>
          <p:nvPr/>
        </p:nvSpPr>
        <p:spPr>
          <a:xfrm>
            <a:off x="3276720" y="3068640"/>
            <a:ext cx="280800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arrotondato 6"/>
          <p:cNvSpPr/>
          <p:nvPr/>
        </p:nvSpPr>
        <p:spPr>
          <a:xfrm>
            <a:off x="622440" y="4962600"/>
            <a:ext cx="309564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7"/>
          <p:cNvSpPr/>
          <p:nvPr/>
        </p:nvSpPr>
        <p:spPr>
          <a:xfrm>
            <a:off x="2411280" y="115920"/>
            <a:ext cx="4608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J Neurooncol (2010) 96: 17-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9080" y="189000"/>
            <a:ext cx="85690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ndomized phase III trials in brain metastases</a:t>
            </a:r>
            <a:br>
              <a:rPr sz="2800"/>
            </a:b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SRS vs SRS + WBRT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1700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1197000"/>
          <a:ext cx="8642160" cy="544500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96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#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cranial progression free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verall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Aoyama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32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67 SRS vs 65 SRS+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4% vs 5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 &lt;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vs 7.5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4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Cha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            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30 SRS vs 28 SRS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t 1 yea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7% vs 73%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003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he trial was early stopped for toxicity in the combined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Kocher &amp; Soffietti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179 SRS/Surg. vs 180 SRS/Surg 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.4 vs 4.6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9 vs 10.7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9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ondschein 2010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Abst ASTRO) 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ELA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 SRS vs 29 SRS+WB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.1 vs 3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 vs 6.5       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9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36"/>
          <p:cNvSpPr/>
          <p:nvPr/>
        </p:nvSpPr>
        <p:spPr>
          <a:xfrm>
            <a:off x="250920" y="3213000"/>
            <a:ext cx="864216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800000"/>
                </a:solidFill>
                <a:latin typeface="Calibri"/>
              </a:rPr>
              <a:t>Neurocognitive  Function after WB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sellaDiTesto 3"/>
          <p:cNvSpPr/>
          <p:nvPr/>
        </p:nvSpPr>
        <p:spPr>
          <a:xfrm>
            <a:off x="714240" y="2643120"/>
            <a:ext cx="792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OYAMA H et al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, Int. J. Radiation Oncology Biol. Phys., Vol. 68, No. 5, pp. 1388–1395,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406000" cy="1220760"/>
          </a:xfrm>
          <a:prstGeom prst="rect">
            <a:avLst/>
          </a:prstGeom>
          <a:ln w="0">
            <a:noFill/>
          </a:ln>
        </p:spPr>
      </p:pic>
      <p:sp>
        <p:nvSpPr>
          <p:cNvPr id="161" name="CasellaDiTesto 5"/>
          <p:cNvSpPr/>
          <p:nvPr/>
        </p:nvSpPr>
        <p:spPr>
          <a:xfrm>
            <a:off x="324000" y="3276720"/>
            <a:ext cx="788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Decline in learning and memory function was foun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7.5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months in SRS + WBRT 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16.5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months in SRS 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943600" y="1295280"/>
            <a:ext cx="297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RS vs. SRS + WB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876240" y="2070000"/>
            <a:ext cx="30481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23960" y="2590920"/>
            <a:ext cx="1219320" cy="38088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8920" y="685800"/>
            <a:ext cx="8940960" cy="687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rcRect l="0" t="0" r="426" b="0"/>
          <a:stretch/>
        </p:blipFill>
        <p:spPr>
          <a:xfrm>
            <a:off x="152280" y="152280"/>
            <a:ext cx="617220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rcRect l="0" t="0" r="1700" b="0"/>
          <a:stretch/>
        </p:blipFill>
        <p:spPr>
          <a:xfrm>
            <a:off x="3022560" y="1415880"/>
            <a:ext cx="1981080" cy="298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rcRect l="0" t="0" r="432" b="0"/>
          <a:stretch/>
        </p:blipFill>
        <p:spPr>
          <a:xfrm>
            <a:off x="5181480" y="1409760"/>
            <a:ext cx="3733920" cy="253800"/>
          </a:xfrm>
          <a:prstGeom prst="rect">
            <a:avLst/>
          </a:prstGeom>
          <a:ln w="0">
            <a:noFill/>
          </a:ln>
        </p:spPr>
      </p:pic>
      <p:sp>
        <p:nvSpPr>
          <p:cNvPr id="169" name="Line 6"/>
          <p:cNvSpPr/>
          <p:nvPr/>
        </p:nvSpPr>
        <p:spPr>
          <a:xfrm>
            <a:off x="5207040" y="1041480"/>
            <a:ext cx="3124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324480" y="3962520"/>
            <a:ext cx="2590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52280" y="44956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95440" y="2209680"/>
            <a:ext cx="8153280" cy="3532320"/>
          </a:xfrm>
          <a:prstGeom prst="rect">
            <a:avLst/>
          </a:prstGeom>
          <a:noFill/>
          <a:ln w="7632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With the encouraging results obtained with radiosurgery, many have advocated </a:t>
            </a:r>
            <a:r>
              <a:rPr b="1" lang="en-NZ" sz="2400" spc="-1" strike="noStrike">
                <a:solidFill>
                  <a:srgbClr val="b32c16"/>
                </a:solidFill>
                <a:latin typeface="Arial"/>
              </a:rPr>
              <a:t>withholding adjuvant</a:t>
            </a: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NZ" sz="2400" spc="-1" strike="noStrike">
                <a:solidFill>
                  <a:srgbClr val="000066"/>
                </a:solidFill>
                <a:latin typeface="Arial"/>
              </a:rPr>
              <a:t>i.e.,</a:t>
            </a: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 postoperative) whole brain radiotherapy (</a:t>
            </a:r>
            <a:r>
              <a:rPr b="1" lang="en-NZ" sz="2400" spc="-1" strike="noStrike">
                <a:solidFill>
                  <a:srgbClr val="b32c16"/>
                </a:solidFill>
                <a:latin typeface="Arial"/>
              </a:rPr>
              <a:t>WBRT</a:t>
            </a: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This paradigm has arisen because of concerns regarding the </a:t>
            </a:r>
            <a:r>
              <a:rPr b="0" lang="en-NZ" sz="2400" spc="-1" strike="noStrike" u="sng">
                <a:solidFill>
                  <a:srgbClr val="000066"/>
                </a:solidFill>
                <a:uFillTx/>
                <a:latin typeface="Arial"/>
              </a:rPr>
              <a:t>long-term toxicity associated with WBRT</a:t>
            </a:r>
            <a:r>
              <a:rPr b="0" lang="en-NZ" sz="2400" spc="-1" strike="noStrike">
                <a:solidFill>
                  <a:srgbClr val="000066"/>
                </a:solidFill>
                <a:latin typeface="Arial"/>
              </a:rPr>
              <a:t>, particularly </a:t>
            </a:r>
            <a:r>
              <a:rPr b="1" lang="en-NZ" sz="2800" spc="-1" strike="noStrike">
                <a:solidFill>
                  <a:srgbClr val="993300"/>
                </a:solidFill>
                <a:latin typeface="Arial"/>
              </a:rPr>
              <a:t>neurocognitive deterioration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88920" y="685800"/>
            <a:ext cx="8940960" cy="687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rcRect l="0" t="0" r="426" b="0"/>
          <a:stretch/>
        </p:blipFill>
        <p:spPr>
          <a:xfrm>
            <a:off x="152280" y="152280"/>
            <a:ext cx="6172200" cy="35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rcRect l="0" t="0" r="1700" b="0"/>
          <a:stretch/>
        </p:blipFill>
        <p:spPr>
          <a:xfrm>
            <a:off x="3022560" y="1415880"/>
            <a:ext cx="1981080" cy="29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rcRect l="0" t="0" r="432" b="0"/>
          <a:stretch/>
        </p:blipFill>
        <p:spPr>
          <a:xfrm>
            <a:off x="5181480" y="1409760"/>
            <a:ext cx="3733920" cy="25380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5207040" y="1041480"/>
            <a:ext cx="3124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6324480" y="3962520"/>
            <a:ext cx="2590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52280" y="44956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7" descr=""/>
          <p:cNvPicPr/>
          <p:nvPr/>
        </p:nvPicPr>
        <p:blipFill>
          <a:blip r:embed="rId5"/>
          <a:stretch/>
        </p:blipFill>
        <p:spPr>
          <a:xfrm>
            <a:off x="0" y="2320920"/>
            <a:ext cx="9144000" cy="4079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8"/>
          <p:cNvSpPr/>
          <p:nvPr/>
        </p:nvSpPr>
        <p:spPr>
          <a:xfrm>
            <a:off x="990720" y="1766880"/>
            <a:ext cx="7238880" cy="3682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yelinization due to oligodendrocytes damag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9080" y="189000"/>
            <a:ext cx="85690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ndomized phase III trials in brain metastases</a:t>
            </a:r>
            <a:br>
              <a:rPr sz="2800"/>
            </a:b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SRS vs SRS + WBRT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9640" y="1700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1197000"/>
          <a:ext cx="8642160" cy="55468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#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cranial progression free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verall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Chang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The trial was early stopped for toxicity in the combined 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Kocher &amp; Soffietti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ondschein 2010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Abst ASTRO) 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MELA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42"/>
          <p:cNvSpPr/>
          <p:nvPr/>
        </p:nvSpPr>
        <p:spPr>
          <a:xfrm>
            <a:off x="250920" y="4797360"/>
            <a:ext cx="8569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2680" y="189000"/>
            <a:ext cx="8380440" cy="199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543040" cy="361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95280" y="2492280"/>
            <a:ext cx="842472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BRT causes a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cline in learning and memory fun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32c16"/>
                </a:solidFill>
                <a:latin typeface="Arial"/>
              </a:rPr>
              <a:t>by 4 month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red with the group that received SRS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patients 1-3 brain metastases initial treatment should be 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b32c16"/>
                </a:solidFill>
                <a:latin typeface="Arial"/>
              </a:rPr>
              <a:t>clinical close monitor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recommended for early diagnosis of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WB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served only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s a salvag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4572000" y="3789360"/>
            <a:ext cx="39607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89080" y="189000"/>
            <a:ext cx="85690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ndomized phase III trials in brain metastases</a:t>
            </a:r>
            <a:br>
              <a:rPr sz="2800"/>
            </a:br>
            <a:r>
              <a:rPr b="1" lang="it-IT" sz="2800" spc="-1" strike="noStrike">
                <a:solidFill>
                  <a:srgbClr val="990033"/>
                </a:solidFill>
                <a:latin typeface="Arial"/>
              </a:rPr>
              <a:t>SRS vs SRS + WBRT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9640" y="1700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1197000"/>
          <a:ext cx="8642160" cy="520380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98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# of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cranial progression free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verall survival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Kocher &amp; Soffietti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179 SRS/Surg. vs 180 SRS/Surg + WB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.4 vs 4.6     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02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9 vs 10.7          (</a:t>
                      </a:r>
                      <a:r>
                        <a:rPr b="1" i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= 0.89)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3"/>
          <p:cNvSpPr/>
          <p:nvPr/>
        </p:nvSpPr>
        <p:spPr>
          <a:xfrm>
            <a:off x="324000" y="6400800"/>
            <a:ext cx="84247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95280" y="1916280"/>
            <a:ext cx="8424720" cy="460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adjuvant brain radiotherapy after surgery or radiosurgery has b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vers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slow the spread of cancer in the b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amage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cognitive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metimes leading to dementia, in long-surviving pat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withh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serial imaging for follow up is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als evaluating cognitive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before and after WBR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404640"/>
            <a:ext cx="8424720" cy="128304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cher M, Soffietti R, et 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b32c16"/>
                </a:solidFill>
                <a:latin typeface="Arial"/>
              </a:rPr>
              <a:t>Adjuvant whole brain radiotherap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us observation after radiosurgery or surgical resection of 1-3 cerebral metastases. Results of the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OR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2952-26001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ud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Novembe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43080" y="2400480"/>
            <a:ext cx="8261280" cy="31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55640" y="692280"/>
            <a:ext cx="7704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NEURAL STEM CELL-PRESERVING EXTERNAL-BEAM RADIOTHERAPY OF </a:t>
            </a:r>
            <a:r>
              <a:rPr b="1" lang="it-IT" sz="1600" spc="-1" strike="noStrike" u="sng">
                <a:solidFill>
                  <a:srgbClr val="800000"/>
                </a:solidFill>
                <a:uFillTx/>
                <a:latin typeface="Arial"/>
              </a:rPr>
              <a:t>CENTRAL NERVOUS SYSTEM</a:t>
            </a: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 MALIGNAN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Barani,et al.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JROB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68,978–98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2771640" y="3789360"/>
            <a:ext cx="1584360" cy="7920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7308720" y="4221000"/>
            <a:ext cx="1366920" cy="9367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260280"/>
            <a:ext cx="8642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SPARING OF THE NEURAL STEM CELL COMPARTMENT DURING WHOLE-BRAIN RADIATION THERAPY: A DOSIMETRIC STUDY USING HELICAL TOMO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arsh,et 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JROBP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78, No. 3, 946–954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20541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5"/>
          <p:cNvGrpSpPr/>
          <p:nvPr/>
        </p:nvGrpSpPr>
        <p:grpSpPr>
          <a:xfrm>
            <a:off x="3635280" y="2060640"/>
            <a:ext cx="5112720" cy="3268080"/>
            <a:chOff x="3635280" y="2060640"/>
            <a:chExt cx="5112720" cy="3268080"/>
          </a:xfrm>
        </p:grpSpPr>
        <p:grpSp>
          <p:nvGrpSpPr>
            <p:cNvPr id="203" name="Group 16"/>
            <p:cNvGrpSpPr/>
            <p:nvPr/>
          </p:nvGrpSpPr>
          <p:grpSpPr>
            <a:xfrm>
              <a:off x="3635280" y="2060640"/>
              <a:ext cx="5112720" cy="3268080"/>
              <a:chOff x="3635280" y="2060640"/>
              <a:chExt cx="5112720" cy="3268080"/>
            </a:xfrm>
          </p:grpSpPr>
          <p:pic>
            <p:nvPicPr>
              <p:cNvPr id="204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5280" y="2350440"/>
                <a:ext cx="5112720" cy="29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 Box 18"/>
              <p:cNvSpPr/>
              <p:nvPr/>
            </p:nvSpPr>
            <p:spPr>
              <a:xfrm>
                <a:off x="4264920" y="2060640"/>
                <a:ext cx="3914640" cy="398880"/>
              </a:xfrm>
              <a:prstGeom prst="rect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Hyppocampal-sparing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WB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ectangle 19"/>
            <p:cNvSpPr/>
            <p:nvPr/>
          </p:nvSpPr>
          <p:spPr>
            <a:xfrm>
              <a:off x="4115520" y="4972320"/>
              <a:ext cx="3323520" cy="32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Multiple brain metastase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snc_1420"/>
          <p:cNvPicPr/>
          <p:nvPr/>
        </p:nvPicPr>
        <p:blipFill>
          <a:blip r:embed="rId1"/>
          <a:stretch/>
        </p:blipFill>
        <p:spPr>
          <a:xfrm>
            <a:off x="1625760" y="1052640"/>
            <a:ext cx="560520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755640" y="1857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NEURAL STEM CELL-PRESERVING EXTERNAL-BEAM RADIOTHERAPY OF </a:t>
            </a:r>
            <a:r>
              <a:rPr b="1" lang="it-IT" sz="1400" spc="-1" strike="noStrike" u="sng">
                <a:solidFill>
                  <a:srgbClr val="800000"/>
                </a:solidFill>
                <a:uFillTx/>
                <a:latin typeface="Arial"/>
              </a:rPr>
              <a:t>CENTRAL NERVOUS SYSTEM</a:t>
            </a: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 MALIGNANCIES Barani,et al.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JROB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68,978–98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4765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9"/>
          <p:cNvSpPr/>
          <p:nvPr/>
        </p:nvSpPr>
        <p:spPr>
          <a:xfrm>
            <a:off x="4356000" y="981000"/>
            <a:ext cx="41054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PPOCAMPAL- SPARING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916360" y="5222880"/>
            <a:ext cx="2376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DIO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684360" y="981000"/>
            <a:ext cx="3024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052"/>
          <p:cNvSpPr/>
          <p:nvPr/>
        </p:nvSpPr>
        <p:spPr>
          <a:xfrm>
            <a:off x="971640" y="1844640"/>
            <a:ext cx="7313400" cy="100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Our experience</a:t>
            </a:r>
            <a:r>
              <a:rPr b="1" i="1" lang="en-US" sz="2800" spc="-1" strike="noStrike">
                <a:solidFill>
                  <a:srgbClr val="010000"/>
                </a:solidFill>
                <a:latin typeface="Arial"/>
              </a:rPr>
              <a:t> on STEREOTACTIC RT for brain metast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sellaDiTesto 1"/>
          <p:cNvSpPr/>
          <p:nvPr/>
        </p:nvSpPr>
        <p:spPr>
          <a:xfrm>
            <a:off x="900000" y="3645000"/>
            <a:ext cx="763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EREOTACTIC  RADIOTHERAPY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LO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 BRAIN METASTASES: ANALYSIS OF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279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anzano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sellaDiTesto 2"/>
          <p:cNvSpPr/>
          <p:nvPr/>
        </p:nvSpPr>
        <p:spPr>
          <a:xfrm>
            <a:off x="5219640" y="5013360"/>
            <a:ext cx="273708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bstract  ESTRO 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971640" y="549360"/>
            <a:ext cx="6858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’ CHARACTERISTICS:                       our experienc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79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patient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2209680"/>
          <a:ext cx="8305920" cy="1524240"/>
        </p:xfrm>
        <a:graphic>
          <a:graphicData uri="http://schemas.openxmlformats.org/drawingml/2006/table">
            <a:tbl>
              <a:tblPr/>
              <a:tblGrid>
                <a:gridCol w="2133720"/>
                <a:gridCol w="1676520"/>
                <a:gridCol w="1981080"/>
                <a:gridCol w="25146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. of p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oses (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edian   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edian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olume        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Radio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50 (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0%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3       12/2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2 cc          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.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0880" y="4419720"/>
          <a:ext cx="8305920" cy="1888920"/>
        </p:xfrm>
        <a:graphic>
          <a:graphicData uri="http://schemas.openxmlformats.org/drawingml/2006/table">
            <a:tbl>
              <a:tblPr/>
              <a:tblGrid>
                <a:gridCol w="2103480"/>
                <a:gridCol w="1727280"/>
                <a:gridCol w="1944720"/>
                <a:gridCol w="2530440"/>
              </a:tblGrid>
              <a:tr h="88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. of p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oses (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edian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olume   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Fractionated stereotactic RT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 (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30/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/7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30/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.7 cc     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.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43"/>
          <p:cNvSpPr/>
          <p:nvPr/>
        </p:nvSpPr>
        <p:spPr>
          <a:xfrm>
            <a:off x="468360" y="1700280"/>
            <a:ext cx="8136000" cy="368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/2001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0/2008; median F.U.: 67 months (range: 24-1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0"/>
          <p:cNvSpPr/>
          <p:nvPr/>
        </p:nvSpPr>
        <p:spPr>
          <a:xfrm>
            <a:off x="990720" y="457200"/>
            <a:ext cx="71625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SPONSE TO RADIOSURGERY:                         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09480" y="19810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71600" y="1676520"/>
          <a:ext cx="6095880" cy="3916080"/>
        </p:xfrm>
        <a:graphic>
          <a:graphicData uri="http://schemas.openxmlformats.org/drawingml/2006/table">
            <a:tbl>
              <a:tblPr/>
              <a:tblGrid>
                <a:gridCol w="3657600"/>
                <a:gridCol w="2438280"/>
              </a:tblGrid>
              <a:tr h="80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3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mplete respo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rtial respo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table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rog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rain local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64"/>
          <p:cNvSpPr/>
          <p:nvPr/>
        </p:nvSpPr>
        <p:spPr>
          <a:xfrm>
            <a:off x="1371600" y="5791320"/>
            <a:ext cx="3657600" cy="45972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otal n. of metastases: 4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533520" y="2133720"/>
          <a:ext cx="8001000" cy="3371760"/>
        </p:xfrm>
        <a:graphic>
          <a:graphicData uri="http://schemas.openxmlformats.org/drawingml/2006/table">
            <a:tbl>
              <a:tblPr/>
              <a:tblGrid>
                <a:gridCol w="3733560"/>
                <a:gridCol w="2210040"/>
                <a:gridCol w="2057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. of Brain Relaps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. of salvage treatment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oyama’s results</a:t>
                      </a: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132 pts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RS + WB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RS a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/65 (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9/67(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ur experience</a:t>
                      </a: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279 pts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RS a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46 </a:t>
                      </a:r>
                      <a:r>
                        <a:rPr b="1" lang="it-IT" sz="28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1/187(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1044"/>
          <p:cNvSpPr/>
          <p:nvPr/>
        </p:nvSpPr>
        <p:spPr>
          <a:xfrm>
            <a:off x="609480" y="762120"/>
            <a:ext cx="76964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CE OF BRAIN RELAPSE AND RE-IRRADI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oyama’s results vs. 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45"/>
          <p:cNvSpPr/>
          <p:nvPr/>
        </p:nvSpPr>
        <p:spPr>
          <a:xfrm>
            <a:off x="53352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Arial"/>
              </a:rPr>
              <a:t>*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Out-field relapse: 34%, in-field relapse: 7%, both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80880" y="304920"/>
            <a:ext cx="8153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.. c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nic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219320"/>
            <a:ext cx="8229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ts with 1-3 brain metastases, good PS an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rolled systemic disease</a:t>
            </a:r>
            <a:r>
              <a:rPr b="1" lang="en-GB" sz="24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be treated with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diosurgery alon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n condition that they ar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refully follow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or early detection of a possible brain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88960" y="3124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o not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57200" y="3657600"/>
            <a:ext cx="8305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ern MRI with contrast is very sensitive in detecting small lesion/s (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2 mm)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rovement of pts survival due to progress in medical oncology (new agents and targeted therapy), in radiotherapy (3D-CRT, IMRT, SBRT), and surgery leads a possible increase on iatrogenic brain side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1981080" y="4038480"/>
            <a:ext cx="49532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838080" y="4952880"/>
            <a:ext cx="38102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11280" y="6095880"/>
            <a:ext cx="6553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4680" y="260280"/>
            <a:ext cx="7772400" cy="147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Radiotherapy of brain metast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3068640"/>
            <a:ext cx="842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Whole brain radiotherapy (</a:t>
            </a:r>
            <a:r>
              <a:rPr b="1" i="1" lang="en-US" sz="2400" spc="-1" strike="noStrike">
                <a:solidFill>
                  <a:srgbClr val="d9d9d9"/>
                </a:solidFill>
                <a:latin typeface="Arial"/>
              </a:rPr>
              <a:t>alone or as an adjuvant tool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9d9d9"/>
                </a:solidFill>
                <a:latin typeface="Arial"/>
              </a:rPr>
              <a:t>Stereotactic rad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-ir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24000" y="1896840"/>
            <a:ext cx="84960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Feasibility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of SRS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after a median dose of previous WBRT of 3-30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Neurotoxicity related to: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PSK, dose,</a:t>
            </a: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Ø</a:t>
            </a: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Maximum  tolerated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dose 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depends  on  </a:t>
            </a:r>
            <a:r>
              <a:rPr b="1" lang="en-US" sz="2400" spc="-1" strike="noStrike">
                <a:solidFill>
                  <a:srgbClr val="990033"/>
                </a:solidFill>
                <a:latin typeface="Calibri"/>
              </a:rPr>
              <a:t>Ø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of  the  lesion:                                &lt;20 mm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24Gy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; 21-30 mm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18Gy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; 31-40 mm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15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Actuarial incidence of  </a:t>
            </a: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radionecrosis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was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5%, 8%, 9%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11%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                           at 6, 12, 18 and 24 months, respectiv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umors 21–40 mm were 7.3 to 16 times more likely to develop                       grade 3–5 </a:t>
            </a:r>
            <a:r>
              <a:rPr b="1" lang="en-US" sz="2000" spc="-1" strike="noStrike">
                <a:solidFill>
                  <a:srgbClr val="990033"/>
                </a:solidFill>
                <a:latin typeface="Calibri"/>
              </a:rPr>
              <a:t>neurotoxicity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compared to tumors &lt; 20 m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uppo 9"/>
          <p:cNvGrpSpPr/>
          <p:nvPr/>
        </p:nvGrpSpPr>
        <p:grpSpPr>
          <a:xfrm>
            <a:off x="1042920" y="189000"/>
            <a:ext cx="6842160" cy="1176120"/>
            <a:chOff x="1042920" y="189000"/>
            <a:chExt cx="6842160" cy="1176120"/>
          </a:xfrm>
        </p:grpSpPr>
        <p:pic>
          <p:nvPicPr>
            <p:cNvPr id="237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189000"/>
              <a:ext cx="684216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"/>
            <p:cNvPicPr/>
            <p:nvPr/>
          </p:nvPicPr>
          <p:blipFill>
            <a:blip r:embed="rId2"/>
            <a:stretch/>
          </p:blipFill>
          <p:spPr>
            <a:xfrm>
              <a:off x="1042920" y="1052640"/>
              <a:ext cx="6842160" cy="31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 Box 6"/>
          <p:cNvSpPr/>
          <p:nvPr/>
        </p:nvSpPr>
        <p:spPr>
          <a:xfrm>
            <a:off x="4379760" y="58770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66"/>
                </a:solidFill>
                <a:latin typeface="Times New Roman"/>
              </a:rPr>
              <a:t>(RTOG: Shaw IJROBP ’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5589720"/>
            <a:ext cx="7561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nettore 1 2"/>
          <p:cNvSpPr/>
          <p:nvPr/>
        </p:nvSpPr>
        <p:spPr>
          <a:xfrm>
            <a:off x="2916360" y="907920"/>
            <a:ext cx="4464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ttangolo arrotondato 3"/>
          <p:cNvSpPr/>
          <p:nvPr/>
        </p:nvSpPr>
        <p:spPr>
          <a:xfrm>
            <a:off x="7308720" y="1052640"/>
            <a:ext cx="576360" cy="312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815000" y="1916280"/>
          <a:ext cx="3429000" cy="2916000"/>
        </p:xfrm>
        <a:graphic>
          <a:graphicData uri="http://schemas.openxmlformats.org/drawingml/2006/table">
            <a:tbl>
              <a:tblPr/>
              <a:tblGrid>
                <a:gridCol w="1008000"/>
                <a:gridCol w="1211040"/>
                <a:gridCol w="1209960"/>
              </a:tblGrid>
              <a:tr h="8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Response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(K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Response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  (RM o 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3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&gt; 3-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25"/>
          <p:cNvSpPr/>
          <p:nvPr/>
        </p:nvSpPr>
        <p:spPr>
          <a:xfrm>
            <a:off x="4788000" y="486900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0% of pt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n-field re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148360" y="59720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(RTOG: Shaw IJROBP ’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92280" y="1916280"/>
          <a:ext cx="3519360" cy="2770200"/>
        </p:xfrm>
        <a:graphic>
          <a:graphicData uri="http://schemas.openxmlformats.org/drawingml/2006/table">
            <a:tbl>
              <a:tblPr/>
              <a:tblGrid>
                <a:gridCol w="1172880"/>
                <a:gridCol w="1173240"/>
                <a:gridCol w="1173240"/>
              </a:tblGrid>
              <a:tr h="138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Median surv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1-year surv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alibri"/>
                          <a:ea typeface="Arial"/>
                        </a:rPr>
                        <a:t>2-year surv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Calibri"/>
                          <a:ea typeface="Arial"/>
                        </a:rPr>
                        <a:t>7.5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Gruppo 9"/>
          <p:cNvGrpSpPr/>
          <p:nvPr/>
        </p:nvGrpSpPr>
        <p:grpSpPr>
          <a:xfrm>
            <a:off x="1042920" y="189000"/>
            <a:ext cx="6842160" cy="1176120"/>
            <a:chOff x="1042920" y="189000"/>
            <a:chExt cx="6842160" cy="1176120"/>
          </a:xfrm>
        </p:grpSpPr>
        <p:pic>
          <p:nvPicPr>
            <p:cNvPr id="248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189000"/>
              <a:ext cx="684216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8" descr=""/>
            <p:cNvPicPr/>
            <p:nvPr/>
          </p:nvPicPr>
          <p:blipFill>
            <a:blip r:embed="rId2"/>
            <a:stretch/>
          </p:blipFill>
          <p:spPr>
            <a:xfrm>
              <a:off x="1042920" y="1052640"/>
              <a:ext cx="6842160" cy="31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Connettore 1 8"/>
          <p:cNvSpPr/>
          <p:nvPr/>
        </p:nvSpPr>
        <p:spPr>
          <a:xfrm>
            <a:off x="2916360" y="907920"/>
            <a:ext cx="4464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arrotondato 9"/>
          <p:cNvSpPr/>
          <p:nvPr/>
        </p:nvSpPr>
        <p:spPr>
          <a:xfrm>
            <a:off x="7308720" y="1052640"/>
            <a:ext cx="576360" cy="312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66560" y="3073320"/>
            <a:ext cx="8137800" cy="302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Level II-2 and Level II-3 evidence that the us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vage radiosurgery for brain metastases is associated with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brain tumor response and 1-year survivals ranging from 26% to 4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to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iscern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outc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directly related to radiosurgery versus inherent patient prognostic fa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radiosurgery for salvage may be considered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n option in selected pat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16800" cy="933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4140360" y="98100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Mehta MP et al; IJROBP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539640" y="1420920"/>
            <a:ext cx="4969080" cy="1071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enza"/>
          <p:cNvPicPr/>
          <p:nvPr/>
        </p:nvPicPr>
        <p:blipFill>
          <a:blip r:embed="rId1"/>
          <a:stretch/>
        </p:blipFill>
        <p:spPr>
          <a:xfrm>
            <a:off x="1760400" y="1828800"/>
            <a:ext cx="5308560" cy="4062240"/>
          </a:xfrm>
          <a:prstGeom prst="rect">
            <a:avLst/>
          </a:prstGeom>
          <a:ln w="0">
            <a:noFill/>
          </a:ln>
        </p:spPr>
      </p:pic>
      <p:sp>
        <p:nvSpPr>
          <p:cNvPr id="56" name="Line 3"/>
          <p:cNvSpPr/>
          <p:nvPr/>
        </p:nvSpPr>
        <p:spPr>
          <a:xfrm flipH="1">
            <a:off x="3386160" y="2971800"/>
            <a:ext cx="2844720" cy="2819520"/>
          </a:xfrm>
          <a:prstGeom prst="line">
            <a:avLst/>
          </a:prstGeom>
          <a:ln w="5724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 flipV="1">
            <a:off x="1150560" y="3657600"/>
            <a:ext cx="2235240" cy="2209680"/>
          </a:xfrm>
          <a:prstGeom prst="line">
            <a:avLst/>
          </a:prstGeom>
          <a:ln w="5724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 flipV="1">
            <a:off x="4063680" y="837720"/>
            <a:ext cx="2127240" cy="2133720"/>
          </a:xfrm>
          <a:prstGeom prst="line">
            <a:avLst/>
          </a:prstGeom>
          <a:ln w="5724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150560" y="825480"/>
            <a:ext cx="2916360" cy="2908440"/>
          </a:xfrm>
          <a:prstGeom prst="line">
            <a:avLst/>
          </a:prstGeom>
          <a:ln w="5724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954800" y="26028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Bookman Old Style"/>
              </a:rPr>
              <a:t>Whole brain radiotherapy (WB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ttangolo 1"/>
          <p:cNvSpPr/>
          <p:nvPr/>
        </p:nvSpPr>
        <p:spPr>
          <a:xfrm>
            <a:off x="179280" y="16430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REIRRADIATION OF BRAIN METASTASES WITH RADIOSURGERY: DEFINITIVE RESULTS IN 69 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ranzano et 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5073480" y="4581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Arial"/>
              </a:rPr>
              <a:t>Submitted for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1"/>
          <p:cNvSpPr/>
          <p:nvPr/>
        </p:nvSpPr>
        <p:spPr>
          <a:xfrm>
            <a:off x="179280" y="115920"/>
            <a:ext cx="89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Variab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hich significantly affected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overall surviv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univariate and multivariate analys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12680" y="495360"/>
          <a:ext cx="8923320" cy="6446880"/>
        </p:xfrm>
        <a:graphic>
          <a:graphicData uri="http://schemas.openxmlformats.org/drawingml/2006/table">
            <a:tbl>
              <a:tblPr/>
              <a:tblGrid>
                <a:gridCol w="1711440"/>
                <a:gridCol w="1612800"/>
                <a:gridCol w="1614600"/>
                <a:gridCol w="1774800"/>
                <a:gridCol w="2209680"/>
              </a:tblGrid>
              <a:tr h="9604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nivariate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ultivariate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zards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0020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KPS  &gt; 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KPS  ≤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30 (1.1- 4.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0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0164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FS 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FS 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0 (1.52- 4.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3700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PA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P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41 (0.54-3.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81000" y="907920"/>
            <a:ext cx="9042480" cy="3602160"/>
          </a:xfrm>
          <a:prstGeom prst="rect">
            <a:avLst/>
          </a:prstGeom>
          <a:ln w="0">
            <a:noFill/>
          </a:ln>
        </p:spPr>
      </p:pic>
      <p:sp>
        <p:nvSpPr>
          <p:cNvPr id="261" name="Rettangolo 1"/>
          <p:cNvSpPr/>
          <p:nvPr/>
        </p:nvSpPr>
        <p:spPr>
          <a:xfrm>
            <a:off x="324000" y="4869000"/>
            <a:ext cx="8569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plan-Meier plot of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verall survival probability from radiosurgery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a function of Karnofsky performance status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P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(a)  and neurologic functional status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(b). The number of patients at risk is presented as well. Median survival times by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KPS &gt;7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us KPS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70 were 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12 versus 6 month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0.003, by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NFS 0-1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us 2-3  were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12 versus 5 month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0.0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sellaDiTesto 1"/>
          <p:cNvSpPr/>
          <p:nvPr/>
        </p:nvSpPr>
        <p:spPr>
          <a:xfrm>
            <a:off x="2411280" y="1187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a) K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sellaDiTesto 2"/>
          <p:cNvSpPr/>
          <p:nvPr/>
        </p:nvSpPr>
        <p:spPr>
          <a:xfrm>
            <a:off x="6588000" y="119700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b) 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4920" y="905040"/>
            <a:ext cx="9074160" cy="2955600"/>
          </a:xfrm>
          <a:prstGeom prst="rect">
            <a:avLst/>
          </a:prstGeom>
          <a:ln w="0">
            <a:noFill/>
          </a:ln>
        </p:spPr>
      </p:pic>
      <p:sp>
        <p:nvSpPr>
          <p:cNvPr id="265" name="Rettangolo 1"/>
          <p:cNvSpPr/>
          <p:nvPr/>
        </p:nvSpPr>
        <p:spPr>
          <a:xfrm>
            <a:off x="395280" y="4594320"/>
            <a:ext cx="85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plan-Meier   plots of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verall survival probability 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from radiosurgery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median survival 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10 month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 and </a:t>
            </a:r>
            <a:r>
              <a:rPr b="1" lang="en-GB" sz="1800" spc="-1" strike="noStrike">
                <a:solidFill>
                  <a:srgbClr val="7598d9"/>
                </a:solidFill>
                <a:latin typeface="Arial"/>
              </a:rPr>
              <a:t>from diagnosis of first brain metastasis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7598d9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median survival </a:t>
            </a:r>
            <a:r>
              <a:rPr b="1" lang="en-GB" sz="1800" spc="-1" strike="noStrike">
                <a:solidFill>
                  <a:srgbClr val="7598d9"/>
                </a:solidFill>
                <a:latin typeface="Arial"/>
              </a:rPr>
              <a:t>24 month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sellaDiTesto 2"/>
          <p:cNvSpPr/>
          <p:nvPr/>
        </p:nvSpPr>
        <p:spPr>
          <a:xfrm>
            <a:off x="2434320" y="1515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sellaDiTesto 4"/>
          <p:cNvSpPr/>
          <p:nvPr/>
        </p:nvSpPr>
        <p:spPr>
          <a:xfrm>
            <a:off x="7271640" y="1484280"/>
            <a:ext cx="33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50920" y="836640"/>
          <a:ext cx="8569080" cy="5578560"/>
        </p:xfrm>
        <a:graphic>
          <a:graphicData uri="http://schemas.openxmlformats.org/drawingml/2006/table">
            <a:tbl>
              <a:tblPr/>
              <a:tblGrid>
                <a:gridCol w="1663560"/>
                <a:gridCol w="1693800"/>
                <a:gridCol w="1208160"/>
                <a:gridCol w="1209600"/>
                <a:gridCol w="1086120"/>
                <a:gridCol w="1707840"/>
              </a:tblGrid>
              <a:tr h="192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sion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sion 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BRT dose (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RS dose (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nterval between WBRT and SRS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umulative B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(RTOG 90-05 suggested highest cumulative 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6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mm ( 0.1 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rpus callo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5 Gy x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10 G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37 G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447.5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(387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6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5 mm (1.6 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rontal l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 Gy x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60 G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87.5 G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7.5 G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387 G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9 mm (12.4 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mporal l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 Gy x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60 G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20 G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80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(255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0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3 mm (18.5 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erebel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Gy x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75 G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161.5 G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36.5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(202 Gy</a:t>
                      </a:r>
                      <a:r>
                        <a:rPr b="1" lang="en-US" sz="2000" spc="-1" strike="noStrike" baseline="-25000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2"/>
          <p:cNvSpPr/>
          <p:nvPr/>
        </p:nvSpPr>
        <p:spPr>
          <a:xfrm>
            <a:off x="468360" y="334440"/>
            <a:ext cx="7991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stics of lesions with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radionecro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administered do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68360" y="1177920"/>
          <a:ext cx="8351640" cy="5586480"/>
        </p:xfrm>
        <a:graphic>
          <a:graphicData uri="http://schemas.openxmlformats.org/drawingml/2006/table">
            <a:tbl>
              <a:tblPr/>
              <a:tblGrid>
                <a:gridCol w="2782800"/>
                <a:gridCol w="2784600"/>
                <a:gridCol w="2784240"/>
              </a:tblGrid>
              <a:tr h="4874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. of patient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hanges versus bas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763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KPS &gt; 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(1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 (7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(1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745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KPS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511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 response by K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 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7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18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FS 0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 (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 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89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FS 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89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 response by N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 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7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1"/>
          <p:cNvSpPr/>
          <p:nvPr/>
        </p:nvSpPr>
        <p:spPr>
          <a:xfrm>
            <a:off x="468360" y="349560"/>
            <a:ext cx="813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Quality of lif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ssessment according to the change in Karnofsky Performance Status (KPS)  and Neurologic Functional Score (NFS) following reirradi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750960" y="692280"/>
            <a:ext cx="7350120" cy="4066920"/>
          </a:xfrm>
          <a:prstGeom prst="rect">
            <a:avLst/>
          </a:prstGeom>
          <a:ln w="0">
            <a:noFill/>
          </a:ln>
        </p:spPr>
      </p:pic>
      <p:sp>
        <p:nvSpPr>
          <p:cNvPr id="273" name="Rettangolo 1"/>
          <p:cNvSpPr/>
          <p:nvPr/>
        </p:nvSpPr>
        <p:spPr>
          <a:xfrm>
            <a:off x="611280" y="5148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lan-Meier plot of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uration of respon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adiosurge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74% at 1 y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920" y="836640"/>
          <a:ext cx="8785080" cy="6057720"/>
        </p:xfrm>
        <a:graphic>
          <a:graphicData uri="http://schemas.openxmlformats.org/drawingml/2006/table">
            <a:tbl>
              <a:tblPr/>
              <a:tblGrid>
                <a:gridCol w="2989080"/>
                <a:gridCol w="1068480"/>
                <a:gridCol w="762120"/>
                <a:gridCol w="1525320"/>
                <a:gridCol w="677880"/>
                <a:gridCol w="1762200"/>
              </a:tblGrid>
              <a:tr h="10285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nivariate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ultivari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year±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 val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zards Rat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95% C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tter 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ssoc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969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RS D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&lt;23 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≥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3 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±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±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15 (1.2-14.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0.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Higher d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R+ 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±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3±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15 (1.2-14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0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Higher for CR+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972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nterval between WBRT and S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≤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&gt;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±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7±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9 (0.55-11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Higher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interval ≤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87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rimary tumor histolog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reast C+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5±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±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0 (0.71-4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Higher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Breast &amp; 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275" name="Rectangle 1"/>
          <p:cNvSpPr/>
          <p:nvPr/>
        </p:nvSpPr>
        <p:spPr>
          <a:xfrm>
            <a:off x="95400" y="2815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Variabl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ignificantly affected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duration of respon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t univariate and multivariate analy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95280" y="808200"/>
          <a:ext cx="8497800" cy="6016320"/>
        </p:xfrm>
        <a:graphic>
          <a:graphicData uri="http://schemas.openxmlformats.org/drawingml/2006/table">
            <a:tbl>
              <a:tblPr/>
              <a:tblGrid>
                <a:gridCol w="1127160"/>
                <a:gridCol w="890640"/>
                <a:gridCol w="1927080"/>
                <a:gridCol w="1335240"/>
                <a:gridCol w="1038240"/>
                <a:gridCol w="1187280"/>
                <a:gridCol w="992160"/>
              </a:tblGrid>
              <a:tr h="14317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ut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. of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BRT doses                      (median value or percent of patie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edian                    SRS do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edian follow- up after SRS,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uration of response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t 1-year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S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edian surviva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after SRS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97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lexander 1995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2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total dos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30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dose per fraction:                         3 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prescribed to the periphery of the le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range,  0.5-8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85%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97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ffman 2001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3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total dose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: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37.5 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dose per fraction:                         2.5 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 Gy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minimum isodose at 50-9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range, 3.9-7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65%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7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el              2001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10 x 3 Gy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6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-22 x 2 Gy (2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ther (1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 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at isocent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range,  1-5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91%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97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hao                          2008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total dose: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37.5 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dian dose per fraction:                         2.5 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 G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(at isocent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range,  0.0-57.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68%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7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urrent 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10 x 3 Gy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4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 x 5 Gy (2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 x 2 Gy (22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 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at isocent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range,  14-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74%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277" name="Rectangle 1"/>
          <p:cNvSpPr/>
          <p:nvPr/>
        </p:nvSpPr>
        <p:spPr>
          <a:xfrm>
            <a:off x="395280" y="153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 of selected series evaluating treatment schedules and outcomes of patients undergoing reirradiation with SRS after WB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ttangolo 1"/>
          <p:cNvSpPr/>
          <p:nvPr/>
        </p:nvSpPr>
        <p:spPr>
          <a:xfrm>
            <a:off x="324000" y="1494000"/>
            <a:ext cx="8496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is trial is retrospective and the number of recruited patients is not so large,  it can result of interest considering that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indings are de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at time of the analysis all patients had died, and that patien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QoL was al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evalu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ata endorse the importance  of the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relationship between tumor diameter and administered d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give a validation to SRS maximum tolerated doses suggested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TOG 90-05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urviv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atients after SRS was rather high (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edian, 10 mon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the incidence of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radionecros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ssociated neurologic relevant symptoms  limited to a minority of cases (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irradiation of BM with SRS resul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asible and eff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general good patient QoL. A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orrect patient s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n accurate evaluation of the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umulative irradiation d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ugg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ttangolo 2"/>
          <p:cNvSpPr/>
          <p:nvPr/>
        </p:nvSpPr>
        <p:spPr>
          <a:xfrm>
            <a:off x="468360" y="333360"/>
            <a:ext cx="82072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irradiation of brain metastases with radiosurg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LU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68979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50920" y="3141720"/>
            <a:ext cx="82818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f WBRT is used, is there an optimal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dosing/fractionation schedul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Level 1 Class I evid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that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tered dose/fractionation sched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BRT do not result in significant differenc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 survi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cognitive outco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ared with ‘‘standard’’ WBRT dose/fractionation (30 Gy in 10 fractions or a biologically effective dose (BED) of 39 G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arrotondato 2"/>
          <p:cNvSpPr/>
          <p:nvPr/>
        </p:nvSpPr>
        <p:spPr>
          <a:xfrm>
            <a:off x="1476360" y="1413000"/>
            <a:ext cx="3311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Trabocco"/>
          <p:cNvPicPr/>
          <p:nvPr/>
        </p:nvPicPr>
        <p:blipFill>
          <a:blip r:embed="rId1"/>
          <a:stretch/>
        </p:blipFill>
        <p:spPr>
          <a:xfrm>
            <a:off x="179280" y="1603440"/>
            <a:ext cx="6264360" cy="41860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4"/>
          <p:cNvSpPr/>
          <p:nvPr/>
        </p:nvSpPr>
        <p:spPr>
          <a:xfrm>
            <a:off x="6588000" y="1484280"/>
            <a:ext cx="2479680" cy="4543560"/>
          </a:xfrm>
          <a:prstGeom prst="smileyFace">
            <a:avLst>
              <a:gd name="adj" fmla="val 9282"/>
            </a:avLst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659640" y="342900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e8637"/>
                </a:solidFill>
                <a:latin typeface="Monotype Corsiva"/>
              </a:rPr>
              <a:t>Grazie p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e8637"/>
                </a:solidFill>
                <a:latin typeface="Monotype Corsiva"/>
              </a:rPr>
              <a:t>l’atten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WB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17600" y="129708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Arial Unicode MS"/>
              </a:rPr>
              <a:t>Which sched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76040" y="236232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hort-cours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→ 30 Gy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→ 20 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03928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tandard fractio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2-2.5 Gy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→ 40-50 Gy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57120" y="3645000"/>
            <a:ext cx="52614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575f6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 differerence in “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%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and 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duratio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575f6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pofractionatio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ess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575f6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igh single dose (≥10 Gy)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→ higher 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28600" y="3048120"/>
            <a:ext cx="609480" cy="2133360"/>
          </a:xfrm>
          <a:custGeom>
            <a:avLst/>
            <a:gdLst>
              <a:gd name="textAreaLeft" fmla="*/ 81360 w 609480"/>
              <a:gd name="textAreaRight" fmla="*/ 528120 w 609480"/>
              <a:gd name="textAreaTop" fmla="*/ 390960 h 2133360"/>
              <a:gd name="textAreaBottom" fmla="*/ 155268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1760"/>
                </a:lnTo>
                <a:arcTo wR="21600" hR="7920" stAng="10800000" swAng="-2762585"/>
                <a:lnTo>
                  <a:pt x="14400" y="21147"/>
                </a:lnTo>
                <a:lnTo>
                  <a:pt x="21600" y="17760"/>
                </a:lnTo>
                <a:lnTo>
                  <a:pt x="14400" y="13467"/>
                </a:lnTo>
                <a:lnTo>
                  <a:pt x="14400" y="15387"/>
                </a:lnTo>
                <a:arcTo wR="21600" hR="7920" stAng="8037415" swAng="2448489"/>
                <a:lnTo>
                  <a:pt x="644" y="9840"/>
                </a:lnTo>
                <a:arcTo wR="21600" hR="7920" stAng="-10485904" swAng="5085904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314096"/>
                <a:lnTo>
                  <a:pt x="644" y="9840"/>
                </a:lnTo>
                <a:arcTo wR="21600" hR="7920" stAng="-10485904" swAng="5085904"/>
                <a:close/>
              </a:path>
            </a:pathLst>
          </a:cu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8381880" y="2971800"/>
            <a:ext cx="533520" cy="2133720"/>
          </a:xfrm>
          <a:custGeom>
            <a:avLst/>
            <a:gdLst>
              <a:gd name="textAreaLeft" fmla="*/ 71280 w 533520"/>
              <a:gd name="textAreaRight" fmla="*/ 462240 w 533520"/>
              <a:gd name="textAreaTop" fmla="*/ 390960 h 2133720"/>
              <a:gd name="textAreaBottom" fmla="*/ 15530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20" stAng="-5400000" swAng="5400000"/>
                <a:lnTo>
                  <a:pt x="21600" y="11760"/>
                </a:lnTo>
                <a:arcTo wR="21600" hR="7920" stAng="0" swAng="2762585"/>
                <a:lnTo>
                  <a:pt x="7200" y="21147"/>
                </a:lnTo>
                <a:lnTo>
                  <a:pt x="0" y="17760"/>
                </a:lnTo>
                <a:lnTo>
                  <a:pt x="7200" y="13467"/>
                </a:lnTo>
                <a:lnTo>
                  <a:pt x="7200" y="15387"/>
                </a:lnTo>
                <a:arcTo wR="21600" hR="7920" stAng="2762585" swAng="-2448489"/>
                <a:lnTo>
                  <a:pt x="20956" y="9840"/>
                </a:lnTo>
                <a:arcTo wR="21600" hR="7920" stAng="-314096" swAng="-5085904"/>
                <a:close/>
              </a:path>
              <a:path fill="darkenLess" w="21600" h="21600">
                <a:moveTo>
                  <a:pt x="0" y="0"/>
                </a:moveTo>
                <a:arcTo wR="21600" hR="7920" stAng="-5400000" swAng="5400000"/>
                <a:lnTo>
                  <a:pt x="21600" y="11760"/>
                </a:lnTo>
                <a:arcTo wR="21600" hR="7920" stAng="0" swAng="-314096"/>
                <a:lnTo>
                  <a:pt x="20956" y="9840"/>
                </a:lnTo>
                <a:arcTo wR="21600" hR="7920" stAng="-314096" swAng="-5085904"/>
                <a:close/>
              </a:path>
            </a:pathLst>
          </a:cu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066680" y="2362320"/>
            <a:ext cx="34419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876920" y="2362320"/>
            <a:ext cx="3352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143000" y="3657600"/>
            <a:ext cx="7086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501080" y="594360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RTOG, </a:t>
            </a:r>
            <a:r>
              <a:rPr b="1" i="1" lang="it-IT" sz="1800" spc="-1" strike="noStrike">
                <a:solidFill>
                  <a:srgbClr val="000000"/>
                </a:solidFill>
                <a:latin typeface="Bookman Old Style"/>
              </a:rPr>
              <a:t>Int</a:t>
            </a:r>
            <a:r>
              <a:rPr b="1" i="1" lang="it-IT" sz="1600" spc="-1" strike="noStrike">
                <a:solidFill>
                  <a:srgbClr val="000000"/>
                </a:solidFill>
                <a:latin typeface="Bookman Old Style"/>
              </a:rPr>
              <a:t> J Radiat Oncol Biol Phys, 198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6897960" cy="245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50920" y="3141720"/>
            <a:ext cx="82818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f WBRT is used, what impact does tumor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histopathology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have on treatment outco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extremely limited data available, there is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nsufficient ev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upport the choice of any particular dose/fractionation regimen based on histopath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arrotondato 4"/>
          <p:cNvSpPr/>
          <p:nvPr/>
        </p:nvSpPr>
        <p:spPr>
          <a:xfrm>
            <a:off x="1476360" y="1413000"/>
            <a:ext cx="3311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27680" cy="3286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69960" y="4889520"/>
            <a:ext cx="80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 receiving WBI alone appear to benefit  from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BI doses &gt;30 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such a benefit is limited to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RPA class 1 or 2 pati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772200" y="4149720"/>
            <a:ext cx="1500480" cy="3682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08720" y="476280"/>
            <a:ext cx="1295640" cy="108108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8029440" y="549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826920" y="3284640"/>
            <a:ext cx="31687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45:22Z</dcterms:created>
  <dc:creator>Fabio Trippa</dc:creator>
  <dc:description/>
  <dc:language>en-US</dc:language>
  <cp:lastModifiedBy>maranzano</cp:lastModifiedBy>
  <dcterms:modified xsi:type="dcterms:W3CDTF">2011-02-16T15:47:29Z</dcterms:modified>
  <cp:revision>215</cp:revision>
  <dc:subject/>
  <dc:title>Diapositiva 1</dc:title>
</cp:coreProperties>
</file>