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10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7.png" ContentType="image/png"/>
  <Override PartName="/ppt/media/image35.png" ContentType="image/png"/>
  <Override PartName="/ppt/media/image33.png" ContentType="image/png"/>
  <Override PartName="/ppt/media/image47.png" ContentType="image/png"/>
  <Override PartName="/ppt/media/image10.png" ContentType="image/png"/>
  <Override PartName="/ppt/media/image5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7.wmf" ContentType="image/x-wmf"/>
  <Override PartName="/ppt/media/image113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30.png" ContentType="image/png"/>
  <Override PartName="/ppt/media/image95.png" ContentType="image/png"/>
  <Override PartName="/ppt/media/image74.png" ContentType="image/png"/>
  <Override PartName="/ppt/media/image75.png" ContentType="image/png"/>
  <Override PartName="/ppt/media/image101.jpeg" ContentType="image/jpeg"/>
  <Override PartName="/ppt/media/image76.png" ContentType="image/png"/>
  <Override PartName="/ppt/media/image78.png" ContentType="image/png"/>
  <Override PartName="/ppt/media/image79.png" ContentType="image/png"/>
  <Override PartName="/ppt/media/image102.png" ContentType="image/png"/>
  <Override PartName="/ppt/media/image73.wmf" ContentType="image/x-wmf"/>
  <Override PartName="/ppt/media/image88.png" ContentType="image/png"/>
  <Override PartName="/ppt/media/image115.png" ContentType="image/png"/>
  <Override PartName="/ppt/media/image71.png" ContentType="image/png"/>
  <Override PartName="/ppt/media/image103.png" ContentType="image/png"/>
  <Override PartName="/ppt/media/image96.png" ContentType="image/png"/>
  <Override PartName="/ppt/media/image72.png" ContentType="image/png"/>
  <Override PartName="/ppt/media/image112.wmf" ContentType="image/x-wmf"/>
  <Override PartName="/ppt/media/image109.png" ContentType="image/png"/>
  <Override PartName="/ppt/media/image65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1.wmf" ContentType="image/x-wmf"/>
  <Override PartName="/ppt/media/image64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7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70.png" ContentType="image/png"/>
  <Override PartName="/ppt/media/image93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89.png" ContentType="image/png"/>
  <Override PartName="/ppt/media/image87.png" ContentType="image/png"/>
  <Override PartName="/ppt/media/image104.jpeg" ContentType="image/jpe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114.wmf" ContentType="image/x-wmf"/>
  <Override PartName="/ppt/media/image60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24.png" ContentType="image/png"/>
  <Override PartName="/ppt/media/image80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07D-845C-454D-BBFE-199C1CA700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D027-150E-428E-8DE6-C6F5BDD6FB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804-68C9-46FB-944C-FC8EA417AA3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A360-44EE-4EA9-8966-4EEF3A5E10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FE8-AC6C-4FA8-B663-D3065B340D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6A7-9D9A-483B-A5AA-54E85304992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5A01-2906-49BE-8B17-8544B3C86B2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F2E-9188-4908-9FBE-6533B440687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0E31-CCD9-48DF-BE9F-64DB54FD191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908-B176-45CB-B18D-18078EDFA77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E43-E422-4C0D-B614-541F7BEC14E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C52-D974-4A00-B593-30C38B4C19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395-A401-462A-AB12-D9B726D824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3F4-79D3-4E77-852E-849DC81BA79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5F5-E958-4652-8D17-9EEB6B50638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E38-A542-48A4-827B-83E9019F15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CDE6-B3B3-4D56-AAEE-FA05542D1EB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64B-071A-4AA0-9B21-B2FBE479AE7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3EC-EF99-4C2D-8D10-C38A2E6CCBA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1AD-7F1C-4D00-997D-97C4F2A5231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CB96-F22D-415B-996B-680B6D4CC9E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A32-E260-4CD5-AB48-810F5CAB8A8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660-84D2-43B5-906C-A5AF63B2D1A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DB8-2843-489E-A220-C912C338762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649-8598-488E-9BC0-7DFD041DCDB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017-28F0-4426-983F-5E218C7070C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516-EC95-4285-8BB0-B438DBD0A47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506-BD74-48FB-AA12-0543C63FDE3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86B2-5445-40FA-8E11-385C00F9365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99C-41E9-4D5E-B6C0-A2A7780474B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EFFA-771A-4113-A751-0449FDD9558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795-FBAC-490E-AAB2-99F7FFD4EAF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C2C-B9F1-4033-8723-FC6188CE25E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AE4-7EAE-4DDF-A452-8C0B1AB67D6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14A-28C1-4C5F-860C-303A7FDB276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1BAC-A773-4FDB-AE88-19A676533BA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183D-9034-4C49-BE67-3E6312A5931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E84-B102-491B-8563-0B5E469731E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26D-3B33-4D57-81D5-9EE4256FDF2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164-8EB4-4931-BAE0-FEB3AD6016E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92C-2958-4795-B963-CE8EE727458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3DD-EDCF-4CB3-81C0-1A1728E9244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BC1-A6A9-4AF1-8852-5DD129BDBDC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3453-761C-4634-96D6-698DAF76D6A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4FD-6786-4030-9A1B-E42B451F6C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6DD6-18FB-40AC-8FEA-5C0098000A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E75E-4A5C-43A3-94CC-CF7CBB8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6BB3-4413-481E-B5BE-16EACB8F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416F-F22D-4EF6-9620-14735022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6E01-8554-495E-9167-74C9A0DD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47BD-4C6F-4C69-8160-7D297F22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FFD-A3E8-49F9-8159-937EE4C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87C-FD40-461D-BE6E-D5EDE357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BB1-85D4-40BB-9597-4095D92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83E-81E1-4596-A126-24950631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4809-534F-4642-A25B-461C858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B51-5F6C-43BD-A739-5FE3851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4726-5EB4-4829-865E-67227F7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2782-1805-4649-9579-820EF6D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7EE2-FB18-42A0-8E93-FCC568F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B226-076E-45AE-B4E1-0C95830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78E-8943-4DBB-96F2-6B4162E1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6AA-ADB2-4A70-AB37-2BF37DC1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612A-00BC-48CA-9CB2-AD9C444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6AC4-DD02-475B-A6C7-6BADCB3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A134-C62E-41E9-A305-09AB316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AB01-AA1E-4E29-B847-6346EE6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CE73-0716-421B-A287-0DED45F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6D17-3EE3-4627-A571-F7E3B06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CE4A-561B-43E9-9650-3935C9D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751-8662-4426-AEC8-C5E235A6B3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1F3-5BF9-48AC-89E4-307C35BC75D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3.wmf"/><Relationship Id="rId5" Type="http://schemas.openxmlformats.org/officeDocument/2006/relationships/image" Target="../media/image7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png"/><Relationship Id="rId5" Type="http://schemas.openxmlformats.org/officeDocument/2006/relationships/image" Target="../media/image101.jpeg"/><Relationship Id="rId6" Type="http://schemas.openxmlformats.org/officeDocument/2006/relationships/image" Target="../media/image103.png"/><Relationship Id="rId7" Type="http://schemas.openxmlformats.org/officeDocument/2006/relationships/image" Target="../media/image10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siuro.i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3.png"/><Relationship Id="rId3" Type="http://schemas.openxmlformats.org/officeDocument/2006/relationships/image" Target="../media/image113.png"/><Relationship Id="rId4" Type="http://schemas.openxmlformats.org/officeDocument/2006/relationships/image" Target="../media/image113.png"/><Relationship Id="rId5" Type="http://schemas.openxmlformats.org/officeDocument/2006/relationships/image" Target="../media/image113.png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aramond"/>
              </a:rPr>
              <a:t>SORVEGLIANZA ATTIVA E CANCRO DELLA PROSTA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458136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Roberto Sanseverin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5e5ff"/>
                </a:solidFill>
                <a:latin typeface="Garamond"/>
              </a:rPr>
              <a:t>con la collaborazione di Giorgio Napod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e5ff"/>
                </a:solidFill>
                <a:latin typeface="Garamond"/>
              </a:rPr>
              <a:t>U.O.C. di Urologia – Ospedale Umberto I,  Nocera (Salern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1192320" y="2254320"/>
            <a:ext cx="1579320" cy="1606320"/>
            <a:chOff x="1192320" y="2254320"/>
            <a:chExt cx="1579320" cy="1606320"/>
          </a:xfrm>
        </p:grpSpPr>
        <p:sp>
          <p:nvSpPr>
            <p:cNvPr id="110" name="Rectangle 5"/>
            <p:cNvSpPr/>
            <p:nvPr/>
          </p:nvSpPr>
          <p:spPr>
            <a:xfrm>
              <a:off x="1192320" y="2254320"/>
              <a:ext cx="1579320" cy="160632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335960" y="2575800"/>
              <a:ext cx="1226160" cy="1098720"/>
              <a:chOff x="1335960" y="2575800"/>
              <a:chExt cx="1226160" cy="1098720"/>
            </a:xfrm>
          </p:grpSpPr>
          <p:sp>
            <p:nvSpPr>
              <p:cNvPr id="112" name="WordArt 7"/>
              <p:cNvSpPr txBox="1"/>
              <p:nvPr/>
            </p:nvSpPr>
            <p:spPr>
              <a:xfrm>
                <a:off x="1335960" y="3465720"/>
                <a:ext cx="1226160" cy="208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noFill/>
                    <a:latin typeface="Garamond"/>
                  </a:rPr>
                  <a:t>U.O.C. UROLOGIA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  <a:ea typeface="Garamond"/>
                </a:endParaRPr>
              </a:p>
            </p:txBody>
          </p:sp>
          <p:sp>
            <p:nvSpPr>
              <p:cNvPr id="113" name="WordArt 8"/>
              <p:cNvSpPr txBox="1"/>
              <p:nvPr/>
            </p:nvSpPr>
            <p:spPr>
              <a:xfrm>
                <a:off x="1335960" y="2575800"/>
                <a:ext cx="1224720" cy="628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698132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noFill/>
                    <a:latin typeface="Garamond"/>
                  </a:rPr>
                  <a:t>OSPEDALE NOCERA INFERIORE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  <a:ea typeface="Garamond"/>
                </a:endParaRPr>
              </a:p>
            </p:txBody>
          </p:sp>
          <p:pic>
            <p:nvPicPr>
              <p:cNvPr id="114" name="Picture 9" descr="Immagine2"/>
              <p:cNvPicPr/>
              <p:nvPr/>
            </p:nvPicPr>
            <p:blipFill>
              <a:blip r:embed="rId1"/>
              <a:stretch/>
            </p:blipFill>
            <p:spPr>
              <a:xfrm>
                <a:off x="1529280" y="2680560"/>
                <a:ext cx="847440" cy="8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5" name="Picture 13" descr=""/>
          <p:cNvPicPr/>
          <p:nvPr/>
        </p:nvPicPr>
        <p:blipFill>
          <a:blip r:embed="rId2"/>
          <a:stretch/>
        </p:blipFill>
        <p:spPr>
          <a:xfrm>
            <a:off x="5796000" y="2781360"/>
            <a:ext cx="2733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Table"/>
          <p:cNvPicPr/>
          <p:nvPr/>
        </p:nvPicPr>
        <p:blipFill>
          <a:blip r:embed="rId1"/>
          <a:stretch/>
        </p:blipFill>
        <p:spPr>
          <a:xfrm>
            <a:off x="2052720" y="1700280"/>
            <a:ext cx="6840360" cy="454320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152" name="Text Box 3"/>
          <p:cNvSpPr/>
          <p:nvPr/>
        </p:nvSpPr>
        <p:spPr>
          <a:xfrm>
            <a:off x="5649840" y="119700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Garamond"/>
              </a:rPr>
              <a:t>N Engl J Med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: 2005;352(19):1977-8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403280" y="44280"/>
            <a:ext cx="5977080" cy="1216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-100440" y="1512720"/>
            <a:ext cx="193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e5ff"/>
                </a:solidFill>
                <a:latin typeface="Garamond"/>
              </a:rPr>
              <a:t>695 p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e5ff"/>
                </a:solidFill>
                <a:latin typeface="Garamond"/>
              </a:rPr>
              <a:t>Psa &lt;50ng/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e5ff"/>
                </a:solidFill>
                <a:latin typeface="Garamond"/>
              </a:rPr>
              <a:t>T1-T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Ov. Mortal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Spec. Mortal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Met 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Local prog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H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Substantial difference between </a:t>
            </a:r>
            <a:r>
              <a:rPr b="1" i="1" lang="it-IT" sz="2800" spc="-1" strike="noStrike">
                <a:solidFill>
                  <a:srgbClr val="ffffff"/>
                </a:solidFill>
                <a:latin typeface="Garamond"/>
              </a:rPr>
              <a:t>Watchful Waiting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i="1" lang="it-IT" sz="2800" spc="-1" strike="noStrike">
                <a:solidFill>
                  <a:srgbClr val="ffffff"/>
                </a:solidFill>
                <a:latin typeface="Garamond"/>
              </a:rPr>
              <a:t>Active Surveil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Garamond"/>
              </a:rPr>
              <a:t>W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pre PSA e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conservative Tx til M+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palliative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Garamond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selection according to low ri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aggressive specific follow-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selected delayed definitive T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8317080" cy="925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257960" y="6435720"/>
            <a:ext cx="18511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AREAS OF INTERES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General consid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Problems in patients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atient acceptance and psychological bu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linical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929120" y="190440"/>
            <a:ext cx="4179960" cy="6551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98280" y="69228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PATIENT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599120" y="429264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2009; 55: 132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33480" y="3478320"/>
            <a:ext cx="4825800" cy="814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1881360" y="1944720"/>
            <a:ext cx="1177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47160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PATIENT SELEC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16" descr=""/>
          <p:cNvPicPr/>
          <p:nvPr/>
        </p:nvPicPr>
        <p:blipFill>
          <a:blip r:embed="rId1"/>
          <a:stretch/>
        </p:blipFill>
        <p:spPr>
          <a:xfrm>
            <a:off x="-6480" y="1989000"/>
            <a:ext cx="914400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5"/>
          <p:cNvGrpSpPr/>
          <p:nvPr/>
        </p:nvGrpSpPr>
        <p:grpSpPr>
          <a:xfrm>
            <a:off x="6804000" y="6308640"/>
            <a:ext cx="2336760" cy="534960"/>
            <a:chOff x="6804000" y="6308640"/>
            <a:chExt cx="2336760" cy="534960"/>
          </a:xfrm>
        </p:grpSpPr>
        <p:pic>
          <p:nvPicPr>
            <p:cNvPr id="168" name="Picture 13" descr=""/>
            <p:cNvPicPr/>
            <p:nvPr/>
          </p:nvPicPr>
          <p:blipFill>
            <a:blip r:embed="rId2"/>
            <a:stretch/>
          </p:blipFill>
          <p:spPr>
            <a:xfrm>
              <a:off x="6804000" y="6534000"/>
              <a:ext cx="233676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4" descr=""/>
            <p:cNvPicPr/>
            <p:nvPr/>
          </p:nvPicPr>
          <p:blipFill>
            <a:blip r:embed="rId3"/>
            <a:stretch/>
          </p:blipFill>
          <p:spPr>
            <a:xfrm>
              <a:off x="6808680" y="6308640"/>
              <a:ext cx="218916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13" descr="j urology"/>
          <p:cNvPicPr/>
          <p:nvPr/>
        </p:nvPicPr>
        <p:blipFill>
          <a:blip r:embed="rId4"/>
          <a:stretch/>
        </p:blipFill>
        <p:spPr>
          <a:xfrm>
            <a:off x="539640" y="189000"/>
            <a:ext cx="858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87480"/>
            <a:ext cx="6257880" cy="172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7078680" y="6421320"/>
            <a:ext cx="1957320" cy="3924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9"/>
          <p:cNvGrpSpPr/>
          <p:nvPr/>
        </p:nvGrpSpPr>
        <p:grpSpPr>
          <a:xfrm>
            <a:off x="250920" y="2205000"/>
            <a:ext cx="6480000" cy="3067200"/>
            <a:chOff x="250920" y="2205000"/>
            <a:chExt cx="6480000" cy="3067200"/>
          </a:xfrm>
        </p:grpSpPr>
        <p:pic>
          <p:nvPicPr>
            <p:cNvPr id="174" name="Picture 7" descr=""/>
            <p:cNvPicPr/>
            <p:nvPr/>
          </p:nvPicPr>
          <p:blipFill>
            <a:blip r:embed="rId3"/>
            <a:stretch/>
          </p:blipFill>
          <p:spPr>
            <a:xfrm>
              <a:off x="250920" y="2205000"/>
              <a:ext cx="648000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val 8"/>
            <p:cNvSpPr/>
            <p:nvPr/>
          </p:nvSpPr>
          <p:spPr>
            <a:xfrm>
              <a:off x="2441520" y="2722680"/>
              <a:ext cx="5745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5638680" y="3832200"/>
              <a:ext cx="5749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Oval 18"/>
            <p:cNvSpPr/>
            <p:nvPr/>
          </p:nvSpPr>
          <p:spPr>
            <a:xfrm>
              <a:off x="2413080" y="4911840"/>
              <a:ext cx="5745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0" y="3165480"/>
            <a:ext cx="9144000" cy="3000240"/>
            <a:chOff x="0" y="3165480"/>
            <a:chExt cx="9144000" cy="3000240"/>
          </a:xfrm>
        </p:grpSpPr>
        <p:sp>
          <p:nvSpPr>
            <p:cNvPr id="179" name="Oval 21"/>
            <p:cNvSpPr/>
            <p:nvPr/>
          </p:nvSpPr>
          <p:spPr>
            <a:xfrm>
              <a:off x="5653080" y="3981240"/>
              <a:ext cx="574560" cy="360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Oval 22"/>
            <p:cNvSpPr/>
            <p:nvPr/>
          </p:nvSpPr>
          <p:spPr>
            <a:xfrm>
              <a:off x="2443320" y="5032080"/>
              <a:ext cx="574560" cy="360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81" name="Picture 23" descr=""/>
            <p:cNvPicPr/>
            <p:nvPr/>
          </p:nvPicPr>
          <p:blipFill>
            <a:blip r:embed="rId4"/>
            <a:stretch/>
          </p:blipFill>
          <p:spPr>
            <a:xfrm>
              <a:off x="0" y="3165480"/>
              <a:ext cx="914400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24"/>
            <p:cNvSpPr/>
            <p:nvPr/>
          </p:nvSpPr>
          <p:spPr>
            <a:xfrm>
              <a:off x="5076720" y="4038480"/>
              <a:ext cx="2808360" cy="431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0" y="4873320"/>
              <a:ext cx="826920" cy="504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7740720" y="4946400"/>
              <a:ext cx="1224000" cy="431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28440" y="5321160"/>
              <a:ext cx="4067280" cy="431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86" name="Picture 19" descr="urology"/>
          <p:cNvPicPr/>
          <p:nvPr/>
        </p:nvPicPr>
        <p:blipFill>
          <a:blip r:embed="rId5"/>
          <a:stretch/>
        </p:blipFill>
        <p:spPr>
          <a:xfrm>
            <a:off x="776160" y="44280"/>
            <a:ext cx="1347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4060 pati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3-4% Gleason score 8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16-19% + surgical marg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15-18% extracapsular ext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3-5% Seminal Vesicle inva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0.4-1% Lymphonode metasta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84-89% 5 year progression free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7078680" y="6421320"/>
            <a:ext cx="1957320" cy="392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2124000" y="87480"/>
            <a:ext cx="6257880" cy="17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urology"/>
          <p:cNvPicPr/>
          <p:nvPr/>
        </p:nvPicPr>
        <p:blipFill>
          <a:blip r:embed="rId3"/>
          <a:stretch/>
        </p:blipFill>
        <p:spPr>
          <a:xfrm>
            <a:off x="776160" y="44280"/>
            <a:ext cx="1347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1476360" y="44280"/>
            <a:ext cx="7358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5"/>
          <p:cNvGrpSpPr/>
          <p:nvPr/>
        </p:nvGrpSpPr>
        <p:grpSpPr>
          <a:xfrm>
            <a:off x="6843600" y="6350040"/>
            <a:ext cx="2336760" cy="534960"/>
            <a:chOff x="6843600" y="6350040"/>
            <a:chExt cx="2336760" cy="534960"/>
          </a:xfrm>
        </p:grpSpPr>
        <p:pic>
          <p:nvPicPr>
            <p:cNvPr id="193" name="Picture 13" descr=""/>
            <p:cNvPicPr/>
            <p:nvPr/>
          </p:nvPicPr>
          <p:blipFill>
            <a:blip r:embed="rId2"/>
            <a:stretch/>
          </p:blipFill>
          <p:spPr>
            <a:xfrm>
              <a:off x="6843600" y="6575400"/>
              <a:ext cx="233676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4" descr=""/>
            <p:cNvPicPr/>
            <p:nvPr/>
          </p:nvPicPr>
          <p:blipFill>
            <a:blip r:embed="rId3"/>
            <a:stretch/>
          </p:blipFill>
          <p:spPr>
            <a:xfrm>
              <a:off x="6848280" y="6350040"/>
              <a:ext cx="21891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2"/>
          <p:cNvGrpSpPr/>
          <p:nvPr/>
        </p:nvGrpSpPr>
        <p:grpSpPr>
          <a:xfrm>
            <a:off x="0" y="1557360"/>
            <a:ext cx="9144000" cy="2376360"/>
            <a:chOff x="0" y="1557360"/>
            <a:chExt cx="9144000" cy="2376360"/>
          </a:xfrm>
        </p:grpSpPr>
        <p:pic>
          <p:nvPicPr>
            <p:cNvPr id="196" name="Picture 16" descr=""/>
            <p:cNvPicPr/>
            <p:nvPr/>
          </p:nvPicPr>
          <p:blipFill>
            <a:blip r:embed="rId4"/>
            <a:stretch/>
          </p:blipFill>
          <p:spPr>
            <a:xfrm>
              <a:off x="0" y="1557360"/>
              <a:ext cx="9144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17"/>
            <p:cNvSpPr/>
            <p:nvPr/>
          </p:nvSpPr>
          <p:spPr>
            <a:xfrm>
              <a:off x="25560" y="3162240"/>
              <a:ext cx="8964360" cy="542880"/>
            </a:xfrm>
            <a:prstGeom prst="rect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8" name="Text Box 20"/>
          <p:cNvSpPr/>
          <p:nvPr/>
        </p:nvSpPr>
        <p:spPr>
          <a:xfrm>
            <a:off x="-213480" y="4076640"/>
            <a:ext cx="398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dddddd"/>
                </a:solidFill>
                <a:latin typeface="Garamond"/>
              </a:rPr>
              <a:t>2837 pts RP (from Capsure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1430280" y="4365720"/>
            <a:ext cx="62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cc00"/>
                </a:solidFill>
                <a:latin typeface="Garamond"/>
              </a:rPr>
              <a:t>UCSF    vs     UCSF + J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ddddd"/>
                </a:solidFill>
                <a:latin typeface="Garamond"/>
              </a:rPr>
              <a:t>Pts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1375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  1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ddddd"/>
                </a:solidFill>
                <a:latin typeface="Garamond"/>
              </a:rPr>
              <a:t>Upgrading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20%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  27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ddddd"/>
                </a:solidFill>
                <a:latin typeface="Garamond"/>
              </a:rPr>
              <a:t>Upstaging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6%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  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ddddd"/>
                </a:solidFill>
                <a:latin typeface="Garamond"/>
              </a:rPr>
              <a:t>5y- Bioch rec free</a:t>
            </a:r>
            <a:r>
              <a:rPr b="1" lang="it-IT" sz="2400" spc="-1" strike="noStrike">
                <a:solidFill>
                  <a:srgbClr val="ddddd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90%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  9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13" descr="j urology"/>
          <p:cNvPicPr/>
          <p:nvPr/>
        </p:nvPicPr>
        <p:blipFill>
          <a:blip r:embed="rId5"/>
          <a:stretch/>
        </p:blipFill>
        <p:spPr>
          <a:xfrm>
            <a:off x="539640" y="44280"/>
            <a:ext cx="85896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PATIENT SELEC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Clinically insignificant Prostate Can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SA ≤ 10 ng/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SA density &lt; 0.15 ng/ml/c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Gleason 6 (absence of pattern 4 or 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T1c or T2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Not more than 2 cores involved (8-12 sampl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Not more than 20-50% of core invol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Centralization of Pathological Exa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00000" y="2595600"/>
            <a:ext cx="6985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900" spc="-1" strike="noStrike">
                <a:solidFill>
                  <a:srgbClr val="ff0000"/>
                </a:solidFill>
                <a:latin typeface="Garamond"/>
              </a:rPr>
              <a:t>25% error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915600" y="5987880"/>
            <a:ext cx="236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Garamond"/>
              </a:rPr>
              <a:t>Cancer 2008, 112: 16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Garamond"/>
              </a:rPr>
              <a:t>J Urol 2007, 178: S14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Garamond"/>
              </a:rPr>
              <a:t>J Urol 2008, 180: 133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2400" y="3860640"/>
            <a:ext cx="8913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6 cores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146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75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    216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-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167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-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122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12 cores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313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31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     255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79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204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64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172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3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21 cores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385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6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         236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140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  196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110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     183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/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1650960" y="0"/>
            <a:ext cx="7039080" cy="147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482760" y="0"/>
            <a:ext cx="1179360" cy="14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1944720" cy="117972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1116000" y="2946240"/>
            <a:ext cx="7885080" cy="1203120"/>
            <a:chOff x="1116000" y="2946240"/>
            <a:chExt cx="7885080" cy="1203120"/>
          </a:xfrm>
        </p:grpSpPr>
        <p:pic>
          <p:nvPicPr>
            <p:cNvPr id="210" name="Picture 11" descr=""/>
            <p:cNvPicPr/>
            <p:nvPr/>
          </p:nvPicPr>
          <p:blipFill>
            <a:blip r:embed="rId4"/>
            <a:stretch/>
          </p:blipFill>
          <p:spPr>
            <a:xfrm>
              <a:off x="2050920" y="2946240"/>
              <a:ext cx="695016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3" descr=""/>
            <p:cNvPicPr/>
            <p:nvPr/>
          </p:nvPicPr>
          <p:blipFill>
            <a:blip r:embed="rId5"/>
            <a:stretch/>
          </p:blipFill>
          <p:spPr>
            <a:xfrm>
              <a:off x="1116000" y="3835080"/>
              <a:ext cx="136836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4" descr=""/>
            <p:cNvPicPr/>
            <p:nvPr/>
          </p:nvPicPr>
          <p:blipFill>
            <a:blip r:embed="rId6"/>
            <a:stretch/>
          </p:blipFill>
          <p:spPr>
            <a:xfrm>
              <a:off x="1116000" y="2982600"/>
              <a:ext cx="952560" cy="8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16"/>
          <p:cNvSpPr/>
          <p:nvPr/>
        </p:nvSpPr>
        <p:spPr>
          <a:xfrm>
            <a:off x="344520" y="6308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n: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eligible for 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7"/>
          <p:cNvSpPr/>
          <p:nvPr/>
        </p:nvSpPr>
        <p:spPr>
          <a:xfrm rot="5400000">
            <a:off x="2338920" y="1917000"/>
            <a:ext cx="865080" cy="863640"/>
          </a:xfrm>
          <a:custGeom>
            <a:avLst/>
            <a:gdLst>
              <a:gd name="textAreaLeft" fmla="*/ 497880 w 865080"/>
              <a:gd name="textAreaRight" fmla="*/ 730080 w 865080"/>
              <a:gd name="textAreaTop" fmla="*/ 116280 h 863640"/>
              <a:gd name="textAreaBottom" fmla="*/ 3697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7371720" y="114768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514"/>
                </a:solidFill>
                <a:latin typeface="Garamond"/>
              </a:rPr>
              <a:t>2009; 56: 891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REVIEW OF THE LITERATUR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815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33 Articles from 2008 to 2010 (PubM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24 Review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9 Abstracts EAU 2010 (Poster Session 38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18 Abstracts AUA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lenary Session AUA 2010 (L Klotz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3514680" cy="53625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2"/>
          <p:cNvGrpSpPr/>
          <p:nvPr/>
        </p:nvGrpSpPr>
        <p:grpSpPr>
          <a:xfrm>
            <a:off x="3995640" y="4078440"/>
            <a:ext cx="4969080" cy="2590560"/>
            <a:chOff x="3995640" y="4078440"/>
            <a:chExt cx="4969080" cy="2590560"/>
          </a:xfrm>
        </p:grpSpPr>
        <p:pic>
          <p:nvPicPr>
            <p:cNvPr id="218" name="Picture 6" descr=""/>
            <p:cNvPicPr/>
            <p:nvPr/>
          </p:nvPicPr>
          <p:blipFill>
            <a:blip r:embed="rId2"/>
            <a:stretch/>
          </p:blipFill>
          <p:spPr>
            <a:xfrm>
              <a:off x="3995640" y="4078440"/>
              <a:ext cx="4969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Line 8"/>
            <p:cNvSpPr/>
            <p:nvPr/>
          </p:nvSpPr>
          <p:spPr>
            <a:xfrm>
              <a:off x="7093080" y="4336920"/>
              <a:ext cx="1726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4140360" y="4582800"/>
              <a:ext cx="316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5997600" y="4798800"/>
              <a:ext cx="288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788000" y="5733720"/>
              <a:ext cx="374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3" name="Text Box 13"/>
          <p:cNvSpPr/>
          <p:nvPr/>
        </p:nvSpPr>
        <p:spPr>
          <a:xfrm>
            <a:off x="3061440" y="1927080"/>
            <a:ext cx="653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6 cores: 45% PCa miss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12 cores: adverse pathological findings at PR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21 cores: adverse pathological findings  at PR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17-24%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 pts eligible with 12 cores not with 21 co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3"/>
          <a:stretch/>
        </p:blipFill>
        <p:spPr>
          <a:xfrm>
            <a:off x="1650960" y="30240"/>
            <a:ext cx="7039080" cy="126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482760" y="30240"/>
            <a:ext cx="1179360" cy="1274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7"/>
          <p:cNvSpPr/>
          <p:nvPr/>
        </p:nvSpPr>
        <p:spPr>
          <a:xfrm>
            <a:off x="7414560" y="101124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514"/>
                </a:solidFill>
                <a:latin typeface="Garamond"/>
              </a:rPr>
              <a:t>2009; 56: 891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6948360" y="6292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Garamond"/>
              </a:rPr>
              <a:t>L KLOTZ AUA 201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611280" y="120600"/>
            <a:ext cx="2736720" cy="2228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5292720" y="2871720"/>
            <a:ext cx="3743280" cy="293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5435640" y="154080"/>
            <a:ext cx="3240000" cy="219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34920" y="2638440"/>
            <a:ext cx="4968720" cy="3382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7093080" y="6381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Garamond"/>
              </a:rPr>
              <a:t>L KLOTZ AUA 201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" y="3213000"/>
            <a:ext cx="4608360" cy="3573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80720" y="2048040"/>
            <a:ext cx="13161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f5f5f"/>
                </a:solidFill>
                <a:latin typeface="Arial"/>
              </a:rPr>
              <a:t>220 p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326640" y="1685880"/>
            <a:ext cx="2216880" cy="131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Indolent cance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&lt;pT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Gleason ≤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        ≤ </a:t>
            </a: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0.5 c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4524480" y="3357720"/>
            <a:ext cx="4584600" cy="3101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2770560" y="1685880"/>
            <a:ext cx="2468160" cy="131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PSA &lt;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cT1c-T2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Gleason ≤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≤ </a:t>
            </a:r>
            <a:r>
              <a:rPr b="1" lang="it-IT" sz="2000" spc="-1" strike="noStrike">
                <a:solidFill>
                  <a:srgbClr val="5f5f5f"/>
                </a:solidFill>
                <a:latin typeface="Arial"/>
              </a:rPr>
              <a:t>50% core positiv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92360" y="2046240"/>
            <a:ext cx="863640" cy="503280"/>
          </a:xfrm>
          <a:prstGeom prst="rightArrow">
            <a:avLst>
              <a:gd name="adj1" fmla="val 50000"/>
              <a:gd name="adj2" fmla="val 42901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5364000" y="2062080"/>
            <a:ext cx="863640" cy="503280"/>
          </a:xfrm>
          <a:prstGeom prst="rightArrow">
            <a:avLst>
              <a:gd name="adj1" fmla="val 50000"/>
              <a:gd name="adj2" fmla="val 42901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1763640" y="939960"/>
            <a:ext cx="6516720" cy="6998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7157520" y="648972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JU 2007; 99: 78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4"/>
          <a:stretch/>
        </p:blipFill>
        <p:spPr>
          <a:xfrm>
            <a:off x="1728720" y="0"/>
            <a:ext cx="7091280" cy="1011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bju"/>
          <p:cNvPicPr/>
          <p:nvPr/>
        </p:nvPicPr>
        <p:blipFill>
          <a:blip r:embed="rId5"/>
          <a:stretch/>
        </p:blipFill>
        <p:spPr>
          <a:xfrm>
            <a:off x="611280" y="15840"/>
            <a:ext cx="1052280" cy="1541520"/>
          </a:xfrm>
          <a:prstGeom prst="rect">
            <a:avLst/>
          </a:prstGeom>
          <a:ln w="0">
            <a:noFill/>
          </a:ln>
        </p:spPr>
      </p:pic>
      <p:sp>
        <p:nvSpPr>
          <p:cNvPr id="244" name="Oval 16"/>
          <p:cNvSpPr/>
          <p:nvPr/>
        </p:nvSpPr>
        <p:spPr>
          <a:xfrm>
            <a:off x="1728720" y="3716280"/>
            <a:ext cx="5047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1727280" y="37479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1744560"/>
            <a:ext cx="5148360" cy="427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788000" y="2141640"/>
            <a:ext cx="4321080" cy="1287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355640" y="3619440"/>
            <a:ext cx="4687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omogramm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edi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514"/>
                </a:solidFill>
                <a:latin typeface="Arial"/>
              </a:rPr>
              <a:t>v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N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bas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T2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514"/>
                </a:solidFill>
                <a:latin typeface="Arial"/>
              </a:rPr>
              <a:t>v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omogramm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bas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R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514"/>
                </a:solidFill>
                <a:latin typeface="Arial"/>
              </a:rPr>
              <a:t>v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omogramm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bas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T2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514"/>
                </a:solidFill>
                <a:latin typeface="Arial"/>
              </a:rPr>
              <a:t>v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omogramma</a:t>
            </a:r>
            <a:r>
              <a:rPr b="1" lang="it-IT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edi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&lt;0.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R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514"/>
                </a:solidFill>
                <a:latin typeface="Arial"/>
              </a:rPr>
              <a:t>vs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omogramma</a:t>
            </a:r>
            <a:r>
              <a:rPr b="1" lang="it-IT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edi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 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1728720" y="0"/>
            <a:ext cx="7091280" cy="101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4"/>
          <a:stretch/>
        </p:blipFill>
        <p:spPr>
          <a:xfrm>
            <a:off x="1763640" y="939960"/>
            <a:ext cx="6516720" cy="699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7157520" y="645336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JU 2007; 99: 786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12" descr="bju"/>
          <p:cNvPicPr/>
          <p:nvPr/>
        </p:nvPicPr>
        <p:blipFill>
          <a:blip r:embed="rId5"/>
          <a:stretch/>
        </p:blipFill>
        <p:spPr>
          <a:xfrm>
            <a:off x="611280" y="15840"/>
            <a:ext cx="10522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AREAS OF INTERES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General consid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roblems in patients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atient acceptance and psychological bu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linical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FOLLOW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856720" cy="286380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10"/>
          <p:cNvGrpSpPr/>
          <p:nvPr/>
        </p:nvGrpSpPr>
        <p:grpSpPr>
          <a:xfrm>
            <a:off x="826920" y="1224000"/>
            <a:ext cx="7523280" cy="1125360"/>
            <a:chOff x="826920" y="1224000"/>
            <a:chExt cx="7523280" cy="1125360"/>
          </a:xfrm>
        </p:grpSpPr>
        <p:pic>
          <p:nvPicPr>
            <p:cNvPr id="258" name="Picture 7" descr=""/>
            <p:cNvPicPr/>
            <p:nvPr/>
          </p:nvPicPr>
          <p:blipFill>
            <a:blip r:embed="rId2"/>
            <a:stretch/>
          </p:blipFill>
          <p:spPr>
            <a:xfrm>
              <a:off x="1690560" y="1227240"/>
              <a:ext cx="665964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8" descr=""/>
            <p:cNvPicPr/>
            <p:nvPr/>
          </p:nvPicPr>
          <p:blipFill>
            <a:blip r:embed="rId3"/>
            <a:stretch/>
          </p:blipFill>
          <p:spPr>
            <a:xfrm>
              <a:off x="826920" y="1224000"/>
              <a:ext cx="8938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8"/>
          <p:cNvSpPr/>
          <p:nvPr/>
        </p:nvSpPr>
        <p:spPr>
          <a:xfrm>
            <a:off x="6922080" y="161136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it-IT" sz="1400" spc="-1" strike="noStrike">
                <a:solidFill>
                  <a:srgbClr val="000514"/>
                </a:solidFill>
                <a:latin typeface="Garamond"/>
              </a:rPr>
              <a:t>2009; 55: 132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AS FAIL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2709720"/>
            <a:ext cx="84358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HISTOLOGICAL RECLASSIF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LINICAL PROG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BIOCHEMICAL  PROGRESSION (PSAV,  PSAD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SYCHOLOGICAL BURD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109160" y="1413000"/>
            <a:ext cx="69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Risk Reclassification!!  Progression?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558828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6"/>
          <p:cNvGrpSpPr/>
          <p:nvPr/>
        </p:nvGrpSpPr>
        <p:grpSpPr>
          <a:xfrm>
            <a:off x="835200" y="0"/>
            <a:ext cx="7553160" cy="1125360"/>
            <a:chOff x="835200" y="0"/>
            <a:chExt cx="7553160" cy="1125360"/>
          </a:xfrm>
        </p:grpSpPr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1729080" y="3240"/>
              <a:ext cx="665928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" descr=""/>
            <p:cNvPicPr/>
            <p:nvPr/>
          </p:nvPicPr>
          <p:blipFill>
            <a:blip r:embed="rId3"/>
            <a:stretch/>
          </p:blipFill>
          <p:spPr>
            <a:xfrm>
              <a:off x="835200" y="0"/>
              <a:ext cx="8938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4"/>
          <p:cNvSpPr/>
          <p:nvPr/>
        </p:nvSpPr>
        <p:spPr>
          <a:xfrm>
            <a:off x="6996960" y="40464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it-IT" sz="1400" spc="-1" strike="noStrike">
                <a:solidFill>
                  <a:srgbClr val="000514"/>
                </a:solidFill>
                <a:latin typeface="Garamond"/>
              </a:rPr>
              <a:t>2009; 55: 132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1244520" y="25560"/>
            <a:ext cx="7858080" cy="15318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o 11"/>
          <p:cNvGrpSpPr/>
          <p:nvPr/>
        </p:nvGrpSpPr>
        <p:grpSpPr>
          <a:xfrm>
            <a:off x="107640" y="2019240"/>
            <a:ext cx="8964720" cy="2346480"/>
            <a:chOff x="107640" y="2019240"/>
            <a:chExt cx="8964720" cy="2346480"/>
          </a:xfrm>
        </p:grpSpPr>
        <p:pic>
          <p:nvPicPr>
            <p:cNvPr id="271" name="Picture 6" descr=""/>
            <p:cNvPicPr/>
            <p:nvPr/>
          </p:nvPicPr>
          <p:blipFill>
            <a:blip r:embed="rId2"/>
            <a:stretch/>
          </p:blipFill>
          <p:spPr>
            <a:xfrm rot="5400000">
              <a:off x="70200" y="2060640"/>
              <a:ext cx="2337840" cy="22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7" descr=""/>
            <p:cNvPicPr/>
            <p:nvPr/>
          </p:nvPicPr>
          <p:blipFill>
            <a:blip r:embed="rId3"/>
            <a:stretch/>
          </p:blipFill>
          <p:spPr>
            <a:xfrm rot="5400000">
              <a:off x="2622960" y="1693800"/>
              <a:ext cx="2346480" cy="29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"/>
            <p:cNvPicPr/>
            <p:nvPr/>
          </p:nvPicPr>
          <p:blipFill>
            <a:blip r:embed="rId4"/>
            <a:stretch/>
          </p:blipFill>
          <p:spPr>
            <a:xfrm rot="5400000">
              <a:off x="5653800" y="1626120"/>
              <a:ext cx="2337840" cy="31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5"/>
            <a:stretch/>
          </p:blipFill>
          <p:spPr>
            <a:xfrm rot="5400000">
              <a:off x="7527600" y="2816640"/>
              <a:ext cx="2337840" cy="75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CasellaDiTesto 12"/>
          <p:cNvSpPr/>
          <p:nvPr/>
        </p:nvSpPr>
        <p:spPr>
          <a:xfrm>
            <a:off x="857160" y="4606920"/>
            <a:ext cx="701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Few pts, short follow up, conflicting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-5 measurement (1 ye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itfalls  (prostatitis, DRE, Bx, BP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ifferent PSA Assay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May not correlate with early progressi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7641720" y="128268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514"/>
                </a:solidFill>
                <a:latin typeface="Garamond"/>
              </a:rPr>
              <a:t>2008, 54: 50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7" name="Group 15"/>
          <p:cNvGrpSpPr/>
          <p:nvPr/>
        </p:nvGrpSpPr>
        <p:grpSpPr>
          <a:xfrm>
            <a:off x="1547640" y="1844640"/>
            <a:ext cx="5976720" cy="1806480"/>
            <a:chOff x="1547640" y="1844640"/>
            <a:chExt cx="5976720" cy="1806480"/>
          </a:xfrm>
        </p:grpSpPr>
        <p:pic>
          <p:nvPicPr>
            <p:cNvPr id="278" name="Picture 11" descr=""/>
            <p:cNvPicPr/>
            <p:nvPr/>
          </p:nvPicPr>
          <p:blipFill>
            <a:blip r:embed="rId6"/>
            <a:stretch/>
          </p:blipFill>
          <p:spPr>
            <a:xfrm>
              <a:off x="1547640" y="1844640"/>
              <a:ext cx="597672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Line 13"/>
            <p:cNvSpPr/>
            <p:nvPr/>
          </p:nvSpPr>
          <p:spPr>
            <a:xfrm>
              <a:off x="6070320" y="2147760"/>
              <a:ext cx="136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2341080" y="2420640"/>
              <a:ext cx="468000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1476360" y="4869000"/>
            <a:ext cx="5974920" cy="1872720"/>
            <a:chOff x="1476360" y="4869000"/>
            <a:chExt cx="5974920" cy="1872720"/>
          </a:xfrm>
        </p:grpSpPr>
        <p:pic>
          <p:nvPicPr>
            <p:cNvPr id="282" name="Picture 4" descr=""/>
            <p:cNvPicPr/>
            <p:nvPr/>
          </p:nvPicPr>
          <p:blipFill>
            <a:blip r:embed="rId7"/>
            <a:stretch/>
          </p:blipFill>
          <p:spPr>
            <a:xfrm>
              <a:off x="1476360" y="4869000"/>
              <a:ext cx="5974920" cy="18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19"/>
            <p:cNvSpPr/>
            <p:nvPr/>
          </p:nvSpPr>
          <p:spPr>
            <a:xfrm>
              <a:off x="2377080" y="6100200"/>
              <a:ext cx="491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1573920" y="6386760"/>
              <a:ext cx="5729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1654920" y="6672960"/>
              <a:ext cx="98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86" name="Group 31"/>
          <p:cNvGrpSpPr/>
          <p:nvPr/>
        </p:nvGrpSpPr>
        <p:grpSpPr>
          <a:xfrm>
            <a:off x="1476360" y="3789360"/>
            <a:ext cx="5974920" cy="863280"/>
            <a:chOff x="1476360" y="3789360"/>
            <a:chExt cx="5974920" cy="863280"/>
          </a:xfrm>
        </p:grpSpPr>
        <p:grpSp>
          <p:nvGrpSpPr>
            <p:cNvPr id="287" name="Group 18"/>
            <p:cNvGrpSpPr/>
            <p:nvPr/>
          </p:nvGrpSpPr>
          <p:grpSpPr>
            <a:xfrm>
              <a:off x="1476360" y="3789360"/>
              <a:ext cx="5974920" cy="863280"/>
              <a:chOff x="1476360" y="3789360"/>
              <a:chExt cx="5974920" cy="863280"/>
            </a:xfrm>
          </p:grpSpPr>
          <p:pic>
            <p:nvPicPr>
              <p:cNvPr id="288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476360" y="3789360"/>
                <a:ext cx="5974920" cy="8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Line 17"/>
              <p:cNvSpPr/>
              <p:nvPr/>
            </p:nvSpPr>
            <p:spPr>
              <a:xfrm>
                <a:off x="2503800" y="4332600"/>
                <a:ext cx="4766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>
              <a:off x="1549440" y="4610160"/>
              <a:ext cx="554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291" name="Picture 8" descr=""/>
          <p:cNvPicPr/>
          <p:nvPr/>
        </p:nvPicPr>
        <p:blipFill>
          <a:blip r:embed="rId9"/>
          <a:stretch/>
        </p:blipFill>
        <p:spPr>
          <a:xfrm>
            <a:off x="14400" y="14400"/>
            <a:ext cx="1177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757600" y="765000"/>
            <a:ext cx="6386400" cy="1122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457960" cy="81108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12"/>
          <p:cNvGrpSpPr/>
          <p:nvPr/>
        </p:nvGrpSpPr>
        <p:grpSpPr>
          <a:xfrm>
            <a:off x="1763640" y="1844640"/>
            <a:ext cx="5256360" cy="4930920"/>
            <a:chOff x="1763640" y="1844640"/>
            <a:chExt cx="5256360" cy="4930920"/>
          </a:xfrm>
        </p:grpSpPr>
        <p:pic>
          <p:nvPicPr>
            <p:cNvPr id="295" name="Picture 7" descr=""/>
            <p:cNvPicPr/>
            <p:nvPr/>
          </p:nvPicPr>
          <p:blipFill>
            <a:blip r:embed="rId3"/>
            <a:stretch/>
          </p:blipFill>
          <p:spPr>
            <a:xfrm>
              <a:off x="1763640" y="1844640"/>
              <a:ext cx="5256360" cy="49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Line 8"/>
            <p:cNvSpPr/>
            <p:nvPr/>
          </p:nvSpPr>
          <p:spPr>
            <a:xfrm>
              <a:off x="2411280" y="5291280"/>
              <a:ext cx="4537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1820880" y="5507280"/>
              <a:ext cx="5127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 flipV="1">
              <a:off x="1795320" y="5722920"/>
              <a:ext cx="24163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1763640" y="5794560"/>
              <a:ext cx="5256360" cy="981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AREAS OF INTERES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General consid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roblems in patients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atient acceptance and psychological bu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linical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724040" y="44280"/>
            <a:ext cx="7419960" cy="1525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5329080" cy="5122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3889440" y="1557360"/>
            <a:ext cx="5254560" cy="481176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9"/>
          <p:cNvGrpSpPr/>
          <p:nvPr/>
        </p:nvGrpSpPr>
        <p:grpSpPr>
          <a:xfrm>
            <a:off x="6734160" y="6467400"/>
            <a:ext cx="2374920" cy="360360"/>
            <a:chOff x="6734160" y="6467400"/>
            <a:chExt cx="2374920" cy="360360"/>
          </a:xfrm>
        </p:grpSpPr>
        <p:pic>
          <p:nvPicPr>
            <p:cNvPr id="304" name="Picture 7" descr=""/>
            <p:cNvPicPr/>
            <p:nvPr/>
          </p:nvPicPr>
          <p:blipFill>
            <a:blip r:embed="rId4"/>
            <a:stretch/>
          </p:blipFill>
          <p:spPr>
            <a:xfrm>
              <a:off x="6748200" y="6467400"/>
              <a:ext cx="187200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8" descr=""/>
            <p:cNvPicPr/>
            <p:nvPr/>
          </p:nvPicPr>
          <p:blipFill>
            <a:blip r:embed="rId5"/>
            <a:stretch/>
          </p:blipFill>
          <p:spPr>
            <a:xfrm>
              <a:off x="6734160" y="6656040"/>
              <a:ext cx="2374920" cy="1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Picture 10" descr="j urology"/>
          <p:cNvPicPr/>
          <p:nvPr/>
        </p:nvPicPr>
        <p:blipFill>
          <a:blip r:embed="rId6"/>
          <a:stretch/>
        </p:blipFill>
        <p:spPr>
          <a:xfrm>
            <a:off x="669960" y="28440"/>
            <a:ext cx="996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1822320" y="189000"/>
            <a:ext cx="7286760" cy="565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5651640" y="750960"/>
            <a:ext cx="3168360" cy="561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963960" cy="79704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7183440" y="6475320"/>
            <a:ext cx="1952640" cy="381240"/>
            <a:chOff x="7183440" y="6475320"/>
            <a:chExt cx="1952640" cy="381240"/>
          </a:xfrm>
        </p:grpSpPr>
        <p:pic>
          <p:nvPicPr>
            <p:cNvPr id="311" name="Picture 7" descr=""/>
            <p:cNvPicPr/>
            <p:nvPr/>
          </p:nvPicPr>
          <p:blipFill>
            <a:blip r:embed="rId4"/>
            <a:stretch/>
          </p:blipFill>
          <p:spPr>
            <a:xfrm>
              <a:off x="7183440" y="6475320"/>
              <a:ext cx="162252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8" descr=""/>
            <p:cNvPicPr/>
            <p:nvPr/>
          </p:nvPicPr>
          <p:blipFill>
            <a:blip r:embed="rId5"/>
            <a:stretch/>
          </p:blipFill>
          <p:spPr>
            <a:xfrm>
              <a:off x="7193160" y="6643800"/>
              <a:ext cx="1942920" cy="2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10"/>
          <p:cNvSpPr/>
          <p:nvPr/>
        </p:nvSpPr>
        <p:spPr>
          <a:xfrm>
            <a:off x="324000" y="2492280"/>
            <a:ext cx="8569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How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many biopsies will a healthy 65 y old man with favorable PCa end up having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Frequent biopsies trigger inflammation and compromise future quality of delayed treatme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an repeated biopsies induce a change in the already existing cancer phenotype via inflammatio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Picture 11" descr="j urology"/>
          <p:cNvPicPr/>
          <p:nvPr/>
        </p:nvPicPr>
        <p:blipFill>
          <a:blip r:embed="rId6"/>
          <a:stretch/>
        </p:blipFill>
        <p:spPr>
          <a:xfrm>
            <a:off x="833400" y="128520"/>
            <a:ext cx="858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187280" y="88920"/>
            <a:ext cx="7823520" cy="16873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3"/>
          <p:cNvGrpSpPr/>
          <p:nvPr/>
        </p:nvGrpSpPr>
        <p:grpSpPr>
          <a:xfrm>
            <a:off x="6978600" y="6413400"/>
            <a:ext cx="2130480" cy="428760"/>
            <a:chOff x="6978600" y="6413400"/>
            <a:chExt cx="2130480" cy="428760"/>
          </a:xfrm>
        </p:grpSpPr>
        <p:pic>
          <p:nvPicPr>
            <p:cNvPr id="317" name="Picture 4" descr=""/>
            <p:cNvPicPr/>
            <p:nvPr/>
          </p:nvPicPr>
          <p:blipFill>
            <a:blip r:embed="rId2"/>
            <a:stretch/>
          </p:blipFill>
          <p:spPr>
            <a:xfrm>
              <a:off x="6980400" y="6413400"/>
              <a:ext cx="212868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" descr=""/>
            <p:cNvPicPr/>
            <p:nvPr/>
          </p:nvPicPr>
          <p:blipFill>
            <a:blip r:embed="rId3"/>
            <a:stretch/>
          </p:blipFill>
          <p:spPr>
            <a:xfrm>
              <a:off x="6978600" y="6595920"/>
              <a:ext cx="2130480" cy="24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294 PATI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8 (12.8%) PROGRESSION TO UNFAVORABLE HISTOLOGY (Gleason 4-5, more than 2 cores, more than 50% in each co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3 YEARS FOLLOW-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CA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1 SAMPLE   47.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2 SAMPLES 40.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* 3 SAMPLES 11.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0" name="Picture 9" descr="j urology"/>
          <p:cNvPicPr/>
          <p:nvPr/>
        </p:nvPicPr>
        <p:blipFill>
          <a:blip r:embed="rId4"/>
          <a:stretch/>
        </p:blipFill>
        <p:spPr>
          <a:xfrm>
            <a:off x="42840" y="73080"/>
            <a:ext cx="10987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6978600" y="6413400"/>
            <a:ext cx="2130480" cy="428760"/>
            <a:chOff x="6978600" y="6413400"/>
            <a:chExt cx="2130480" cy="428760"/>
          </a:xfrm>
        </p:grpSpPr>
        <p:pic>
          <p:nvPicPr>
            <p:cNvPr id="322" name="Picture 4" descr=""/>
            <p:cNvPicPr/>
            <p:nvPr/>
          </p:nvPicPr>
          <p:blipFill>
            <a:blip r:embed="rId1"/>
            <a:stretch/>
          </p:blipFill>
          <p:spPr>
            <a:xfrm>
              <a:off x="6980400" y="6413400"/>
              <a:ext cx="212868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" descr=""/>
            <p:cNvPicPr/>
            <p:nvPr/>
          </p:nvPicPr>
          <p:blipFill>
            <a:blip r:embed="rId2"/>
            <a:stretch/>
          </p:blipFill>
          <p:spPr>
            <a:xfrm>
              <a:off x="6978600" y="6595920"/>
              <a:ext cx="2130480" cy="246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4" name="Object 6"/>
          <p:cNvGraphicFramePr/>
          <p:nvPr/>
        </p:nvGraphicFramePr>
        <p:xfrm>
          <a:off x="1523880" y="234936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349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7"/>
          <p:cNvSpPr/>
          <p:nvPr/>
        </p:nvSpPr>
        <p:spPr>
          <a:xfrm>
            <a:off x="3132000" y="6308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Mean initial PCA3 sco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AutoShape 8"/>
          <p:cNvSpPr/>
          <p:nvPr/>
        </p:nvSpPr>
        <p:spPr>
          <a:xfrm flipH="1" flipV="1" rot="16200000">
            <a:off x="4967280" y="2456280"/>
            <a:ext cx="71280" cy="2016360"/>
          </a:xfrm>
          <a:custGeom>
            <a:avLst/>
            <a:gdLst>
              <a:gd name="textAreaLeft" fmla="*/ 21240 w 71280"/>
              <a:gd name="textAreaRight" fmla="*/ 72000 w 71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13080" y="3068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P = 0.13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5"/>
          <a:stretch/>
        </p:blipFill>
        <p:spPr>
          <a:xfrm>
            <a:off x="1187280" y="88920"/>
            <a:ext cx="7823520" cy="1687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j urology"/>
          <p:cNvPicPr/>
          <p:nvPr/>
        </p:nvPicPr>
        <p:blipFill>
          <a:blip r:embed="rId6"/>
          <a:stretch/>
        </p:blipFill>
        <p:spPr>
          <a:xfrm>
            <a:off x="42840" y="73080"/>
            <a:ext cx="10987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AREAS OF INTERES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General consid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roblems in patients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Patient acceptance and psychological bu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linical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34920" y="1560600"/>
            <a:ext cx="3170160" cy="2373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5940360" y="1536840"/>
            <a:ext cx="3095640" cy="2393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3"/>
          <a:stretch/>
        </p:blipFill>
        <p:spPr>
          <a:xfrm>
            <a:off x="131760" y="4124160"/>
            <a:ext cx="3216240" cy="2473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4"/>
          <a:stretch/>
        </p:blipFill>
        <p:spPr>
          <a:xfrm>
            <a:off x="6012000" y="4249800"/>
            <a:ext cx="3097080" cy="24559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2199600" y="180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19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8004960" y="19162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2291760" y="429264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17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8289000" y="462744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7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1" name="Picture 12" descr=""/>
          <p:cNvPicPr/>
          <p:nvPr/>
        </p:nvPicPr>
        <p:blipFill>
          <a:blip r:embed="rId5"/>
          <a:stretch/>
        </p:blipFill>
        <p:spPr>
          <a:xfrm>
            <a:off x="1054080" y="73080"/>
            <a:ext cx="7981920" cy="907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"/>
          <p:cNvPicPr/>
          <p:nvPr/>
        </p:nvPicPr>
        <p:blipFill>
          <a:blip r:embed="rId6"/>
          <a:stretch/>
        </p:blipFill>
        <p:spPr>
          <a:xfrm>
            <a:off x="1042920" y="907920"/>
            <a:ext cx="6193080" cy="514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4"/>
          <p:cNvSpPr/>
          <p:nvPr/>
        </p:nvSpPr>
        <p:spPr>
          <a:xfrm>
            <a:off x="3042360" y="1413000"/>
            <a:ext cx="30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514"/>
                </a:solidFill>
                <a:latin typeface="Garamond"/>
              </a:rPr>
              <a:t>Cancer 2009, 115 (17) 38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3735360" y="232416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129 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RIAS tri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5" name="Picture 16" descr="cancer j 2"/>
          <p:cNvPicPr/>
          <p:nvPr/>
        </p:nvPicPr>
        <p:blipFill>
          <a:blip r:embed="rId7"/>
          <a:stretch/>
        </p:blipFill>
        <p:spPr>
          <a:xfrm>
            <a:off x="14400" y="14400"/>
            <a:ext cx="1006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468360" y="2060640"/>
            <a:ext cx="813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Scores = to pts with PR or 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2/129 patients discontinuated AS for non medical rea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Anxiety and Distress associated wit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-  important role of the physician in the dec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-  neurotic person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-  poor physical heal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-  high PSA 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10" descr=""/>
          <p:cNvPicPr/>
          <p:nvPr/>
        </p:nvPicPr>
        <p:blipFill>
          <a:blip r:embed="rId1"/>
          <a:stretch/>
        </p:blipFill>
        <p:spPr>
          <a:xfrm>
            <a:off x="1054080" y="73080"/>
            <a:ext cx="7981920" cy="907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6193080" cy="5144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2"/>
          <p:cNvSpPr/>
          <p:nvPr/>
        </p:nvSpPr>
        <p:spPr>
          <a:xfrm>
            <a:off x="3042360" y="1413000"/>
            <a:ext cx="30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514"/>
                </a:solidFill>
                <a:latin typeface="Garamond"/>
              </a:rPr>
              <a:t>Cancer 2009, 115 (17) 38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0" name="Picture 15" descr="cancer j 2"/>
          <p:cNvPicPr/>
          <p:nvPr/>
        </p:nvPicPr>
        <p:blipFill>
          <a:blip r:embed="rId3"/>
          <a:stretch/>
        </p:blipFill>
        <p:spPr>
          <a:xfrm>
            <a:off x="14400" y="14400"/>
            <a:ext cx="1006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700360" y="1557000"/>
            <a:ext cx="3743280" cy="749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329 pts with Localized P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73080" y="266760"/>
            <a:ext cx="9036000" cy="6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7096680" y="534960"/>
            <a:ext cx="205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514"/>
                </a:solidFill>
                <a:latin typeface="Garamond"/>
              </a:rPr>
              <a:t>2007; 100 (3): 54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24000" y="4149720"/>
            <a:ext cx="8604000" cy="230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        </a:t>
            </a: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Depression</a:t>
            </a: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          Anxiety</a:t>
            </a:r>
            <a:r>
              <a:rPr b="1" lang="it-IT" sz="2400" spc="-1" strike="noStrike">
                <a:solidFill>
                  <a:srgbClr val="0000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       </a:t>
            </a:r>
            <a:r>
              <a:rPr b="1" lang="it-IT" sz="2400" spc="-1" strike="noStrike">
                <a:solidFill>
                  <a:srgbClr val="0000ff"/>
                </a:solidFill>
                <a:latin typeface="Garamond"/>
              </a:rPr>
              <a:t>6% (20/329)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   </a:t>
            </a:r>
            <a:r>
              <a:rPr b="1" lang="it-IT" sz="2400" spc="-1" strike="noStrike">
                <a:solidFill>
                  <a:srgbClr val="0000ff"/>
                </a:solidFill>
                <a:latin typeface="Garamond"/>
              </a:rPr>
              <a:t>16 % (51/32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AS vs RT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p 0.38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p 0.8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Time from Dx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p&lt;0.01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p &lt;0.0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514"/>
                </a:solidFill>
                <a:latin typeface="Garamond"/>
              </a:rPr>
              <a:t>Age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p NS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p&lt;0.0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68360" y="2637000"/>
            <a:ext cx="4546800" cy="749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AS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 (100) vs </a:t>
            </a: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RT</a:t>
            </a: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 (22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HAD sc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6" name="Picture 8" descr="bju"/>
          <p:cNvPicPr/>
          <p:nvPr/>
        </p:nvPicPr>
        <p:blipFill>
          <a:blip r:embed="rId2"/>
          <a:stretch/>
        </p:blipFill>
        <p:spPr>
          <a:xfrm>
            <a:off x="71280" y="939960"/>
            <a:ext cx="9241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AREAS OF INTERES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General consid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roblems in patients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Patient acceptance and psychological bu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Garamond"/>
              </a:rPr>
              <a:t>Clinical 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2916360" y="19080"/>
            <a:ext cx="6227640" cy="2257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468360" y="1660680"/>
            <a:ext cx="7559640" cy="51973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468360" y="5373720"/>
            <a:ext cx="7128000" cy="107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3"/>
          <a:stretch/>
        </p:blipFill>
        <p:spPr>
          <a:xfrm>
            <a:off x="0" y="2876400"/>
            <a:ext cx="9144000" cy="206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/>
          <a:stretch/>
        </p:blipFill>
        <p:spPr>
          <a:xfrm>
            <a:off x="7380360" y="6534000"/>
            <a:ext cx="1736640" cy="279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cancer j 2"/>
          <p:cNvPicPr/>
          <p:nvPr/>
        </p:nvPicPr>
        <p:blipFill>
          <a:blip r:embed="rId5"/>
          <a:stretch/>
        </p:blipFill>
        <p:spPr>
          <a:xfrm>
            <a:off x="14400" y="14400"/>
            <a:ext cx="1006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da24"/>
                </a:solidFill>
                <a:latin typeface="Garamond"/>
              </a:rPr>
              <a:t>INCIDENZA E MORTALITA’ DEL CARCINOMA DELLA PROSTAT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3" descr="CAP 2"/>
          <p:cNvPicPr/>
          <p:nvPr/>
        </p:nvPicPr>
        <p:blipFill>
          <a:blip r:embed="rId1"/>
          <a:stretch/>
        </p:blipFill>
        <p:spPr>
          <a:xfrm>
            <a:off x="868320" y="1630440"/>
            <a:ext cx="7164360" cy="495612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122" name="Line 4"/>
          <p:cNvSpPr/>
          <p:nvPr/>
        </p:nvSpPr>
        <p:spPr>
          <a:xfrm>
            <a:off x="5254560" y="2832120"/>
            <a:ext cx="0" cy="42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3800" y="2506680"/>
            <a:ext cx="650880" cy="327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1500" spc="-1" strike="noStrike">
                <a:solidFill>
                  <a:srgbClr val="ff3300"/>
                </a:solidFill>
                <a:latin typeface="Arial"/>
              </a:rPr>
              <a:t>PSA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8140680" y="5923080"/>
            <a:ext cx="871560" cy="828360"/>
            <a:chOff x="8140680" y="5923080"/>
            <a:chExt cx="871560" cy="828360"/>
          </a:xfrm>
        </p:grpSpPr>
        <p:sp>
          <p:nvSpPr>
            <p:cNvPr id="125" name="WordArt 7"/>
            <p:cNvSpPr txBox="1"/>
            <p:nvPr/>
          </p:nvSpPr>
          <p:spPr>
            <a:xfrm>
              <a:off x="8140680" y="6594120"/>
              <a:ext cx="871560" cy="15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</a:rPr>
                <a:t>U.O.C. UROLOGIA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Garamond"/>
                <a:ea typeface="Garamond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8140680" y="5923080"/>
              <a:ext cx="870480" cy="474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9813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</a:rPr>
                <a:t>OSPEDALE NOCERA INFERIORE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Garamond"/>
                <a:ea typeface="Garamond"/>
              </a:endParaRPr>
            </a:p>
          </p:txBody>
        </p:sp>
        <p:pic>
          <p:nvPicPr>
            <p:cNvPr id="127" name="Picture 9" descr="Immagine2"/>
            <p:cNvPicPr/>
            <p:nvPr/>
          </p:nvPicPr>
          <p:blipFill>
            <a:blip r:embed="rId2"/>
            <a:stretch/>
          </p:blipFill>
          <p:spPr>
            <a:xfrm>
              <a:off x="8278200" y="6001920"/>
              <a:ext cx="602640" cy="632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3"/>
          <a:stretch/>
        </p:blipFill>
        <p:spPr>
          <a:xfrm>
            <a:off x="826920" y="2184480"/>
            <a:ext cx="5389560" cy="36748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1619280" y="3990960"/>
            <a:ext cx="23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3995640" y="5172120"/>
            <a:ext cx="503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075280" y="5172120"/>
            <a:ext cx="503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4"/>
          <a:stretch/>
        </p:blipFill>
        <p:spPr>
          <a:xfrm>
            <a:off x="2698920" y="2747880"/>
            <a:ext cx="6119640" cy="36338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2862360" y="4998960"/>
            <a:ext cx="4748040" cy="317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5018040" y="3933720"/>
            <a:ext cx="576360" cy="187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155000" y="203508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Garamond"/>
              </a:rPr>
              <a:t>450 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95280" y="2327400"/>
            <a:ext cx="6697800" cy="4486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1906560" y="17575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Median follow-up 6.8 years (range 1-13 y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0360" y="3116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78.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4"/>
          <a:stretch/>
        </p:blipFill>
        <p:spPr>
          <a:xfrm>
            <a:off x="2268360" y="2233440"/>
            <a:ext cx="6624720" cy="4502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6948360" y="3068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97.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"/>
          <p:cNvSpPr/>
          <p:nvPr/>
        </p:nvSpPr>
        <p:spPr>
          <a:xfrm>
            <a:off x="5940360" y="3116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78.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948360" y="3068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97.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6" name="Picture 4" descr="ScreenShot124"/>
          <p:cNvPicPr/>
          <p:nvPr/>
        </p:nvPicPr>
        <p:blipFill>
          <a:blip r:embed="rId3"/>
          <a:stretch/>
        </p:blipFill>
        <p:spPr>
          <a:xfrm>
            <a:off x="1332000" y="2708280"/>
            <a:ext cx="6406920" cy="36273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187280" y="21178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Not PCa vs PCa mortality rat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1217520" y="2909880"/>
            <a:ext cx="6696000" cy="3240000"/>
          </a:xfrm>
          <a:prstGeom prst="rect">
            <a:avLst/>
          </a:prstGeom>
          <a:solidFill>
            <a:srgbClr val="ddddd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55640" y="2287440"/>
            <a:ext cx="75708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3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32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n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  %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   % cohort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PSA DT&lt;3y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65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48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Gleason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36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27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Stadio T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6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4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Pts preference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4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0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Garamond"/>
              </a:rPr>
              <a:t>Altro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4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10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4d4d4d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421280" y="2117880"/>
            <a:ext cx="63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135 patients (30%) treated a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grpSp>
        <p:nvGrpSpPr>
          <p:cNvPr id="395" name="Group 13"/>
          <p:cNvGrpSpPr/>
          <p:nvPr/>
        </p:nvGrpSpPr>
        <p:grpSpPr>
          <a:xfrm>
            <a:off x="1042920" y="2060640"/>
            <a:ext cx="6985080" cy="4533840"/>
            <a:chOff x="1042920" y="2060640"/>
            <a:chExt cx="6985080" cy="4533840"/>
          </a:xfrm>
        </p:grpSpPr>
        <p:pic>
          <p:nvPicPr>
            <p:cNvPr id="396" name="Picture 4" descr=""/>
            <p:cNvPicPr/>
            <p:nvPr/>
          </p:nvPicPr>
          <p:blipFill>
            <a:blip r:embed="rId3"/>
            <a:stretch/>
          </p:blipFill>
          <p:spPr>
            <a:xfrm>
              <a:off x="1042920" y="2060640"/>
              <a:ext cx="698508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5"/>
            <p:cNvSpPr/>
            <p:nvPr/>
          </p:nvSpPr>
          <p:spPr>
            <a:xfrm>
              <a:off x="2916000" y="4040280"/>
              <a:ext cx="6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Garamond"/>
                </a:rPr>
                <a:t>84%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4067280" y="4040280"/>
              <a:ext cx="64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Garamond"/>
                </a:rPr>
                <a:t>72%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9" name="Text Box 7"/>
            <p:cNvSpPr/>
            <p:nvPr/>
          </p:nvSpPr>
          <p:spPr>
            <a:xfrm>
              <a:off x="5867280" y="4040280"/>
              <a:ext cx="64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Garamond"/>
                </a:rPr>
                <a:t>62%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3132000" y="4581360"/>
              <a:ext cx="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>
              <a:off x="4282920" y="4581360"/>
              <a:ext cx="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6170400" y="4581360"/>
              <a:ext cx="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34920" y="3284640"/>
            <a:ext cx="4176720" cy="2930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7"/>
          <p:cNvSpPr/>
          <p:nvPr/>
        </p:nvSpPr>
        <p:spPr>
          <a:xfrm>
            <a:off x="181080" y="2247840"/>
            <a:ext cx="3743280" cy="749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d4d4d"/>
                </a:solidFill>
                <a:latin typeface="Garamond"/>
              </a:rPr>
              <a:t>135 (30%) pts trea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0"/>
          <p:cNvSpPr/>
          <p:nvPr/>
        </p:nvSpPr>
        <p:spPr>
          <a:xfrm>
            <a:off x="4788000" y="2060640"/>
            <a:ext cx="20160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90 pts EB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35 pts R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Garamond"/>
              </a:rPr>
              <a:t>10 pts AD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4140360" y="3860640"/>
            <a:ext cx="50036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Garamond"/>
              </a:rPr>
              <a:t>PSA failure 50.4% (</a:t>
            </a:r>
            <a:r>
              <a:rPr b="1" lang="it-IT" sz="2200" spc="-1" strike="noStrike">
                <a:solidFill>
                  <a:srgbClr val="ffff00"/>
                </a:solidFill>
                <a:latin typeface="Garamond"/>
              </a:rPr>
              <a:t>13% of overall cohort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Garamond"/>
              </a:rPr>
              <a:t>Time to PSA failure 48 month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Garamond"/>
              </a:rPr>
              <a:t>PSADT &lt;3y</a:t>
            </a:r>
            <a:r>
              <a:rPr b="1" lang="it-IT" sz="2200" spc="-1" strike="noStrike">
                <a:solidFill>
                  <a:srgbClr val="ffffff"/>
                </a:solidFill>
                <a:latin typeface="Garamond"/>
              </a:rPr>
              <a:t> predictive of PSA failur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023840" y="5084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Garamond"/>
              </a:rPr>
              <a:t>62% vs 43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6"/>
          <p:cNvSpPr/>
          <p:nvPr/>
        </p:nvSpPr>
        <p:spPr>
          <a:xfrm>
            <a:off x="6948360" y="6292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Garamond"/>
              </a:rPr>
              <a:t>L KLOTZ AUA 201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395280" y="2016000"/>
            <a:ext cx="8280360" cy="3718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6360" y="30240"/>
            <a:ext cx="6337440" cy="760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3"/>
          <a:stretch/>
        </p:blipFill>
        <p:spPr>
          <a:xfrm>
            <a:off x="1671480" y="779400"/>
            <a:ext cx="747900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7054920" y="6381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Klotz, AUA 20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826920" y="2997360"/>
            <a:ext cx="792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514"/>
                </a:solidFill>
                <a:latin typeface="Garamond"/>
              </a:rPr>
              <a:t>13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6" descr="ScreenShot121"/>
          <p:cNvPicPr/>
          <p:nvPr/>
        </p:nvPicPr>
        <p:blipFill>
          <a:blip r:embed="rId1"/>
          <a:stretch/>
        </p:blipFill>
        <p:spPr>
          <a:xfrm>
            <a:off x="92160" y="530280"/>
            <a:ext cx="9001080" cy="4626000"/>
          </a:xfrm>
          <a:prstGeom prst="rect">
            <a:avLst/>
          </a:prstGeom>
          <a:ln w="0">
            <a:noFill/>
          </a:ln>
        </p:spPr>
      </p:pic>
      <p:sp>
        <p:nvSpPr>
          <p:cNvPr id="417" name="Oval 7"/>
          <p:cNvSpPr/>
          <p:nvPr/>
        </p:nvSpPr>
        <p:spPr>
          <a:xfrm>
            <a:off x="6804000" y="4235400"/>
            <a:ext cx="677880" cy="403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Oval 8"/>
          <p:cNvSpPr/>
          <p:nvPr/>
        </p:nvSpPr>
        <p:spPr>
          <a:xfrm>
            <a:off x="3059280" y="4221000"/>
            <a:ext cx="93636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1332000" y="2421000"/>
            <a:ext cx="6912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Object 7"/>
          <p:cNvGraphicFramePr/>
          <p:nvPr/>
        </p:nvGraphicFramePr>
        <p:xfrm>
          <a:off x="539640" y="5518080"/>
          <a:ext cx="971640" cy="9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518080"/>
                    <a:ext cx="97164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13"/>
          <p:cNvGraphicFramePr/>
          <p:nvPr/>
        </p:nvGraphicFramePr>
        <p:xfrm>
          <a:off x="7164360" y="5489640"/>
          <a:ext cx="151128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489640"/>
                    <a:ext cx="15112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5"/>
          <p:cNvSpPr/>
          <p:nvPr/>
        </p:nvSpPr>
        <p:spPr>
          <a:xfrm>
            <a:off x="4643280" y="3645000"/>
            <a:ext cx="439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.ssa Tiziana Magna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ject Manag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ma Prost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ndazione IRCC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tituto Nazionale Tumori, Mila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02920" y="148392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Update del progetto multicentrico nazionale SIUrO PRIAS IT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26" name="Picture 24" descr=""/>
          <p:cNvPicPr/>
          <p:nvPr/>
        </p:nvPicPr>
        <p:blipFill>
          <a:blip r:embed="rId5"/>
          <a:stretch/>
        </p:blipFill>
        <p:spPr>
          <a:xfrm>
            <a:off x="22178880" y="216000"/>
            <a:ext cx="2778120" cy="3889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5" descr=""/>
          <p:cNvPicPr/>
          <p:nvPr/>
        </p:nvPicPr>
        <p:blipFill>
          <a:blip r:embed="rId6"/>
          <a:stretch/>
        </p:blipFill>
        <p:spPr>
          <a:xfrm>
            <a:off x="7524720" y="712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6" descr="SIURO LOGO rev nov 2008"/>
          <p:cNvPicPr/>
          <p:nvPr/>
        </p:nvPicPr>
        <p:blipFill>
          <a:blip r:embed="rId7"/>
          <a:stretch/>
        </p:blipFill>
        <p:spPr>
          <a:xfrm>
            <a:off x="291960" y="1413000"/>
            <a:ext cx="8240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158920" y="115920"/>
            <a:ext cx="853452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Prostate cancer Research International: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Active Surveill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332000" y="2421000"/>
            <a:ext cx="5770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2" name="Picture 5" descr=""/>
          <p:cNvPicPr/>
          <p:nvPr/>
        </p:nvPicPr>
        <p:blipFill>
          <a:blip r:embed="rId1"/>
          <a:stretch/>
        </p:blipFill>
        <p:spPr>
          <a:xfrm>
            <a:off x="108000" y="63360"/>
            <a:ext cx="19256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Object 7"/>
          <p:cNvGraphicFramePr/>
          <p:nvPr/>
        </p:nvGraphicFramePr>
        <p:xfrm>
          <a:off x="179280" y="5661000"/>
          <a:ext cx="971640" cy="96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661000"/>
                    <a:ext cx="971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7"/>
          <p:cNvGraphicFramePr/>
          <p:nvPr/>
        </p:nvGraphicFramePr>
        <p:xfrm>
          <a:off x="7524720" y="5805360"/>
          <a:ext cx="1428840" cy="8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24720" y="5805360"/>
                    <a:ext cx="1428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9"/>
          <p:cNvSpPr/>
          <p:nvPr/>
        </p:nvSpPr>
        <p:spPr>
          <a:xfrm>
            <a:off x="1042920" y="1374120"/>
            <a:ext cx="70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tudio prospettico multicentrico internazionale finalizzato 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alutare la sorveglianza attiva quale atteggiamento alternativo al trattamento radicale (chirurgia, radioterapia o brachiterapia)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egli uomini con tumore della prostata clinicamente localizzato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 basso rischio di progressione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ttraverso un'agenda di controlli clinici e diagnostic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ali da monitorare lo stato di malattia nel tempo</a:t>
            </a:r>
            <a:r>
              <a:rPr b="0" lang="it-IT" sz="1800" spc="-1" strike="noStrike">
                <a:solidFill>
                  <a:srgbClr val="a886e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1763640" y="35298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entro coordinatore internazionale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rasmus Medical Center, Rotterdam, Olan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0" y="4898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7 nazioni nel mondo, tra cui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ustralia, Belgio, Canada, Germania, Giappone, Italia, Olanda, Spagna,Svez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763640" y="56192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azienti inclusi in PRIAS dal 2003 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ltre 17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34920" y="417924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cercatore responsabile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Prof. C. Bangma, Dip. Urology, Erasmus Medical Center, Rotterdam, Olan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5e5ff"/>
                </a:solidFill>
                <a:latin typeface="Garamond"/>
              </a:rPr>
              <a:t>VARIAZIONI NEL TEMPO</a:t>
            </a:r>
            <a:r>
              <a:rPr b="1" i="1" lang="it-IT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it-IT" sz="2400" spc="-1" strike="noStrike">
                <a:solidFill>
                  <a:srgbClr val="e5e5ff"/>
                </a:solidFill>
                <a:latin typeface="Garamond"/>
              </a:rPr>
              <a:t>DELLA STRATIFICAZIONE DEL RISCHIO ALLA DIAGNOSI (DATABASE CaPSURE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460440" y="1989000"/>
          <a:ext cx="822312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989000"/>
                    <a:ext cx="822312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0" y="6548400"/>
            <a:ext cx="3276720" cy="28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it-IT" sz="1200" spc="-1" strike="noStrike">
                <a:solidFill>
                  <a:srgbClr val="f8da24"/>
                </a:solidFill>
                <a:latin typeface="Arial"/>
              </a:rPr>
              <a:t>COOPERBERG MR et al JCO 23:8146, 200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8085240" y="5894280"/>
            <a:ext cx="871560" cy="826920"/>
            <a:chOff x="8085240" y="5894280"/>
            <a:chExt cx="871560" cy="826920"/>
          </a:xfrm>
        </p:grpSpPr>
        <p:sp>
          <p:nvSpPr>
            <p:cNvPr id="133" name="WordArt 6"/>
            <p:cNvSpPr txBox="1"/>
            <p:nvPr/>
          </p:nvSpPr>
          <p:spPr>
            <a:xfrm>
              <a:off x="8085240" y="6564240"/>
              <a:ext cx="871560" cy="15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</a:rPr>
                <a:t>U.O.C. UROLOGIA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Garamond"/>
                <a:ea typeface="Garamond"/>
              </a:endParaRPr>
            </a:p>
          </p:txBody>
        </p:sp>
        <p:sp>
          <p:nvSpPr>
            <p:cNvPr id="134" name="WordArt 7"/>
            <p:cNvSpPr txBox="1"/>
            <p:nvPr/>
          </p:nvSpPr>
          <p:spPr>
            <a:xfrm>
              <a:off x="8085240" y="5894280"/>
              <a:ext cx="870480" cy="473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9813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Garamond"/>
                </a:rPr>
                <a:t>OSPEDALE NOCERA INFERIORE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Garamond"/>
                <a:ea typeface="Garamond"/>
              </a:endParaRPr>
            </a:p>
          </p:txBody>
        </p:sp>
        <p:pic>
          <p:nvPicPr>
            <p:cNvPr id="135" name="Picture 8" descr="Immagine2"/>
            <p:cNvPicPr/>
            <p:nvPr/>
          </p:nvPicPr>
          <p:blipFill>
            <a:blip r:embed="rId3"/>
            <a:stretch/>
          </p:blipFill>
          <p:spPr>
            <a:xfrm>
              <a:off x="8222760" y="5973120"/>
              <a:ext cx="602640" cy="63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3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332000" y="2421000"/>
            <a:ext cx="5770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4" name="Object 7"/>
          <p:cNvGraphicFramePr/>
          <p:nvPr/>
        </p:nvGraphicFramePr>
        <p:xfrm>
          <a:off x="179280" y="5661000"/>
          <a:ext cx="97164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661000"/>
                    <a:ext cx="971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7"/>
          <p:cNvGraphicFramePr/>
          <p:nvPr/>
        </p:nvGraphicFramePr>
        <p:xfrm>
          <a:off x="7524720" y="5805360"/>
          <a:ext cx="14288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5805360"/>
                    <a:ext cx="1428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2"/>
          <p:cNvSpPr/>
          <p:nvPr/>
        </p:nvSpPr>
        <p:spPr>
          <a:xfrm>
            <a:off x="2374920" y="260280"/>
            <a:ext cx="853452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SIUrO PRIAS 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324000" y="132516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clinazione italiana di PRIAS sotto l’egida SIUrO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inalizzata 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) partecipare allo studio multicentrico internazionale PRIAS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 modo coordinato e in sinergia con diverse figure professiona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- uropatologi per la revisione centralizz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- trial coordinator per l’organizzazione dello stu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- data manager per l’inserimento dati, la pianificazione dei controlli e 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- rapporti con il centro coordinatore internaziona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) ampliare la raccolta dati prevista da PRIAS per analisi ad ho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1042920" y="41061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entro coordinatore in Itali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gramma Prostata, Istituto Nazionale dei Tumori, Milan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1152360" y="491436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ordinatore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Dr. R. Valdagni, Programma Prostata, Istituto Nazionale dei Tumori, Milan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-Coordinato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G. Conti, Dip. Chirurgia, Ospedale Sant’Anna, Com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2" name="Picture 14" descr="SIURO LOGO rev nov 2008"/>
          <p:cNvPicPr/>
          <p:nvPr/>
        </p:nvPicPr>
        <p:blipFill>
          <a:blip r:embed="rId5"/>
          <a:stretch/>
        </p:blipFill>
        <p:spPr>
          <a:xfrm>
            <a:off x="108000" y="44280"/>
            <a:ext cx="824040" cy="863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6"/>
          <a:stretch/>
        </p:blipFill>
        <p:spPr>
          <a:xfrm>
            <a:off x="971640" y="-27000"/>
            <a:ext cx="1152360" cy="560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6" descr="flag"/>
          <p:cNvPicPr/>
          <p:nvPr/>
        </p:nvPicPr>
        <p:blipFill>
          <a:blip r:embed="rId7"/>
          <a:stretch/>
        </p:blipFill>
        <p:spPr>
          <a:xfrm>
            <a:off x="1152360" y="476280"/>
            <a:ext cx="755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Line 3"/>
          <p:cNvSpPr/>
          <p:nvPr/>
        </p:nvSpPr>
        <p:spPr>
          <a:xfrm>
            <a:off x="0" y="69228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1332000" y="2421000"/>
            <a:ext cx="5770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250920" y="11592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886e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CENTRI ARRUOLANT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250920" y="1284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log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oliclinico Sant’Orsola Malpigh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f. G. Martoran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C. Bizzar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Cesena 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Ospedale M. Bufalini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r. A. Tur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r. G. Cicchet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Sant’An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G. Con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esenzano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Ospedale Civile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r. M. Tanell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r. E. Freg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il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Nazionale dei Tumor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 Dr. R. Valdag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C. Marengh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N. Nicola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S. Vil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ocera I.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Umberto 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 Dr. R. Sanseveri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G. Napoda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om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Regina Ele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f. M. Galluc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R. Papali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ozzan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Clinico Humanitas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Dr. P. Graziot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G. Tavern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R. Peschecher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3"/>
          <p:cNvSpPr/>
          <p:nvPr/>
        </p:nvSpPr>
        <p:spPr>
          <a:xfrm>
            <a:off x="0" y="69228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1332000" y="2421000"/>
            <a:ext cx="5770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61" name="Object 7"/>
          <p:cNvGraphicFramePr/>
          <p:nvPr/>
        </p:nvGraphicFramePr>
        <p:xfrm>
          <a:off x="179280" y="5661000"/>
          <a:ext cx="97164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661000"/>
                    <a:ext cx="971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7"/>
          <p:cNvGraphicFramePr/>
          <p:nvPr/>
        </p:nvGraphicFramePr>
        <p:xfrm>
          <a:off x="7524720" y="5805360"/>
          <a:ext cx="14288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5805360"/>
                    <a:ext cx="1428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"/>
          <p:cNvSpPr/>
          <p:nvPr/>
        </p:nvSpPr>
        <p:spPr>
          <a:xfrm>
            <a:off x="250920" y="11592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886e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CENTRI INTERESSAT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95280" y="115380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Hanno chiesto informazioni e i documenti per la presentazione del protocollo al Comitato Etico Indipendent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remo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             Ospedale Civil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Dr. V. De Luca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orlì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spedale Morgagni-Pierantoni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.ssa R. Gunelli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Legnago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Ospedale Mater Salutis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800000"/>
                </a:solidFill>
                <a:latin typeface="Calibri"/>
              </a:rPr>
              <a:t>Dr. A. Bonet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rbass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San Luigi Gonzag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 Dr. E. Bollito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ordenone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Civile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O. Lenardon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ggio Emili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Civil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D. Vio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3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1332000" y="2421000"/>
            <a:ext cx="5770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69" name="Object 7"/>
          <p:cNvGraphicFramePr/>
          <p:nvPr/>
        </p:nvGraphicFramePr>
        <p:xfrm>
          <a:off x="179280" y="5661000"/>
          <a:ext cx="97164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661000"/>
                    <a:ext cx="9716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7"/>
          <p:cNvGraphicFramePr/>
          <p:nvPr/>
        </p:nvGraphicFramePr>
        <p:xfrm>
          <a:off x="7524720" y="5805360"/>
          <a:ext cx="14288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5805360"/>
                    <a:ext cx="14288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Text Box 2"/>
          <p:cNvSpPr/>
          <p:nvPr/>
        </p:nvSpPr>
        <p:spPr>
          <a:xfrm>
            <a:off x="250920" y="30780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- UROPATOLOG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395280" y="126468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llaborano a SIUrO PRIAS IT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nco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Le Torrett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f. R. Montiron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log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oliclinico Sant’Orsola Malpigh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M. Fiorenti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il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Nazionale dei Tumor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Dr. M. Colecch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rbass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San Luigi Gonzag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     Dr. E. Bollit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om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Regina Ele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r. S. Sentinell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visione centralizzata delle biopsie diagnostich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nferma grading e sizing della biopsia inizia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visione centralizzata delle rebiopsie di follow up eseguite nei centr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ove non è presente l’uropatologo (in fase di implementazion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 centri sono stati assegnati agli uropatologi su base geografica nella riunione di start up (novembre 2009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382680" y="1225800"/>
            <a:ext cx="86533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Come da protocollo PRIAS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1. Diagnosi istologica di adenocarcinoma della prostata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2. Pazienti idonei ai trattamenti radicali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3. PSA alla diagnosi ≤ 10 ng/mL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4. PSA density (PSA D=iPSA/volume prostatico) &lt; 0,2 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5. Stadio Clinico T1c o T2 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6. Adeguato campionamento bioptico in base al volume prostatico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Vol &lt;40 cc 8 core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Vol 40-60 cc 10 core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Vol &gt;60 cc 12 core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In caso di biopsia non adeguata al volume, è possibile ripeterla dopo 3</a:t>
            </a:r>
            <a:br>
              <a:rPr sz="1900"/>
            </a:b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mesi da quella diagnostica (confirmation biopsy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7. Gleason score 3+3=6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(in pazienti ultrasettantenni è ammesso Gleason 3+4 se ciascun campione con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Gleason 3+4 è interessato per meno del 10%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8. Massimo 2 core bioptici positivi, confermato alla revisione istologica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(in caso di saturation biopsy è ammesso fino al 10% dei campioni positivi)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it-IT" sz="1900" spc="-1" strike="noStrike">
                <a:solidFill>
                  <a:srgbClr val="ffffff"/>
                </a:solidFill>
                <a:latin typeface="Calibri"/>
              </a:rPr>
              <a:t>9. Partecipanti disposti a seguire il follow-up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50920" y="34776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886e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CRITERI DI INCLUSIO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1031760" y="1964520"/>
            <a:ext cx="86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sclusivamente per SIUrO PRIAS IT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visione della biopsia diagnostica e conferma dei dati istologi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250920" y="34776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886e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CRITERI DI INCLUSIO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2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971640" y="1738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886e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. Familiarità, etnia, scolarità, abitudini alimentari, fumo, alc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. Cinetica del PSA pre-biopsi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. IPSS, Valutazione della funzione erettile (IIF-5), FACT-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4. Comorbidit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. Farmaci*: principio attivo, dosaggio, data di iniz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6. Integrator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7. Terapie alternat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*Particolare attenzione a 5</a:t>
            </a:r>
            <a:r>
              <a:rPr b="0" lang="it-IT" sz="1800" spc="-1" strike="noStrike" baseline="30000">
                <a:solidFill>
                  <a:srgbClr val="ffffff"/>
                </a:solidFill>
                <a:latin typeface="Calibri"/>
              </a:rPr>
              <a:t> alph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reduttas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RACCOLTA DATI AD HOC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1535040" y="1744920"/>
            <a:ext cx="86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e da protocollo PRIAS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. Pazienti non idonei a trattamento radical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. Precedenti terapie per carcinoma della prostat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250920" y="40464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886e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CRITERI DI ESCLUSIO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250920" y="404640"/>
            <a:ext cx="8534160" cy="48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FOLLOW UP MANAGEM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250920" y="1341360"/>
          <a:ext cx="40813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0813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Rectangle 15"/>
          <p:cNvSpPr/>
          <p:nvPr/>
        </p:nvSpPr>
        <p:spPr>
          <a:xfrm>
            <a:off x="4500720" y="3934440"/>
            <a:ext cx="424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riteri di uscita (come protocollo PRIA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. Upsizing alla rebiopsi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. Upgrading alla rebiopsi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. PSA Doubling Time &lt; 3 anni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4. Stadio clinico &gt;T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ttenzion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)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 PSA DT compreso tra 3 e 10 anni, extrabiopsia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)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 PSA &gt; 20 ng/ml, scan oss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4427640" y="988920"/>
            <a:ext cx="47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ollow Up PRI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i primi due anni:  PSA ogni 3 mes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SA e DRE ogni 6 mes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uccessivamente: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PSA ogni 6 mes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SA e DRE una volta l’an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ollow Up SIUrO PRIAS I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mpre: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PSA ogni 3 mes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SA e DRE ogni 6 mes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24000" y="61657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iopsia a 12, 48, 84 mesi, come in PRI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Line 2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682560" y="197244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Username e password per accedere alla pagina del centro sul sito PRI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serimento centralizzato dei nuovi pazienti e calendario appuntamenti in italiano ad hoc per ogni pazien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 collaborazione con il centro coordinatore internazionale valutazione periodica dei dati inseriti nel database PRIAS per ogni centro e contatto per discutere casi particolari o persi al follow up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zione dedicata sul sito SIUrO (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Calibri"/>
                <a:hlinkClick r:id="rId1"/>
              </a:rPr>
              <a:t>www.siuro.it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) con informazioni e possibilità di scaricare la scheda raccolta dati e i questiona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orum per la discussione dei casi (sul sito SIUrO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unioni periodiche/call conference con i centri partecipan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457200" y="-171360"/>
            <a:ext cx="82296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ELEMENTI STRUTTURA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8"/>
          <p:cNvGraphicFramePr/>
          <p:nvPr/>
        </p:nvGraphicFramePr>
        <p:xfrm>
          <a:off x="324000" y="1895400"/>
          <a:ext cx="8496000" cy="52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5400"/>
                    <a:ext cx="849600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9"/>
          <p:cNvSpPr/>
          <p:nvPr/>
        </p:nvSpPr>
        <p:spPr>
          <a:xfrm>
            <a:off x="684360" y="2300400"/>
            <a:ext cx="482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Garamond"/>
              </a:rPr>
              <a:t>36 CLINICAL SITES (CaPSURE registry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Garamond"/>
              </a:rPr>
              <a:t>11.892 PATIE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258920" y="903240"/>
            <a:ext cx="7705800" cy="1085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-7920" y="3240"/>
            <a:ext cx="6657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2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64000" y="1197000"/>
            <a:ext cx="187200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rruola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179280" y="260280"/>
            <a:ext cx="8713800" cy="504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it-IT" sz="2600" spc="-1" strike="noStrike">
                <a:solidFill>
                  <a:srgbClr val="ffff00"/>
                </a:solidFill>
                <a:latin typeface="Calibri"/>
              </a:rPr>
              <a:t>SIUrO PRIAS ITA – PAZIENTI ARRUOLATI/USCITI PER CENTR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324000" y="171396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log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oliclinico Sant’Orsola Malpigh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2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esen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M. Bufalini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 (1 pending)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Sant’An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21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2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senz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Civil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ilano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Nazionale dei Tumor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88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ocera I.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pedale Umberto 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om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Regina Elena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7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2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ozzan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stituto Clinico Humanitas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48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    1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7810560" y="1197000"/>
            <a:ext cx="1225440" cy="36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Usci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24000" y="390384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Bologna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Policlinico Sant’Orsola Malpighi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8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2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Cesena 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Ospedale M. Bufalini 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2 (1 pending)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Como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Ospedale Sant’Anna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  28 (3 pending)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2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Desenzano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Ospedale Civile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0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Milano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Istituto Nazionale dei Tumori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 101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Nocera I.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Ospedale Umberto I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     6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 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Roma 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Istituto Regina Elena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22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2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Rozzano 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Istituto Clinico Humanitas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6 (2 pending)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         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ttangolo 1"/>
          <p:cNvSpPr/>
          <p:nvPr/>
        </p:nvSpPr>
        <p:spPr>
          <a:xfrm>
            <a:off x="6881760" y="5300640"/>
            <a:ext cx="723960" cy="4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5983200" y="1484280"/>
            <a:ext cx="749520" cy="48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3"/>
          <p:cNvSpPr/>
          <p:nvPr/>
        </p:nvSpPr>
        <p:spPr>
          <a:xfrm>
            <a:off x="539640" y="1341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542916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à mediana 66 anni (range 50-77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542916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llow-up mediano 13 mesi (range 0.2-27.7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042920" y="160200"/>
            <a:ext cx="6942240" cy="676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aratteristiche dei 148 pazienti (1/2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808280" y="5946840"/>
            <a:ext cx="156456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PSA alla diagnos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6161040" y="6107040"/>
            <a:ext cx="143964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Stadio T Clinic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4" name="Picture 15" descr=""/>
          <p:cNvPicPr/>
          <p:nvPr/>
        </p:nvPicPr>
        <p:blipFill>
          <a:blip r:embed="rId2"/>
          <a:srcRect l="23211" t="5588" r="24566" b="4929"/>
          <a:stretch/>
        </p:blipFill>
        <p:spPr>
          <a:xfrm>
            <a:off x="4716360" y="1484280"/>
            <a:ext cx="4051440" cy="4321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4464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ttangolo 1"/>
          <p:cNvSpPr/>
          <p:nvPr/>
        </p:nvSpPr>
        <p:spPr>
          <a:xfrm>
            <a:off x="3276720" y="1700280"/>
            <a:ext cx="7905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817560" cy="5302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1522080" y="5734080"/>
            <a:ext cx="21024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Numero di core positiv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042920" y="160200"/>
            <a:ext cx="6942240" cy="676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Caratteristiche dei 148 pazienti (2/2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Line 10"/>
          <p:cNvSpPr/>
          <p:nvPr/>
        </p:nvSpPr>
        <p:spPr>
          <a:xfrm>
            <a:off x="0" y="1052640"/>
            <a:ext cx="9036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1" name="Picture 13" descr=""/>
          <p:cNvPicPr/>
          <p:nvPr/>
        </p:nvPicPr>
        <p:blipFill>
          <a:blip r:embed="rId2"/>
          <a:srcRect l="17927" t="12531" r="24387" b="0"/>
          <a:stretch/>
        </p:blipFill>
        <p:spPr>
          <a:xfrm>
            <a:off x="-108000" y="1484280"/>
            <a:ext cx="4321080" cy="4079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"/>
          <p:cNvPicPr/>
          <p:nvPr/>
        </p:nvPicPr>
        <p:blipFill>
          <a:blip r:embed="rId3"/>
          <a:stretch/>
        </p:blipFill>
        <p:spPr>
          <a:xfrm>
            <a:off x="4284720" y="206856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499160" cy="562428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3418920" y="2421000"/>
            <a:ext cx="1855440" cy="398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886e0"/>
                </a:solidFill>
                <a:latin typeface="Arial"/>
              </a:rPr>
              <a:t>15 mos = 89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5562000" y="3357720"/>
            <a:ext cx="1855440" cy="398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886e0"/>
                </a:solidFill>
                <a:latin typeface="Arial"/>
              </a:rPr>
              <a:t>27 mos = 73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614240" cy="865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"/>
          <p:cNvPicPr/>
          <p:nvPr/>
        </p:nvPicPr>
        <p:blipFill>
          <a:blip r:embed="rId2"/>
          <a:stretch/>
        </p:blipFill>
        <p:spPr>
          <a:xfrm>
            <a:off x="2484360" y="4844880"/>
            <a:ext cx="1390680" cy="744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"/>
          <p:cNvPicPr/>
          <p:nvPr/>
        </p:nvPicPr>
        <p:blipFill>
          <a:blip r:embed="rId3"/>
          <a:stretch/>
        </p:blipFill>
        <p:spPr>
          <a:xfrm>
            <a:off x="5867280" y="4700520"/>
            <a:ext cx="1390680" cy="744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4"/>
          <a:stretch/>
        </p:blipFill>
        <p:spPr>
          <a:xfrm>
            <a:off x="7213680" y="2492280"/>
            <a:ext cx="1390680" cy="744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5"/>
          <a:stretch/>
        </p:blipFill>
        <p:spPr>
          <a:xfrm>
            <a:off x="5003640" y="1268280"/>
            <a:ext cx="1390680" cy="744840"/>
          </a:xfrm>
          <a:prstGeom prst="rect">
            <a:avLst/>
          </a:prstGeom>
          <a:ln w="0">
            <a:noFill/>
          </a:ln>
        </p:spPr>
      </p:pic>
      <p:sp>
        <p:nvSpPr>
          <p:cNvPr id="531" name="Rettangolo 1"/>
          <p:cNvSpPr/>
          <p:nvPr/>
        </p:nvSpPr>
        <p:spPr>
          <a:xfrm>
            <a:off x="1547640" y="1413000"/>
            <a:ext cx="136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Line 2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95280" y="0"/>
            <a:ext cx="851076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IUrO PRIAS ITA - Ragioni di uscit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6"/>
          <a:srcRect l="0" t="7275" r="0" b="0"/>
          <a:stretch/>
        </p:blipFill>
        <p:spPr>
          <a:xfrm>
            <a:off x="611280" y="1282680"/>
            <a:ext cx="7956360" cy="45943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9"/>
          <p:cNvSpPr/>
          <p:nvPr/>
        </p:nvSpPr>
        <p:spPr>
          <a:xfrm>
            <a:off x="252360" y="5805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La % di drop out per ansia è un dato che fa riflettere ed è un campo di ricerca evidenziato anche all’ultimo PRIAS User Meeting (EAU, Vienna, Marzo 2011)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Line 2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95280" y="0"/>
            <a:ext cx="851076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IUrO PRIAS ITA – Terapie effettuate dai pazienti usciti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76360" y="1413000"/>
            <a:ext cx="8172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17 pazienti hanno interrotto la sorveglianza attiva sulla base del protocollo o per scelta personal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9 pazienti sono stati sottoposti a chirurgi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3 a brachiterapi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3 pazienti sono passati ad altro atteggiamento osservazionale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1 paziente ha effettuato radioterap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CONCLUS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AS is a clinical reality (should be part of controlled trial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Patient </a:t>
            </a: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Selection:  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accurate?  </a:t>
            </a: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Follow-up: 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PSA kinetics? Bx and Q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AS failure: Real Progression or Wrong selection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Significant psychological burden (specific support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Garamond"/>
              </a:rPr>
              <a:t>Good clinical results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- low mortality risk in intermediate time fram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- ratio no PCa/PCa mortality 19:1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- high NNT  (20-30%)  (quality of deferred therapy?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Garamond"/>
              </a:rPr>
              <a:t>FUTURE ADVANC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4140360" y="1171440"/>
            <a:ext cx="4537080" cy="2186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9"/>
          <p:cNvSpPr/>
          <p:nvPr/>
        </p:nvSpPr>
        <p:spPr>
          <a:xfrm>
            <a:off x="382320" y="170028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ST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271800" y="3645000"/>
            <a:ext cx="55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PROTECT: AS vs RP vs 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200880" y="4365720"/>
            <a:ext cx="48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REDEEM: Dutaster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35640" y="501336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Multiparametric MRI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-218520" y="5734080"/>
            <a:ext cx="73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Focal therapy for progressed p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Line 14"/>
          <p:cNvSpPr/>
          <p:nvPr/>
        </p:nvSpPr>
        <p:spPr>
          <a:xfrm>
            <a:off x="2340000" y="1989000"/>
            <a:ext cx="1366920" cy="0"/>
          </a:xfrm>
          <a:prstGeom prst="line">
            <a:avLst/>
          </a:prstGeom>
          <a:ln w="57240">
            <a:solidFill>
              <a:srgbClr val="e5e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57200" y="2287440"/>
            <a:ext cx="8229600" cy="452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7705800" cy="108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6480" y="-12600"/>
            <a:ext cx="6657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6948360" cy="405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1258920" y="974880"/>
            <a:ext cx="7705800" cy="108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6480" y="-12600"/>
            <a:ext cx="6657840" cy="733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7235280" y="2876400"/>
            <a:ext cx="193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WW/AS 0-28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R 11-82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EBRT 1-33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Brachi 0-47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Crio 0-4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ADT 1-4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6766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High variablity among Cen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Risk stratification prevalent parameter for T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Tx often driven by factors other than risk profi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(physician/patient prefere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aucity of RCTs comparing different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12" descr=""/>
          <p:cNvPicPr/>
          <p:nvPr/>
        </p:nvPicPr>
        <p:blipFill>
          <a:blip r:embed="rId1"/>
          <a:stretch/>
        </p:blipFill>
        <p:spPr>
          <a:xfrm>
            <a:off x="1258920" y="974880"/>
            <a:ext cx="7705800" cy="108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2"/>
          <a:stretch/>
        </p:blipFill>
        <p:spPr>
          <a:xfrm>
            <a:off x="6480" y="-12600"/>
            <a:ext cx="6657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0:55:19Z</dcterms:created>
  <dc:creator>ROBERTO</dc:creator>
  <dc:description/>
  <dc:language>en-US</dc:language>
  <cp:lastModifiedBy>roberto</cp:lastModifiedBy>
  <dcterms:modified xsi:type="dcterms:W3CDTF">2011-09-10T06:25:00Z</dcterms:modified>
  <cp:revision>167</cp:revision>
  <dc:subject/>
  <dc:title>TRATTAMENTO CHIRURGICO E MININVASIVO DELLA CALCOLOSI URINARIA: INDICAZIONI TECNICA E RISULTATI</dc:title>
</cp:coreProperties>
</file>