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6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12.png" ContentType="image/png"/>
  <Override PartName="/ppt/media/image23.wmf" ContentType="image/x-wmf"/>
  <Override PartName="/ppt/media/image24.png" ContentType="image/png"/>
  <Override PartName="/ppt/media/image11.jpeg" ContentType="image/jpeg"/>
  <Override PartName="/ppt/media/image33.png" ContentType="image/png"/>
  <Override PartName="/ppt/media/image7.png" ContentType="image/png"/>
  <Override PartName="/ppt/media/image40.wmf" ContentType="image/x-wmf"/>
  <Override PartName="/ppt/media/image42.png" ContentType="image/png"/>
  <Override PartName="/ppt/media/image2.wmf" ContentType="image/x-wmf"/>
  <Override PartName="/ppt/media/image25.wmf" ContentType="image/x-wmf"/>
  <Override PartName="/ppt/media/image43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3AC8-6B0E-4AE3-B700-7B1A88F912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3F41-8FCF-4962-BF64-C769FFD5E9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693D-2418-4A91-A1EE-7BB0BB908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ccelerated Partial Breast Irradiation falls under the umbrella of Breast Conservation Therapy, cosmesis is an important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974E-8A98-492C-9E44-00A2DA08408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ACD6-BC23-4FD2-955D-B876F6AA11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606-C362-41A8-8818-D5305581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E4F-0164-44AF-969F-3E69B96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E75-61F2-4B9A-A22A-F2C27589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486-40BE-4D33-BF39-DCDA30CA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299-10DC-4732-A987-342761C9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7AD-F53A-4C93-AA0E-12932309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EB5-9EBC-4D0C-A1A5-C35BBAE0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DA6-A661-4C99-B3CB-D0C4D86F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DD4-0741-42AF-992B-57AD3818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4C0-1E70-4F37-AA8D-E7403569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253-4042-4444-86C9-0210A7CE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C44-C334-4546-AC7C-8759407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08BA-3EED-45F6-92E7-573C7157581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image" Target="../media/image2.wm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2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2.wm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333399"/>
                </a:solidFill>
                <a:latin typeface="Arial"/>
              </a:rPr>
              <a:t>Partial Breast Ir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696080" y="5514840"/>
            <a:ext cx="1312920" cy="122724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375280" y="22860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6764400" y="9360"/>
            <a:ext cx="2415960" cy="1835280"/>
          </a:xfrm>
          <a:prstGeom prst="rect">
            <a:avLst/>
          </a:prstGeom>
          <a:ln w="0">
            <a:noFill/>
          </a:ln>
        </p:spPr>
      </p:pic>
      <p:sp>
        <p:nvSpPr>
          <p:cNvPr id="54" name="Rettangolo 7"/>
          <p:cNvSpPr/>
          <p:nvPr/>
        </p:nvSpPr>
        <p:spPr>
          <a:xfrm>
            <a:off x="826920" y="4076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cura di: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A. Ciabattoni, S. Borghesi, E. Ippol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eratori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. Guenzi, S. Pergoliz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pporter –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. Ippolito, Università Campus Biomedico, 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cussant – 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. Ciabattoni, ACO S.Filippo Neri, 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46160" y="83664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vard Scale for Cosm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39680" y="15228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metic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160" y="1897200"/>
          <a:ext cx="4249800" cy="3262320"/>
        </p:xfrm>
        <a:graphic>
          <a:graphicData uri="http://schemas.openxmlformats.org/drawingml/2006/table">
            <a:tbl>
              <a:tblPr/>
              <a:tblGrid>
                <a:gridCol w="1206360"/>
                <a:gridCol w="3043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ed breast looks same as untreated br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, but identifiable changes to the treated br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 effects of radiation were noti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normal tissue sequel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2"/>
          <p:cNvSpPr/>
          <p:nvPr/>
        </p:nvSpPr>
        <p:spPr>
          <a:xfrm>
            <a:off x="65160" y="5568840"/>
            <a:ext cx="436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ris J, et al. Archives of Surgery 1989 Vol 124;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9"/>
          <p:cNvSpPr/>
          <p:nvPr/>
        </p:nvSpPr>
        <p:spPr>
          <a:xfrm>
            <a:off x="108000" y="1230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umpectomy + Whole Breast Ir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364000" y="1341360"/>
            <a:ext cx="3318120" cy="436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surgical 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ute ski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atoma form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angiect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nec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qua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cess formation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211640" y="152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 Effects Following AP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8272440" y="6021360"/>
            <a:ext cx="836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3"/>
          <p:cNvSpPr/>
          <p:nvPr/>
        </p:nvSpPr>
        <p:spPr>
          <a:xfrm>
            <a:off x="0" y="8730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67400" y="89064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LOCAL RECURRENCE: Br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58040" y="1251000"/>
            <a:ext cx="95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37 (2.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5-y 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1042920" y="1201680"/>
            <a:ext cx="46080" cy="744480"/>
          </a:xfrm>
          <a:custGeom>
            <a:avLst/>
            <a:gdLst>
              <a:gd name="textAreaLeft" fmla="*/ 29520 w 46080"/>
              <a:gd name="textAreaRight" fmla="*/ 46440 w 46080"/>
              <a:gd name="textAreaTop" fmla="*/ 17640 h 744480"/>
              <a:gd name="textAreaBottom" fmla="*/ 72684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9"/>
                  <a:pt x="10800" y="1658"/>
                </a:cubicBezTo>
                <a:lnTo>
                  <a:pt x="10800" y="9142"/>
                </a:lnTo>
                <a:cubicBezTo>
                  <a:pt x="10800" y="9971"/>
                  <a:pt x="5400" y="10800"/>
                  <a:pt x="0" y="10800"/>
                </a:cubicBezTo>
                <a:cubicBezTo>
                  <a:pt x="5400" y="10800"/>
                  <a:pt x="10800" y="11629"/>
                  <a:pt x="10800" y="12458"/>
                </a:cubicBezTo>
                <a:lnTo>
                  <a:pt x="10800" y="19942"/>
                </a:lnTo>
                <a:cubicBezTo>
                  <a:pt x="10800" y="207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1093680" y="117792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LSEWHERE FAIL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1089720" y="1442880"/>
            <a:ext cx="22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FIELD FAIL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047600" y="1658880"/>
            <a:ext cx="27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Median time to failure 33 mon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8" descr="balloon"/>
          <p:cNvPicPr/>
          <p:nvPr/>
        </p:nvPicPr>
        <p:blipFill>
          <a:blip r:embed="rId1"/>
          <a:stretch/>
        </p:blipFill>
        <p:spPr>
          <a:xfrm>
            <a:off x="6899400" y="-27000"/>
            <a:ext cx="2260440" cy="907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228600" y="399564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239360" y="9478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COSM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6183000" y="93816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TOX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184080" y="1197000"/>
            <a:ext cx="155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8% sero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.3% fat necr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232160" y="1197000"/>
            <a:ext cx="174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xcellent/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 yrs : 9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 yrs: 9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8000" y="2060640"/>
            <a:ext cx="884376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8237520" y="907920"/>
            <a:ext cx="92412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Ovale 25"/>
          <p:cNvSpPr/>
          <p:nvPr/>
        </p:nvSpPr>
        <p:spPr>
          <a:xfrm>
            <a:off x="3708360" y="2349360"/>
            <a:ext cx="1368360" cy="4364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mammosite"/>
          <p:cNvPicPr/>
          <p:nvPr/>
        </p:nvPicPr>
        <p:blipFill>
          <a:blip r:embed="rId4"/>
          <a:stretch/>
        </p:blipFill>
        <p:spPr>
          <a:xfrm>
            <a:off x="5580000" y="-27000"/>
            <a:ext cx="1368360" cy="907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9"/>
          <p:cNvSpPr/>
          <p:nvPr/>
        </p:nvSpPr>
        <p:spPr>
          <a:xfrm>
            <a:off x="3995640" y="57168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Vicini F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-17640" y="9000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8800" y="190440"/>
            <a:ext cx="49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ZOOM JOURNAL CLUB 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MM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8" descr="balloon"/>
          <p:cNvPicPr/>
          <p:nvPr/>
        </p:nvPicPr>
        <p:blipFill>
          <a:blip r:embed="rId5"/>
          <a:stretch/>
        </p:blipFill>
        <p:spPr>
          <a:xfrm>
            <a:off x="6881760" y="0"/>
            <a:ext cx="2260800" cy="90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6"/>
          <a:stretch/>
        </p:blipFill>
        <p:spPr>
          <a:xfrm>
            <a:off x="8220240" y="934920"/>
            <a:ext cx="923760" cy="865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mammosite"/>
          <p:cNvPicPr/>
          <p:nvPr/>
        </p:nvPicPr>
        <p:blipFill>
          <a:blip r:embed="rId7"/>
          <a:stretch/>
        </p:blipFill>
        <p:spPr>
          <a:xfrm>
            <a:off x="5562720" y="0"/>
            <a:ext cx="13683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1052640"/>
            <a:ext cx="469116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itic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43280" y="4436640"/>
            <a:ext cx="29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ections 9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omas  26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ponecrosis 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ood Cosm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2 months: 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 months: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262120" y="623736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JC Nelson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m J Surg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11280" y="1701720"/>
            <a:ext cx="77058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omogeneous do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oon tissue con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to skin (best cosmetics if ≥7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fficulties due to cancer position and rigid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imetric problems (not water equival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82040" y="163440"/>
            <a:ext cx="49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ZOOM JOURNAL CLUB 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MM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8" descr="balloon"/>
          <p:cNvPicPr/>
          <p:nvPr/>
        </p:nvPicPr>
        <p:blipFill>
          <a:blip r:embed="rId1"/>
          <a:stretch/>
        </p:blipFill>
        <p:spPr>
          <a:xfrm>
            <a:off x="6899400" y="-27000"/>
            <a:ext cx="2260440" cy="90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mammosite"/>
          <p:cNvPicPr/>
          <p:nvPr/>
        </p:nvPicPr>
        <p:blipFill>
          <a:blip r:embed="rId2"/>
          <a:stretch/>
        </p:blipFill>
        <p:spPr>
          <a:xfrm>
            <a:off x="5580000" y="-27000"/>
            <a:ext cx="1368360" cy="907920"/>
          </a:xfrm>
          <a:prstGeom prst="rect">
            <a:avLst/>
          </a:prstGeom>
          <a:ln w="0">
            <a:noFill/>
          </a:ln>
        </p:spPr>
      </p:pic>
      <p:sp>
        <p:nvSpPr>
          <p:cNvPr id="136" name="Line 3"/>
          <p:cNvSpPr/>
          <p:nvPr/>
        </p:nvSpPr>
        <p:spPr>
          <a:xfrm>
            <a:off x="-17640" y="9000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8220240" y="934920"/>
            <a:ext cx="923760" cy="865440"/>
          </a:xfrm>
          <a:prstGeom prst="rect">
            <a:avLst/>
          </a:prstGeom>
          <a:ln w="0">
            <a:noFill/>
          </a:ln>
        </p:spPr>
      </p:pic>
      <p:pic>
        <p:nvPicPr>
          <p:cNvPr id="138" name="Rettangolo 11" descr=""/>
          <p:cNvPicPr/>
          <p:nvPr/>
        </p:nvPicPr>
        <p:blipFill>
          <a:blip r:embed="rId4"/>
          <a:stretch/>
        </p:blipFill>
        <p:spPr>
          <a:xfrm>
            <a:off x="5937120" y="3956040"/>
            <a:ext cx="3359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5113440" cy="5986800"/>
          </a:xfrm>
          <a:prstGeom prst="rect">
            <a:avLst/>
          </a:prstGeom>
          <a:ln w="0">
            <a:noFill/>
          </a:ln>
        </p:spPr>
      </p:pic>
      <p:sp>
        <p:nvSpPr>
          <p:cNvPr id="140" name="CasellaDiTesto 2"/>
          <p:cNvSpPr/>
          <p:nvPr/>
        </p:nvSpPr>
        <p:spPr>
          <a:xfrm>
            <a:off x="6168240" y="1785960"/>
            <a:ext cx="2043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umour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umber of positive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lecular sub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umor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itumoral inva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718240" y="3429000"/>
            <a:ext cx="3425760" cy="280836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11400" y="15228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ZOOM JOURNAL CLUB 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L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ject 5" descr=""/>
          <p:cNvPicPr/>
          <p:nvPr/>
        </p:nvPicPr>
        <p:blipFill>
          <a:blip r:embed="rId3"/>
          <a:stretch/>
        </p:blipFill>
        <p:spPr>
          <a:xfrm>
            <a:off x="6564240" y="-1584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PIC00011"/>
          <p:cNvPicPr/>
          <p:nvPr/>
        </p:nvPicPr>
        <p:blipFill>
          <a:blip r:embed="rId4"/>
          <a:stretch/>
        </p:blipFill>
        <p:spPr>
          <a:xfrm>
            <a:off x="7632720" y="0"/>
            <a:ext cx="1511280" cy="1208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146" name="Text Box 15"/>
          <p:cNvSpPr/>
          <p:nvPr/>
        </p:nvSpPr>
        <p:spPr>
          <a:xfrm>
            <a:off x="4462200" y="2491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Veronesi U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212560" y="2779560"/>
            <a:ext cx="3513600" cy="155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50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T &lt; 2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 favorable biological characterist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Luminal A, c-erb -, G1-G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5"/>
          <a:stretch/>
        </p:blipFill>
        <p:spPr>
          <a:xfrm>
            <a:off x="8220240" y="1197000"/>
            <a:ext cx="923760" cy="865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6"/>
          <a:stretch/>
        </p:blipFill>
        <p:spPr>
          <a:xfrm>
            <a:off x="3495600" y="5157720"/>
            <a:ext cx="561348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04920" y="1522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8167680" y="5950080"/>
            <a:ext cx="768240" cy="720720"/>
          </a:xfrm>
          <a:prstGeom prst="rect">
            <a:avLst/>
          </a:prstGeom>
          <a:ln w="0">
            <a:noFill/>
          </a:ln>
        </p:spPr>
      </p:pic>
      <p:sp>
        <p:nvSpPr>
          <p:cNvPr id="153" name="Rettangolo 7"/>
          <p:cNvSpPr/>
          <p:nvPr/>
        </p:nvSpPr>
        <p:spPr>
          <a:xfrm>
            <a:off x="324000" y="836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olecular ma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195560" y="410364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985 pt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eated w/ BCS + RT or Mastectomy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+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dium fup= 12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652320" y="2205000"/>
            <a:ext cx="8167680" cy="1646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457200" y="1484280"/>
            <a:ext cx="835992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4"/>
          <a:stretch/>
        </p:blipFill>
        <p:spPr>
          <a:xfrm>
            <a:off x="8064360" y="-1584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Arial"/>
              </a:rPr>
              <a:t>Breast Re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0" y="1890720"/>
            <a:ext cx="4648320" cy="4200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rcRect l="15626" t="0" r="0" b="0"/>
          <a:stretch/>
        </p:blipFill>
        <p:spPr>
          <a:xfrm>
            <a:off x="4500720" y="2057400"/>
            <a:ext cx="3836880" cy="3962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2009880" y="61722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410800" y="617220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stect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 flipV="1">
            <a:off x="2666880" y="3047760"/>
            <a:ext cx="0" cy="251460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 flipH="1">
            <a:off x="761760" y="304812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 flipV="1">
            <a:off x="6477120" y="3200400"/>
            <a:ext cx="0" cy="23623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4500360" y="3200400"/>
            <a:ext cx="198108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699920" y="1828800"/>
            <a:ext cx="2613240" cy="3373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Luminal 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9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5967360" y="1828800"/>
            <a:ext cx="2613240" cy="3373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Luminal 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9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761760" y="4495680"/>
            <a:ext cx="19047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2666880" y="3657600"/>
            <a:ext cx="0" cy="182880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762120" y="3657600"/>
            <a:ext cx="190476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1848600" y="2514600"/>
            <a:ext cx="25704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Arial"/>
              </a:rPr>
              <a:t>Basal lik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8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5963400" y="2438280"/>
            <a:ext cx="25704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Arial"/>
              </a:rPr>
              <a:t>Basal lik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8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 flipV="1">
            <a:off x="6477120" y="4266720"/>
            <a:ext cx="0" cy="12956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4495680" y="4267080"/>
            <a:ext cx="198144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4495680" y="4343400"/>
            <a:ext cx="198144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7"/>
          <p:cNvSpPr/>
          <p:nvPr/>
        </p:nvSpPr>
        <p:spPr>
          <a:xfrm flipV="1">
            <a:off x="6477120" y="4343040"/>
            <a:ext cx="0" cy="121932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808560" y="4876920"/>
            <a:ext cx="298656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00"/>
                </a:solidFill>
                <a:latin typeface="Arial"/>
              </a:rPr>
              <a:t>Her2 enriche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7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5703840" y="4648320"/>
            <a:ext cx="29178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ccff"/>
                </a:solidFill>
                <a:latin typeface="Arial"/>
              </a:rPr>
              <a:t>Luminal Her2</a:t>
            </a:r>
            <a:r>
              <a:rPr b="0" lang="it-IT" sz="1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0yrs LRF 8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6779160" y="12682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Voduc KD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04920" y="1522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8167680" y="6093000"/>
            <a:ext cx="768240" cy="72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4"/>
          <a:stretch/>
        </p:blipFill>
        <p:spPr>
          <a:xfrm>
            <a:off x="8064360" y="-1584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Nodal Re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rcRect l="1482" t="0" r="3557" b="0"/>
          <a:stretch/>
        </p:blipFill>
        <p:spPr>
          <a:xfrm>
            <a:off x="0" y="2057400"/>
            <a:ext cx="4572000" cy="3992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2"/>
          <a:srcRect l="1508" t="0" r="0" b="0"/>
          <a:stretch/>
        </p:blipFill>
        <p:spPr>
          <a:xfrm>
            <a:off x="4572000" y="2057400"/>
            <a:ext cx="3827520" cy="4038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2009880" y="61722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5410800" y="617220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stect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2666880" y="2666880"/>
            <a:ext cx="0" cy="28958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761760" y="266688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6553080" y="2666880"/>
            <a:ext cx="0" cy="289584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 flipH="1">
            <a:off x="4571640" y="2666880"/>
            <a:ext cx="198108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1395360" y="1828800"/>
            <a:ext cx="2613240" cy="3373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Luminal 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9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5891040" y="1828800"/>
            <a:ext cx="2613240" cy="3373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Luminal 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9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761760" y="3962520"/>
            <a:ext cx="19047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V="1">
            <a:off x="2666880" y="3733920"/>
            <a:ext cx="0" cy="17524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762120" y="3733920"/>
            <a:ext cx="190476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48600" y="2514600"/>
            <a:ext cx="25704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Arial"/>
              </a:rPr>
              <a:t>Basal lik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8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189440" y="4572000"/>
            <a:ext cx="298656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00"/>
                </a:solidFill>
                <a:latin typeface="Arial"/>
              </a:rPr>
              <a:t>Her2 enriche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8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6050160" y="2514600"/>
            <a:ext cx="27396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Arial"/>
              </a:rPr>
              <a:t>Basal lik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10yrs LRF 80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4572000" y="4343400"/>
            <a:ext cx="198108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0" y="4419720"/>
            <a:ext cx="1981080" cy="0"/>
          </a:xfrm>
          <a:prstGeom prst="line">
            <a:avLst/>
          </a:prstGeom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5"/>
          <p:cNvSpPr/>
          <p:nvPr/>
        </p:nvSpPr>
        <p:spPr>
          <a:xfrm flipV="1">
            <a:off x="6553080" y="4419720"/>
            <a:ext cx="0" cy="121896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5641560" y="4653000"/>
            <a:ext cx="30870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ccff"/>
                </a:solidFill>
                <a:latin typeface="Arial"/>
              </a:rPr>
              <a:t>Luminal Her2</a:t>
            </a:r>
            <a:r>
              <a:rPr b="0" lang="it-IT" sz="1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0yrs LRF 79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6634800" y="12621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Voduc KD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1522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8167680" y="6093000"/>
            <a:ext cx="768240" cy="722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4"/>
          <a:stretch/>
        </p:blipFill>
        <p:spPr>
          <a:xfrm>
            <a:off x="8064360" y="-1584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580000" y="0"/>
            <a:ext cx="863640" cy="809640"/>
          </a:xfrm>
          <a:prstGeom prst="rect">
            <a:avLst/>
          </a:prstGeom>
          <a:ln w="0">
            <a:noFill/>
          </a:ln>
        </p:spPr>
      </p:pic>
      <p:sp>
        <p:nvSpPr>
          <p:cNvPr id="212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2040" y="115920"/>
            <a:ext cx="42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ZOOM JOURNAL CLUB 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AR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108000" y="1316160"/>
            <a:ext cx="3017880" cy="1752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6502320" y="0"/>
            <a:ext cx="1238400" cy="1052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4"/>
          <a:stretch/>
        </p:blipFill>
        <p:spPr>
          <a:xfrm>
            <a:off x="7740720" y="0"/>
            <a:ext cx="1403280" cy="10652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28600" y="239868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"/>
          <p:cNvPicPr/>
          <p:nvPr/>
        </p:nvPicPr>
        <p:blipFill>
          <a:blip r:embed="rId5"/>
          <a:srcRect l="1332" t="0" r="4052" b="5412"/>
          <a:stretch/>
        </p:blipFill>
        <p:spPr>
          <a:xfrm>
            <a:off x="3492360" y="1197000"/>
            <a:ext cx="5353200" cy="1932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9" name="Text Box 9"/>
          <p:cNvSpPr/>
          <p:nvPr/>
        </p:nvSpPr>
        <p:spPr>
          <a:xfrm>
            <a:off x="4211280" y="13413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5f5f5f"/>
                </a:solidFill>
                <a:latin typeface="Arial Narrow"/>
              </a:rPr>
              <a:t>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2"/>
          <p:cNvSpPr/>
          <p:nvPr/>
        </p:nvSpPr>
        <p:spPr>
          <a:xfrm>
            <a:off x="8448840" y="2666880"/>
            <a:ext cx="4302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/>
          <p:cNvSpPr/>
          <p:nvPr/>
        </p:nvSpPr>
        <p:spPr>
          <a:xfrm>
            <a:off x="8439120" y="1957320"/>
            <a:ext cx="432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6" descr=""/>
          <p:cNvPicPr/>
          <p:nvPr/>
        </p:nvPicPr>
        <p:blipFill>
          <a:blip r:embed="rId6"/>
          <a:stretch/>
        </p:blipFill>
        <p:spPr>
          <a:xfrm>
            <a:off x="179280" y="4695840"/>
            <a:ext cx="4032360" cy="2044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3" name="Picture 17" descr=""/>
          <p:cNvPicPr/>
          <p:nvPr/>
        </p:nvPicPr>
        <p:blipFill>
          <a:blip r:embed="rId7"/>
          <a:stretch/>
        </p:blipFill>
        <p:spPr>
          <a:xfrm>
            <a:off x="4356000" y="5056200"/>
            <a:ext cx="4676760" cy="168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4" name="Picture 18" descr=""/>
          <p:cNvPicPr/>
          <p:nvPr/>
        </p:nvPicPr>
        <p:blipFill>
          <a:blip r:embed="rId8"/>
          <a:stretch/>
        </p:blipFill>
        <p:spPr>
          <a:xfrm>
            <a:off x="5796000" y="4005360"/>
            <a:ext cx="3168720" cy="60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25" name="Picture 19" descr=""/>
          <p:cNvPicPr/>
          <p:nvPr/>
        </p:nvPicPr>
        <p:blipFill>
          <a:blip r:embed="rId9"/>
          <a:stretch/>
        </p:blipFill>
        <p:spPr>
          <a:xfrm>
            <a:off x="468360" y="3224160"/>
            <a:ext cx="5256000" cy="14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Text Box 6"/>
          <p:cNvSpPr/>
          <p:nvPr/>
        </p:nvSpPr>
        <p:spPr>
          <a:xfrm>
            <a:off x="611280" y="1557360"/>
            <a:ext cx="23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4 yrs: 6 (1.2%) LR TARG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5 (0.95%) LR  WB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ttangolo 18"/>
          <p:cNvSpPr/>
          <p:nvPr/>
        </p:nvSpPr>
        <p:spPr>
          <a:xfrm>
            <a:off x="4403880" y="5084640"/>
            <a:ext cx="3240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277080" y="62064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Vaidya JS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concern is whether this dose is sufficient to sterilize microscopic residual disease and whether the irradiated volume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enough to ensure an adequate coverage of th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eas a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6432480" y="2394000"/>
            <a:ext cx="2157480" cy="13107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n age= 63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&lt;2cm= 8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0=8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R=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High grade (G3)=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ttangolo 3"/>
          <p:cNvSpPr/>
          <p:nvPr/>
        </p:nvSpPr>
        <p:spPr>
          <a:xfrm>
            <a:off x="455760" y="2354400"/>
            <a:ext cx="60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majorit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were at relatively low-ris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ttangolo 4"/>
          <p:cNvSpPr/>
          <p:nvPr/>
        </p:nvSpPr>
        <p:spPr>
          <a:xfrm>
            <a:off x="468360" y="3068640"/>
            <a:ext cx="83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854 patients (86%) receive APBI alo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2 patients (14%)   had APBI +WB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adverse prognostic fac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technically feasible because of the small portion of the target  volume irradiated to full dose, limited to the tumour bed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02040" y="115920"/>
            <a:ext cx="42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ZOOM JOURNAL CLUB 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AR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6502320" y="0"/>
            <a:ext cx="1238400" cy="1052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065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1536840" y="549360"/>
            <a:ext cx="4690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itic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ttangolo 12"/>
          <p:cNvSpPr/>
          <p:nvPr/>
        </p:nvSpPr>
        <p:spPr>
          <a:xfrm>
            <a:off x="755640" y="4724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 CUT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criticism is that both in TARGIT trial and ELIOT study, follow-up is too short: median 24 and 36 months, respective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losione 1 13"/>
          <p:cNvSpPr/>
          <p:nvPr/>
        </p:nvSpPr>
        <p:spPr>
          <a:xfrm>
            <a:off x="334800" y="4737240"/>
            <a:ext cx="387360" cy="43308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4646880" y="20952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recchia R 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8317080" y="1125360"/>
            <a:ext cx="792000" cy="741600"/>
          </a:xfrm>
          <a:prstGeom prst="rect">
            <a:avLst/>
          </a:prstGeom>
          <a:ln w="0">
            <a:noFill/>
          </a:ln>
        </p:spPr>
      </p:pic>
      <p:sp>
        <p:nvSpPr>
          <p:cNvPr id="242" name="Esplosione 1 13"/>
          <p:cNvSpPr/>
          <p:nvPr/>
        </p:nvSpPr>
        <p:spPr>
          <a:xfrm>
            <a:off x="324000" y="5468760"/>
            <a:ext cx="387360" cy="43344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82400" y="15228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ZOOM JOURNAL CLUB 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ject 5" descr=""/>
          <p:cNvPicPr/>
          <p:nvPr/>
        </p:nvPicPr>
        <p:blipFill>
          <a:blip r:embed="rId1"/>
          <a:stretch/>
        </p:blipFill>
        <p:spPr>
          <a:xfrm>
            <a:off x="6564240" y="-1584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PIC00011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2081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47" name="Text Box 15"/>
          <p:cNvSpPr/>
          <p:nvPr/>
        </p:nvSpPr>
        <p:spPr>
          <a:xfrm>
            <a:off x="4142880" y="24912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Orecchia R 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8298000" y="1197000"/>
            <a:ext cx="846000" cy="792000"/>
          </a:xfrm>
          <a:prstGeom prst="rect">
            <a:avLst/>
          </a:prstGeom>
          <a:ln w="0">
            <a:noFill/>
          </a:ln>
        </p:spPr>
      </p:pic>
      <p:sp>
        <p:nvSpPr>
          <p:cNvPr id="249" name="Rettangolo 7"/>
          <p:cNvSpPr/>
          <p:nvPr/>
        </p:nvSpPr>
        <p:spPr>
          <a:xfrm>
            <a:off x="324000" y="981000"/>
            <a:ext cx="64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lderly patients standard of care is more likely omitted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an for younger pati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T TO TREAT WITH ADJUVANT RADIOTHERAPY AT 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ttangolo 8"/>
          <p:cNvSpPr/>
          <p:nvPr/>
        </p:nvSpPr>
        <p:spPr>
          <a:xfrm>
            <a:off x="701640" y="2276640"/>
            <a:ext cx="6607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GB trial 22 in elderly patient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) with ER+stage I, TAM alone might be su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 rate 8% at 10.5 yea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Hughes et al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C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O 2010, 28:15s (abstract 5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ttangolo 9"/>
          <p:cNvSpPr/>
          <p:nvPr/>
        </p:nvSpPr>
        <p:spPr>
          <a:xfrm>
            <a:off x="701640" y="3576600"/>
            <a:ext cx="63914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2005 EBCTCG overview:  the absolu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 of WBRT on LR was still significant in older women with 5-year RR of 16%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50–59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2%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60–6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11%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≥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Lancet 2005;366:2087–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ttangolo 11"/>
          <p:cNvSpPr/>
          <p:nvPr/>
        </p:nvSpPr>
        <p:spPr>
          <a:xfrm>
            <a:off x="684360" y="4843440"/>
            <a:ext cx="7548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ative impact on QoL: PRIME randomized trial (5 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liams LJ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ealth Tech Assess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ttangolo 12"/>
          <p:cNvSpPr/>
          <p:nvPr/>
        </p:nvSpPr>
        <p:spPr>
          <a:xfrm>
            <a:off x="1042920" y="5661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se category, APBI might be a better alternative than WBRT or no irradiation at 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losione 1 13"/>
          <p:cNvSpPr/>
          <p:nvPr/>
        </p:nvSpPr>
        <p:spPr>
          <a:xfrm>
            <a:off x="611280" y="5684760"/>
            <a:ext cx="358560" cy="432000"/>
          </a:xfrm>
          <a:prstGeom prst="irregularSeal1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Dati Ciabattoni\Pictures\logo_round1a.gif"/>
          <p:cNvPicPr/>
          <p:nvPr/>
        </p:nvPicPr>
        <p:blipFill>
          <a:blip r:embed="rId1"/>
          <a:stretch/>
        </p:blipFill>
        <p:spPr>
          <a:xfrm>
            <a:off x="311040" y="115920"/>
            <a:ext cx="8582040" cy="1081080"/>
          </a:xfrm>
          <a:prstGeom prst="rect">
            <a:avLst/>
          </a:prstGeom>
          <a:ln w="0">
            <a:noFill/>
          </a:ln>
        </p:spPr>
      </p:pic>
      <p:sp>
        <p:nvSpPr>
          <p:cNvPr id="56" name="Rettangolo 2"/>
          <p:cNvSpPr/>
          <p:nvPr/>
        </p:nvSpPr>
        <p:spPr>
          <a:xfrm>
            <a:off x="1116000" y="907920"/>
            <a:ext cx="705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2th International St.Gallen Breast Cancer Conference, 19 March 2011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7280" y="1268280"/>
            <a:ext cx="8964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200 deleg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oting results for the following questions were as follow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association with breast conserving surgery,  partial breast irradi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intraoperative) is acceptable in specific subs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As definitive radiation, without any external beam therap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Yes= 48.9%, No=35.6%, Don’t know= 15.6%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association with breast conserving surgery,  partial breast irrad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intraoperative) is acceptable in specific subs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nstead of external beam boost to tumour b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Yes= 60.9%, No=17.4%, Don’t know= 21.7%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8199360" y="6021360"/>
            <a:ext cx="836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539640" cy="505080"/>
          </a:xfrm>
          <a:prstGeom prst="rect">
            <a:avLst/>
          </a:prstGeom>
          <a:ln w="0">
            <a:noFill/>
          </a:ln>
        </p:spPr>
      </p:pic>
      <p:sp>
        <p:nvSpPr>
          <p:cNvPr id="256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99480" y="152280"/>
            <a:ext cx="41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ZOOM JOURNAL CLUB 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3D-C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729320" y="21276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Vicini F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1080" y="1054080"/>
            <a:ext cx="71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3 (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4-y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4067280" y="1052640"/>
            <a:ext cx="46080" cy="576000"/>
          </a:xfrm>
          <a:custGeom>
            <a:avLst/>
            <a:gdLst>
              <a:gd name="textAreaLeft" fmla="*/ 29520 w 46080"/>
              <a:gd name="textAreaRight" fmla="*/ 46440 w 46080"/>
              <a:gd name="textAreaTop" fmla="*/ 17640 h 576000"/>
              <a:gd name="textAreaBottom" fmla="*/ 55836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2"/>
                  <a:pt x="10800" y="2143"/>
                </a:cubicBezTo>
                <a:lnTo>
                  <a:pt x="10800" y="8657"/>
                </a:lnTo>
                <a:cubicBezTo>
                  <a:pt x="10800" y="9729"/>
                  <a:pt x="5400" y="10800"/>
                  <a:pt x="0" y="10800"/>
                </a:cubicBezTo>
                <a:cubicBezTo>
                  <a:pt x="5400" y="10800"/>
                  <a:pt x="10800" y="11872"/>
                  <a:pt x="10800" y="12943"/>
                </a:cubicBezTo>
                <a:lnTo>
                  <a:pt x="10800" y="19457"/>
                </a:lnTo>
                <a:cubicBezTo>
                  <a:pt x="10800" y="205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78240" y="1044720"/>
            <a:ext cx="25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 (33%) ELSEWHERE 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712080" y="13525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 (67%) IN FIELD 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50040" y="692280"/>
            <a:ext cx="31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LOCAL RECURRENCE: Br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3363120" y="692280"/>
            <a:ext cx="31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LOCAL RECURRENCE: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4069080" y="106380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 (67%) ISO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4067280" y="1352520"/>
            <a:ext cx="30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1 (33%) + BREAST RECUR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684360" y="1062000"/>
            <a:ext cx="44280" cy="569880"/>
          </a:xfrm>
          <a:custGeom>
            <a:avLst/>
            <a:gdLst>
              <a:gd name="textAreaLeft" fmla="*/ 28440 w 44280"/>
              <a:gd name="textAreaRight" fmla="*/ 44640 w 44280"/>
              <a:gd name="textAreaTop" fmla="*/ 17640 h 569880"/>
              <a:gd name="textAreaBottom" fmla="*/ 552240 h 56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4"/>
                  <a:pt x="10800" y="2168"/>
                </a:cubicBezTo>
                <a:lnTo>
                  <a:pt x="10800" y="8632"/>
                </a:lnTo>
                <a:cubicBezTo>
                  <a:pt x="10800" y="9716"/>
                  <a:pt x="5400" y="10800"/>
                  <a:pt x="0" y="10800"/>
                </a:cubicBezTo>
                <a:cubicBezTo>
                  <a:pt x="5400" y="10800"/>
                  <a:pt x="10800" y="11884"/>
                  <a:pt x="10800" y="12968"/>
                </a:cubicBezTo>
                <a:lnTo>
                  <a:pt x="10800" y="19432"/>
                </a:lnTo>
                <a:cubicBezTo>
                  <a:pt x="10800" y="205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415680" y="1052640"/>
            <a:ext cx="71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3 (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4-y 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6372360" y="0"/>
            <a:ext cx="1439640" cy="981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70" name="Picture 3" descr=""/>
          <p:cNvPicPr/>
          <p:nvPr/>
        </p:nvPicPr>
        <p:blipFill>
          <a:blip r:embed="rId3"/>
          <a:srcRect l="0" t="0" r="0" b="-37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71" name="Text Box 11"/>
          <p:cNvSpPr/>
          <p:nvPr/>
        </p:nvSpPr>
        <p:spPr>
          <a:xfrm>
            <a:off x="6671880" y="98100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TOX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7739640" y="981000"/>
            <a:ext cx="10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 pati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4%) G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>
            <a:off x="179280" y="1670040"/>
            <a:ext cx="7705800" cy="50925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6"/>
          <p:cNvSpPr/>
          <p:nvPr/>
        </p:nvSpPr>
        <p:spPr>
          <a:xfrm>
            <a:off x="7672320" y="2421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icini et al, IJROB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23840" y="2233440"/>
            <a:ext cx="934920" cy="258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8272440" y="6103800"/>
            <a:ext cx="8366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63280" y="404640"/>
            <a:ext cx="469116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itic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611280" y="838080"/>
            <a:ext cx="77058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’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nd inter-fraction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ic changes between planning and start of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’s m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difficulties due to fields and energy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tissue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-17640" y="9000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8220240" y="934920"/>
            <a:ext cx="923760" cy="8654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699480" y="152280"/>
            <a:ext cx="41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ZOOM JOURNAL CLUB 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3D-C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6372360" y="0"/>
            <a:ext cx="1439640" cy="981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83" name="Picture 3" descr=""/>
          <p:cNvPicPr/>
          <p:nvPr/>
        </p:nvPicPr>
        <p:blipFill>
          <a:blip r:embed="rId3"/>
          <a:srcRect l="0" t="0" r="0" b="-37"/>
          <a:stretch/>
        </p:blipFill>
        <p:spPr>
          <a:xfrm>
            <a:off x="7812000" y="0"/>
            <a:ext cx="1332000" cy="981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84" name="Title 6"/>
          <p:cNvSpPr/>
          <p:nvPr/>
        </p:nvSpPr>
        <p:spPr>
          <a:xfrm>
            <a:off x="2124000" y="4260960"/>
            <a:ext cx="42591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 of uncertainty in ABPI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tent Placeholder 7"/>
          <p:cNvSpPr/>
          <p:nvPr/>
        </p:nvSpPr>
        <p:spPr>
          <a:xfrm>
            <a:off x="1042920" y="4653000"/>
            <a:ext cx="62038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Uncertainty and lack of experience in CTV def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Optimum  margin around Gross Tumour Volume is  unclear (10-20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mpact of respiratory motion on breast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isks of contralateral breast cancer in case of IM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Content Placeholder 9" descr="boostargetvolallenli.jpg"/>
          <p:cNvPicPr/>
          <p:nvPr/>
        </p:nvPicPr>
        <p:blipFill>
          <a:blip r:embed="rId4"/>
          <a:stretch/>
        </p:blipFill>
        <p:spPr>
          <a:xfrm>
            <a:off x="7451640" y="4035600"/>
            <a:ext cx="12906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1290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 APBI the right treatment for all low risk patients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468360" y="2532240"/>
            <a:ext cx="655956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pPr marL="379440" indent="-3794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rong ra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High precis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arly positiv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gress in patient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st/benefit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http://t2.gstatic.com/images?q=tbn:ANd9GcSLajjO2w7_XtEIS-llqxSRqldrOiB3QsNB683aM506ty9yXlqUxw"/>
          <p:cNvPicPr/>
          <p:nvPr/>
        </p:nvPicPr>
        <p:blipFill>
          <a:blip r:embed="rId1"/>
          <a:stretch/>
        </p:blipFill>
        <p:spPr>
          <a:xfrm>
            <a:off x="5913360" y="2349360"/>
            <a:ext cx="308124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0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04920" y="1522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8167680" y="6093000"/>
            <a:ext cx="768240" cy="720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3"/>
          <a:stretch/>
        </p:blipFill>
        <p:spPr>
          <a:xfrm>
            <a:off x="8064360" y="-1584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Immagin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Rettangolo 2"/>
          <p:cNvSpPr/>
          <p:nvPr/>
        </p:nvSpPr>
        <p:spPr>
          <a:xfrm>
            <a:off x="4608360" y="3692520"/>
            <a:ext cx="2665440" cy="2174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e 3"/>
          <p:cNvSpPr/>
          <p:nvPr/>
        </p:nvSpPr>
        <p:spPr>
          <a:xfrm>
            <a:off x="4452840" y="4340160"/>
            <a:ext cx="4440240" cy="1392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nettore 1 5"/>
          <p:cNvSpPr/>
          <p:nvPr/>
        </p:nvSpPr>
        <p:spPr>
          <a:xfrm>
            <a:off x="5435640" y="5924520"/>
            <a:ext cx="2521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nettore 1 6"/>
          <p:cNvSpPr/>
          <p:nvPr/>
        </p:nvSpPr>
        <p:spPr>
          <a:xfrm>
            <a:off x="5796000" y="6105600"/>
            <a:ext cx="2521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600560" y="1700280"/>
            <a:ext cx="58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ffersen B, Radiotherapy and Oncology 90 (2009) 1–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"/>
          <p:cNvPicPr/>
          <p:nvPr/>
        </p:nvPicPr>
        <p:blipFill>
          <a:blip r:embed="rId2"/>
          <a:stretch/>
        </p:blipFill>
        <p:spPr>
          <a:xfrm>
            <a:off x="34920" y="820800"/>
            <a:ext cx="1407960" cy="18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2" name="Rectangle 9"/>
          <p:cNvSpPr/>
          <p:nvPr/>
        </p:nvSpPr>
        <p:spPr>
          <a:xfrm>
            <a:off x="3492360" y="9111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What’ s the bes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1522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3"/>
          <a:stretch/>
        </p:blipFill>
        <p:spPr>
          <a:xfrm>
            <a:off x="8339040" y="765000"/>
            <a:ext cx="696960" cy="654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4"/>
          <a:stretch/>
        </p:blipFill>
        <p:spPr>
          <a:xfrm>
            <a:off x="8064360" y="-1584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/>
          <p:cNvSpPr/>
          <p:nvPr/>
        </p:nvSpPr>
        <p:spPr>
          <a:xfrm>
            <a:off x="422640" y="2698920"/>
            <a:ext cx="8650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gibility criteria: necessary, work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best technique: not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C: always high, with good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hetics: may be worse with BRT and Mamm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D-CRT: rules for conto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"/>
          <p:cNvPicPr/>
          <p:nvPr/>
        </p:nvPicPr>
        <p:blipFill>
          <a:blip r:embed="rId1"/>
          <a:stretch/>
        </p:blipFill>
        <p:spPr>
          <a:xfrm>
            <a:off x="787320" y="820800"/>
            <a:ext cx="1408320" cy="18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9" name="Rectangle 9"/>
          <p:cNvSpPr/>
          <p:nvPr/>
        </p:nvSpPr>
        <p:spPr>
          <a:xfrm>
            <a:off x="3492360" y="10764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Arial"/>
              </a:rPr>
              <a:t>Take home messag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04920" y="1522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8412120" y="6165720"/>
            <a:ext cx="696960" cy="65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3"/>
          <a:stretch/>
        </p:blipFill>
        <p:spPr>
          <a:xfrm>
            <a:off x="8064360" y="-1584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Innovations in radiation therapy (RT) for breast cancer </a:t>
            </a:r>
            <a:br>
              <a:rPr sz="3100"/>
            </a:b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(Lee &amp; Harris, The Breast 2009; S103-1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85544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Patients who choose treatment  with ABPI should be informed that whole breast radiation therapy is an established treatment with a much longer track record that has documented longterm efficacy and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04920" y="1522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8267760" y="6093000"/>
            <a:ext cx="768240" cy="72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8064360" y="-15840"/>
            <a:ext cx="1079640" cy="720720"/>
          </a:xfrm>
          <a:prstGeom prst="rect">
            <a:avLst/>
          </a:prstGeom>
          <a:ln w="0">
            <a:noFill/>
          </a:ln>
        </p:spPr>
      </p:pic>
      <p:sp>
        <p:nvSpPr>
          <p:cNvPr id="320" name="Rettangolo 7"/>
          <p:cNvSpPr/>
          <p:nvPr/>
        </p:nvSpPr>
        <p:spPr>
          <a:xfrm>
            <a:off x="769320" y="5724360"/>
            <a:ext cx="4447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RO taskforce on AB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97776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International consensus/evidence based guidelin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71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earch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effectiveness in patients with early invasive breast cancer of PBI in terms of long term outcomes such as, quality of life, side effects, disease recurrence rates, disease-free survival and overall survi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al breast radiation should still be considered experi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D:\Documents and Settings\julial02\My Documents\NICE.bmp"/>
          <p:cNvPicPr/>
          <p:nvPr/>
        </p:nvPicPr>
        <p:blipFill>
          <a:blip r:embed="rId1"/>
          <a:stretch/>
        </p:blipFill>
        <p:spPr>
          <a:xfrm>
            <a:off x="5508720" y="1986120"/>
            <a:ext cx="28796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4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04920" y="1522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8267760" y="6093000"/>
            <a:ext cx="768240" cy="720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8064360" y="-158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328" name="Rettangolo 8" descr=""/>
          <p:cNvPicPr/>
          <p:nvPr/>
        </p:nvPicPr>
        <p:blipFill>
          <a:blip r:embed="rId4"/>
          <a:stretch/>
        </p:blipFill>
        <p:spPr>
          <a:xfrm>
            <a:off x="1006560" y="1487520"/>
            <a:ext cx="72594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" y="54900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cluded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Institute of Oncology di Budapest,  TARGIT</a:t>
            </a:r>
            <a:br>
              <a:rPr sz="2000"/>
            </a:b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ot concluded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 LOW, RAPID, ELIOT, NSABP B39/RTOG 43, GEC-ESTR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1"/>
          <a:stretch/>
        </p:blipFill>
        <p:spPr>
          <a:xfrm>
            <a:off x="123840" y="1557360"/>
            <a:ext cx="8912160" cy="518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1" name="Text Box 12"/>
          <p:cNvSpPr/>
          <p:nvPr/>
        </p:nvSpPr>
        <p:spPr>
          <a:xfrm>
            <a:off x="3373560" y="3330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d4d4d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0" y="1389240"/>
            <a:ext cx="914400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179280" y="1773360"/>
            <a:ext cx="885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3"/>
          <p:cNvSpPr/>
          <p:nvPr/>
        </p:nvSpPr>
        <p:spPr>
          <a:xfrm>
            <a:off x="2340000" y="-100080"/>
            <a:ext cx="411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rials of APB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8172360" y="54000"/>
            <a:ext cx="836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98280" y="836640"/>
            <a:ext cx="8823600" cy="511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4"/>
          <p:cNvSpPr/>
          <p:nvPr/>
        </p:nvSpPr>
        <p:spPr>
          <a:xfrm>
            <a:off x="139680" y="152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8172360" y="44280"/>
            <a:ext cx="836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345440" cy="439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1" name="Rectangle 5"/>
          <p:cNvSpPr/>
          <p:nvPr/>
        </p:nvSpPr>
        <p:spPr>
          <a:xfrm>
            <a:off x="1979640" y="1844640"/>
            <a:ext cx="2016000" cy="32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39680" y="152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8172360" y="44280"/>
            <a:ext cx="836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69720" y="1395360"/>
            <a:ext cx="8436240" cy="4948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80880" y="698400"/>
            <a:ext cx="8382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TRO Consensus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26800" y="6453360"/>
            <a:ext cx="32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.D.Smith  et al.: J Am Coll Surg: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69720" y="1395360"/>
            <a:ext cx="3505320" cy="49528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139680" y="152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8172360" y="44280"/>
            <a:ext cx="836640" cy="782640"/>
          </a:xfrm>
          <a:prstGeom prst="rect">
            <a:avLst/>
          </a:prstGeom>
          <a:ln w="0">
            <a:noFill/>
          </a:ln>
        </p:spPr>
      </p:pic>
      <p:sp>
        <p:nvSpPr>
          <p:cNvPr id="80" name="Rettangolo 7"/>
          <p:cNvSpPr/>
          <p:nvPr/>
        </p:nvSpPr>
        <p:spPr>
          <a:xfrm>
            <a:off x="539640" y="5445000"/>
            <a:ext cx="576360" cy="2160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tangolo 15"/>
          <p:cNvSpPr/>
          <p:nvPr/>
        </p:nvSpPr>
        <p:spPr>
          <a:xfrm>
            <a:off x="1547640" y="2492280"/>
            <a:ext cx="6120000" cy="27370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iangolo rettangolo 7"/>
          <p:cNvSpPr/>
          <p:nvPr/>
        </p:nvSpPr>
        <p:spPr>
          <a:xfrm flipH="1">
            <a:off x="1547640" y="2492280"/>
            <a:ext cx="6120000" cy="2737080"/>
          </a:xfrm>
          <a:prstGeom prst="rtTriangle">
            <a:avLst/>
          </a:prstGeom>
          <a:gradFill rotWithShape="0">
            <a:gsLst>
              <a:gs pos="0">
                <a:srgbClr val="ff97e4"/>
              </a:gs>
              <a:gs pos="100000">
                <a:srgbClr val="ffdff5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IOLOG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6"/>
          <p:cNvSpPr/>
          <p:nvPr/>
        </p:nvSpPr>
        <p:spPr>
          <a:xfrm>
            <a:off x="5005440" y="5805360"/>
            <a:ext cx="2671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Trials’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04920" y="1522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ZOOM JOURNAL CLUB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167680" y="5950080"/>
            <a:ext cx="76824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8064360" y="-15840"/>
            <a:ext cx="1079640" cy="720720"/>
          </a:xfrm>
          <a:prstGeom prst="rect">
            <a:avLst/>
          </a:prstGeom>
          <a:ln w="0">
            <a:noFill/>
          </a:ln>
        </p:spPr>
      </p:pic>
      <p:sp>
        <p:nvSpPr>
          <p:cNvPr id="88" name="CasellaDiTesto 21"/>
          <p:cNvSpPr/>
          <p:nvPr/>
        </p:nvSpPr>
        <p:spPr>
          <a:xfrm>
            <a:off x="2556000" y="126828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VING TO APBI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79280" y="981000"/>
          <a:ext cx="8785440" cy="5558040"/>
        </p:xfrm>
        <a:graphic>
          <a:graphicData uri="http://schemas.openxmlformats.org/drawingml/2006/table">
            <a:tbl>
              <a:tblPr/>
              <a:tblGrid>
                <a:gridCol w="1081080"/>
                <a:gridCol w="1224000"/>
                <a:gridCol w="1008000"/>
                <a:gridCol w="1189080"/>
                <a:gridCol w="1008000"/>
                <a:gridCol w="1116000"/>
                <a:gridCol w="1116360"/>
                <a:gridCol w="104292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R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L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P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SABP/RT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S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N+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 N</a:t>
                      </a:r>
                      <a:r>
                        <a:rPr b="0" lang="it-IT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N+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&gt;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50K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it-IT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3D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RT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T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/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T HDR e P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/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Gy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Gy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Gy/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 Gy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38.5 Gy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T 34 Gy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DR 3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R 50 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 Gy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itle 3"/>
          <p:cNvSpPr/>
          <p:nvPr/>
        </p:nvSpPr>
        <p:spPr>
          <a:xfrm>
            <a:off x="457200" y="-100080"/>
            <a:ext cx="8229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rials of APBI according to sel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172360" y="44280"/>
            <a:ext cx="836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6080" y="907920"/>
            <a:ext cx="9063000" cy="5834160"/>
          </a:xfrm>
          <a:prstGeom prst="rect">
            <a:avLst/>
          </a:prstGeom>
          <a:ln w="0">
            <a:noFill/>
          </a:ln>
        </p:spPr>
      </p:pic>
      <p:sp>
        <p:nvSpPr>
          <p:cNvPr id="93" name="CasellaDiTesto 2"/>
          <p:cNvSpPr/>
          <p:nvPr/>
        </p:nvSpPr>
        <p:spPr>
          <a:xfrm>
            <a:off x="28800" y="2168640"/>
            <a:ext cx="103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4d4d4d"/>
                </a:solidFill>
                <a:latin typeface="Arial"/>
              </a:rPr>
              <a:t>Multicathe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4d4d4d"/>
                </a:solidFill>
                <a:latin typeface="Arial"/>
              </a:rPr>
              <a:t>Interstit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4d4d4d"/>
                </a:solidFill>
                <a:latin typeface="Arial"/>
              </a:rPr>
              <a:t>Brachi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sellaDiTesto 3"/>
          <p:cNvSpPr/>
          <p:nvPr/>
        </p:nvSpPr>
        <p:spPr>
          <a:xfrm>
            <a:off x="29880" y="5202360"/>
            <a:ext cx="101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4d4d4d"/>
                </a:solidFill>
                <a:latin typeface="Arial"/>
              </a:rPr>
              <a:t>3D Conf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4d4d4d"/>
                </a:solidFill>
                <a:latin typeface="Arial"/>
              </a:rPr>
              <a:t>Radiothera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3"/>
          <p:cNvSpPr/>
          <p:nvPr/>
        </p:nvSpPr>
        <p:spPr>
          <a:xfrm>
            <a:off x="395280" y="-15840"/>
            <a:ext cx="8229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rial"/>
              </a:rPr>
              <a:t>Trials of APBI according to techniq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8238960" y="44280"/>
            <a:ext cx="7700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0:32:39Z</dcterms:created>
  <dc:creator>utente</dc:creator>
  <dc:description/>
  <dc:language>en-US</dc:language>
  <cp:lastModifiedBy>regia</cp:lastModifiedBy>
  <dcterms:modified xsi:type="dcterms:W3CDTF">2012-01-20T11:58:12Z</dcterms:modified>
  <cp:revision>111</cp:revision>
  <dc:subject/>
  <dc:title>PRESENTAZIONE</dc:title>
</cp:coreProperties>
</file>