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EBA36-EAE5-4F97-A9C4-472338D1A1E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6F3C-3ECC-4EDF-B1D5-4E81E81A641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DEACD-1EF4-4D6F-8800-F59EFF6D96C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7D1A7-8532-4C7E-A0B6-A09973D17E9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78357-4383-4162-989E-DF24381E8B7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EE9EC-6A05-4F63-BA02-196A16E1D54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4FF10-9492-48D7-AE40-7AD6CBB5EF9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A4C85-6B45-4ED9-9DE5-F30D34CD3D4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AE8B5-C80F-4088-B147-27B3D6FD677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CFCDD-5AC4-4D0F-8A0D-9931B54C748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B1F9B-2F5E-47D3-AB0A-F3C4A616450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5C49-553D-4C48-BF6B-5BA37737B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9A82-1BB6-4BFF-98D6-C2EEFBF87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63EE-A0FC-4425-8CDF-34CD6E1DA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7171-0F98-44CC-AAD2-B530E6BF5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1B09-EEE5-4D4B-AD7B-008156C81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D641-5995-4FD4-B105-6904B1563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3D92-7BEA-4B3C-B05E-04373392E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5110-27EE-4893-A45E-1889188D0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B495-4B1A-4CB4-9389-C0E3FFC0A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0EF3-015E-4711-9140-A7EF458D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CEB9-F967-475B-B08D-F7A3F57E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0988-8EE3-47BB-9EA1-32AEFB1F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CA7FA-A1D5-443E-9576-FE3C8BD89C86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549000"/>
            <a:ext cx="8497800" cy="36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99"/>
                </a:solidFill>
                <a:latin typeface="Comic Sans MS"/>
              </a:rPr>
              <a:t>ZOOM Journal club 2011</a:t>
            </a:r>
            <a:br>
              <a:rPr sz="3200"/>
            </a:br>
            <a:br>
              <a:rPr sz="3200"/>
            </a:br>
            <a:r>
              <a:rPr b="0" lang="it-IT" sz="3200" spc="-1" strike="noStrike">
                <a:solidFill>
                  <a:srgbClr val="000099"/>
                </a:solidFill>
                <a:latin typeface="Comic Sans MS"/>
              </a:rPr>
              <a:t>Roma 20 gennaio 2012</a:t>
            </a:r>
            <a:br>
              <a:rPr sz="3200"/>
            </a:br>
            <a:br>
              <a:rPr sz="3200"/>
            </a:br>
            <a:r>
              <a:rPr b="0" lang="it-IT" sz="3200" spc="-1" strike="noStrike">
                <a:solidFill>
                  <a:srgbClr val="000099"/>
                </a:solidFill>
                <a:latin typeface="Comic Sans MS"/>
              </a:rPr>
              <a:t>“ L’irradiazione linfonodale profilattica e per recidiv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76360" y="4654440"/>
            <a:ext cx="287964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rturo Los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979640" y="5373720"/>
            <a:ext cx="52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zienda Ospedaliera. Universitari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. Giovanni di Dio e Ruggi d’ Aragona”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alern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311120" y="2637000"/>
            <a:ext cx="650088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ff"/>
                </a:solidFill>
                <a:latin typeface="Comic Sans MS"/>
              </a:rPr>
              <a:t>“</a:t>
            </a:r>
            <a:r>
              <a:rPr b="0" lang="it-IT" sz="3200" spc="-1" strike="noStrike">
                <a:solidFill>
                  <a:srgbClr val="0066ff"/>
                </a:solidFill>
                <a:latin typeface="Comic Sans MS"/>
              </a:rPr>
              <a:t>Il dubbio è una passerella che trema fra l'errore e la verità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it-IT" sz="2800" spc="-1" strike="noStrike">
                <a:solidFill>
                  <a:srgbClr val="0066ff"/>
                </a:solidFill>
                <a:latin typeface="Arial"/>
              </a:rPr>
              <a:t>Gesualdo Bufalino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66ff"/>
                </a:solidFill>
                <a:latin typeface="Comic Sans MS"/>
              </a:rPr>
              <a:t>Caso clin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Paziente di 72 a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446040" y="3573360"/>
            <a:ext cx="822960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ff"/>
                </a:solidFill>
                <a:latin typeface="Comic Sans MS"/>
              </a:rPr>
              <a:t>Anamnesi patologia remota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Cataratta bilaterale operat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99ff"/>
                </a:solidFill>
                <a:latin typeface="Comic Sans MS"/>
              </a:rPr>
              <a:t>Anamnesi oncologica remo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Operata 13 anni prima di quadrantectomia mammaria sinistra e dissezione ascellare omolatera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iagnosi: Ca. duttale infiltra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1c (1,5 cm.), G3, N3 ( N+ 10/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HT :  Epi x 4 cicli                  CMF x 4 cic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T solo su mammella sinistra (2 Gy/ fr. x 25 sed). + boost sul letto chirugico   (2Gy/fr. x 5 se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Ormonoterapia: letrozolo x 5 an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 rot="16200000">
            <a:off x="3779640" y="3429000"/>
            <a:ext cx="144720" cy="1008000"/>
          </a:xfrm>
          <a:prstGeom prst="downArrow">
            <a:avLst>
              <a:gd name="adj1" fmla="val 50000"/>
              <a:gd name="adj2" fmla="val 174129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66ff"/>
                </a:solidFill>
                <a:latin typeface="Comic Sans MS"/>
              </a:rPr>
              <a:t>Anamnesi oncologica prossi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Linfoadenopatia sovraclaveare sinistra insorta da circa 1 m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66ff"/>
                </a:solidFill>
                <a:latin typeface="Comic Sans MS"/>
              </a:rPr>
              <a:t>Biopsia linfonodo sovraclaveare sinis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Metastasi carcinomatosa come da          carcinoma duttale infiltrante a medio grado di differenziazione compatibile con primitività mammaria. Le cellule carcinomatose esprimono il seguente immunofenotipo: ER 40%, PgR 5%, Ki 67 50%, assenza di immunoreattività sulla membrana citoplasmatica delle cellule neoplastiche per c-erb-B2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"/>
          <p:cNvSpPr/>
          <p:nvPr/>
        </p:nvSpPr>
        <p:spPr>
          <a:xfrm>
            <a:off x="4356000" y="836640"/>
            <a:ext cx="647640" cy="1008000"/>
          </a:xfrm>
          <a:prstGeom prst="downArrow">
            <a:avLst>
              <a:gd name="adj1" fmla="val 50000"/>
              <a:gd name="adj2" fmla="val 38911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Ink 9"/>
          <p:cNvSpPr/>
          <p:nvPr/>
        </p:nvSpPr>
        <p:spPr>
          <a:xfrm>
            <a:off x="3706920" y="3144960"/>
            <a:ext cx="4752720" cy="212760"/>
          </a:xfrm>
          <a:custGeom>
            <a:avLst/>
            <a:gdLst/>
            <a:ahLst/>
            <a:rect l="l" t="t" r="r" b="b"/>
            <a:pathLst>
              <a:path w="5582" h="1">
                <a:moveTo>
                  <a:pt x="13791" y="16570"/>
                </a:moveTo>
                <a:cubicBezTo>
                  <a:pt x="15651" y="16570"/>
                  <a:pt x="17512" y="16570"/>
                  <a:pt x="19372" y="16570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Ink 9"/>
          <p:cNvSpPr/>
          <p:nvPr/>
        </p:nvSpPr>
        <p:spPr>
          <a:xfrm>
            <a:off x="611280" y="3573360"/>
            <a:ext cx="2160360" cy="79560"/>
          </a:xfrm>
          <a:custGeom>
            <a:avLst/>
            <a:gdLst/>
            <a:ahLst/>
            <a:rect l="l" t="t" r="r" b="b"/>
            <a:pathLst>
              <a:path w="5582" h="1">
                <a:moveTo>
                  <a:pt x="13791" y="16570"/>
                </a:moveTo>
                <a:cubicBezTo>
                  <a:pt x="15651" y="16570"/>
                  <a:pt x="17512" y="16570"/>
                  <a:pt x="19372" y="16570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4"/>
          <p:cNvSpPr/>
          <p:nvPr/>
        </p:nvSpPr>
        <p:spPr>
          <a:xfrm>
            <a:off x="971640" y="1557360"/>
            <a:ext cx="2232000" cy="43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Rectangle 13"/>
          <p:cNvSpPr/>
          <p:nvPr/>
        </p:nvSpPr>
        <p:spPr>
          <a:xfrm>
            <a:off x="971640" y="1700280"/>
            <a:ext cx="2232000" cy="36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99ff"/>
                </a:solidFill>
                <a:latin typeface="Comic Sans MS"/>
              </a:rPr>
              <a:t>Esame obiettiv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82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Tumefazioni lindonodali, dure, fisse, non dolenti in regione  socraclaveare sini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9"/>
          <p:cNvSpPr/>
          <p:nvPr/>
        </p:nvSpPr>
        <p:spPr>
          <a:xfrm>
            <a:off x="395280" y="1989000"/>
            <a:ext cx="4248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99ff"/>
                </a:solidFill>
                <a:latin typeface="Comic Sans MS"/>
              </a:rPr>
              <a:t> </a:t>
            </a:r>
            <a:r>
              <a:rPr b="0" lang="it-IT" sz="4400" spc="-1" strike="noStrike">
                <a:solidFill>
                  <a:srgbClr val="3399ff"/>
                </a:solidFill>
                <a:latin typeface="Comic Sans MS"/>
              </a:rPr>
              <a:t>Esami richiest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036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C-Pet total body con 18 FDG:”…iperaccumulo del tracciante a livello della regione sovraclaveare sinistra         (SUVbw max 5.1), della regione retroclaveare sinistra (SUVbw max 3.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C collo - torace con mdc: linfoadenomegalie sopra-retro- e sottoclaveari a sinist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co addome : ne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cintigrafia ossea: ne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sami ematochimici: nella norma   (Hb13,4 gr/d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Ink 9"/>
          <p:cNvSpPr/>
          <p:nvPr/>
        </p:nvSpPr>
        <p:spPr>
          <a:xfrm>
            <a:off x="611280" y="1989000"/>
            <a:ext cx="4752720" cy="212760"/>
          </a:xfrm>
          <a:custGeom>
            <a:avLst/>
            <a:gdLst/>
            <a:ahLst/>
            <a:rect l="l" t="t" r="r" b="b"/>
            <a:pathLst>
              <a:path w="5582" h="1">
                <a:moveTo>
                  <a:pt x="13791" y="16570"/>
                </a:moveTo>
                <a:cubicBezTo>
                  <a:pt x="15651" y="16570"/>
                  <a:pt x="17512" y="16570"/>
                  <a:pt x="19372" y="16570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Ink 9"/>
          <p:cNvSpPr/>
          <p:nvPr/>
        </p:nvSpPr>
        <p:spPr>
          <a:xfrm>
            <a:off x="250920" y="5589720"/>
            <a:ext cx="2952720" cy="107640"/>
          </a:xfrm>
          <a:custGeom>
            <a:avLst/>
            <a:gdLst/>
            <a:ahLst/>
            <a:rect l="l" t="t" r="r" b="b"/>
            <a:pathLst>
              <a:path w="5582" h="1">
                <a:moveTo>
                  <a:pt x="13791" y="16570"/>
                </a:moveTo>
                <a:cubicBezTo>
                  <a:pt x="15651" y="16570"/>
                  <a:pt x="17512" y="16570"/>
                  <a:pt x="19372" y="16570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Ink 9"/>
          <p:cNvSpPr/>
          <p:nvPr/>
        </p:nvSpPr>
        <p:spPr>
          <a:xfrm>
            <a:off x="468360" y="3573360"/>
            <a:ext cx="2952720" cy="108000"/>
          </a:xfrm>
          <a:custGeom>
            <a:avLst/>
            <a:gdLst/>
            <a:ahLst/>
            <a:rect l="l" t="t" r="r" b="b"/>
            <a:pathLst>
              <a:path w="5582" h="1">
                <a:moveTo>
                  <a:pt x="13791" y="16570"/>
                </a:moveTo>
                <a:cubicBezTo>
                  <a:pt x="15651" y="16570"/>
                  <a:pt x="17512" y="16570"/>
                  <a:pt x="19372" y="16570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Ink 9"/>
          <p:cNvSpPr/>
          <p:nvPr/>
        </p:nvSpPr>
        <p:spPr>
          <a:xfrm>
            <a:off x="179280" y="4716360"/>
            <a:ext cx="2232000" cy="81000"/>
          </a:xfrm>
          <a:custGeom>
            <a:avLst/>
            <a:gdLst/>
            <a:ahLst/>
            <a:rect l="l" t="t" r="r" b="b"/>
            <a:pathLst>
              <a:path w="5582" h="1">
                <a:moveTo>
                  <a:pt x="13791" y="16570"/>
                </a:moveTo>
                <a:cubicBezTo>
                  <a:pt x="15651" y="16570"/>
                  <a:pt x="17512" y="16570"/>
                  <a:pt x="19372" y="16570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Ink 9"/>
          <p:cNvSpPr/>
          <p:nvPr/>
        </p:nvSpPr>
        <p:spPr>
          <a:xfrm>
            <a:off x="250920" y="6058080"/>
            <a:ext cx="2952720" cy="107640"/>
          </a:xfrm>
          <a:custGeom>
            <a:avLst/>
            <a:gdLst/>
            <a:ahLst/>
            <a:rect l="l" t="t" r="r" b="b"/>
            <a:pathLst>
              <a:path w="5582" h="1">
                <a:moveTo>
                  <a:pt x="13791" y="16570"/>
                </a:moveTo>
                <a:cubicBezTo>
                  <a:pt x="15651" y="16570"/>
                  <a:pt x="17512" y="16570"/>
                  <a:pt x="19372" y="16570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66ff"/>
                </a:solidFill>
                <a:latin typeface="Comic Sans MS"/>
              </a:rPr>
              <a:t>Trattamento radioterap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Irradiazione della regione sovraclaveare ed ascellare sinistr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2 Gy/ fr. x 25 sed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0"/>
          <p:cNvSpPr/>
          <p:nvPr/>
        </p:nvSpPr>
        <p:spPr>
          <a:xfrm>
            <a:off x="971640" y="2637000"/>
            <a:ext cx="647640" cy="4316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ff"/>
                </a:solidFill>
                <a:latin typeface="Comic Sans MS"/>
              </a:rPr>
              <a:t>…</a:t>
            </a:r>
            <a:r>
              <a:rPr b="0" lang="it-IT" sz="3200" spc="-1" strike="noStrike">
                <a:solidFill>
                  <a:srgbClr val="0066ff"/>
                </a:solidFill>
                <a:latin typeface="Comic Sans MS"/>
              </a:rPr>
              <a:t>e  po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Dopo 8 mesi la paziente venne sottoposta a gastrectomia totale per un carcinoma gastrico indifferenziato della regione antrale,diffuso, infiltrante la parete a tutto spessore, il tessuto adiposo periviscera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Diffusa invasione neoplastica vascolare e perineurale ...Metastasi in tutti i linfonodi        (23 lnf. grande curva, 22 lnf. piccola curv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pT4b G3 pN3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Ink 9"/>
          <p:cNvSpPr/>
          <p:nvPr/>
        </p:nvSpPr>
        <p:spPr>
          <a:xfrm>
            <a:off x="539640" y="2287440"/>
            <a:ext cx="3672000" cy="133560"/>
          </a:xfrm>
          <a:custGeom>
            <a:avLst/>
            <a:gdLst/>
            <a:ahLst/>
            <a:rect l="l" t="t" r="r" b="b"/>
            <a:pathLst>
              <a:path w="5582" h="1">
                <a:moveTo>
                  <a:pt x="13791" y="16570"/>
                </a:moveTo>
                <a:cubicBezTo>
                  <a:pt x="15651" y="16570"/>
                  <a:pt x="17512" y="16570"/>
                  <a:pt x="19372" y="16570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Ink 9"/>
          <p:cNvSpPr/>
          <p:nvPr/>
        </p:nvSpPr>
        <p:spPr>
          <a:xfrm>
            <a:off x="971640" y="2757600"/>
            <a:ext cx="6408720" cy="233280"/>
          </a:xfrm>
          <a:custGeom>
            <a:avLst/>
            <a:gdLst/>
            <a:ahLst/>
            <a:rect l="l" t="t" r="r" b="b"/>
            <a:pathLst>
              <a:path w="5582" h="1">
                <a:moveTo>
                  <a:pt x="13791" y="16570"/>
                </a:moveTo>
                <a:cubicBezTo>
                  <a:pt x="15651" y="16570"/>
                  <a:pt x="17512" y="16570"/>
                  <a:pt x="19372" y="16570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Ink 9"/>
          <p:cNvSpPr/>
          <p:nvPr/>
        </p:nvSpPr>
        <p:spPr>
          <a:xfrm>
            <a:off x="5508720" y="2305080"/>
            <a:ext cx="2950920" cy="476280"/>
          </a:xfrm>
          <a:custGeom>
            <a:avLst/>
            <a:gdLst/>
            <a:ahLst/>
            <a:rect l="l" t="t" r="r" b="b"/>
            <a:pathLst>
              <a:path w="5582" h="1">
                <a:moveTo>
                  <a:pt x="13791" y="16570"/>
                </a:moveTo>
                <a:cubicBezTo>
                  <a:pt x="15651" y="16570"/>
                  <a:pt x="17512" y="16570"/>
                  <a:pt x="19372" y="16570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9T17:33:28Z</dcterms:created>
  <dc:creator>Losco Arturo</dc:creator>
  <dc:description/>
  <dc:language>en-US</dc:language>
  <cp:lastModifiedBy>regia</cp:lastModifiedBy>
  <dcterms:modified xsi:type="dcterms:W3CDTF">2012-01-20T08:38:23Z</dcterms:modified>
  <cp:revision>208</cp:revision>
  <dc:subject/>
  <dc:title>Caso Clinico Roma</dc:title>
</cp:coreProperties>
</file>