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0.wmf" ContentType="image/x-wmf"/>
  <Override PartName="/ppt/media/image17.png" ContentType="image/png"/>
  <Override PartName="/ppt/media/image16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11.png" ContentType="image/png"/>
  <Override PartName="/ppt/media/image9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wmf" ContentType="image/x-wmf"/>
  <Override PartName="/ppt/media/image30.png" ContentType="image/png"/>
  <Override PartName="/ppt/media/image28.png" ContentType="image/png"/>
  <Override PartName="/ppt/media/image8.png" ContentType="image/png"/>
  <Override PartName="/ppt/media/image13.png" ContentType="image/png"/>
  <Override PartName="/ppt/media/image37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8C1B-C36D-4246-9132-224381ADD9B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0C7C-2604-4587-9BA1-4D18BF020E24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E69F-D103-4B58-BB5B-302A6352DDBE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18BA-A6CA-48B4-B674-0883877C9D04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F390-1C39-4F84-BBAA-4B58888144AB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80FE-055B-4315-B4D3-A1F9AB8F8D3D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3BC7-5E7B-4727-9930-EFDDD08FA5C6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A37A-7018-4CDF-B831-009A87AC4920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F959-7E54-4FAA-90C2-0EE5AEDB0A0E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BC2C-53A2-4651-A941-BC49D1F2F032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E9C1-AF64-4A3A-80A4-2A6996655499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55A8-E7FA-4EF7-8518-40E92D2AE9D4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A848-81C3-4572-AC2D-D1D253CE20D0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1EBC-926B-4333-A52B-33BE73395060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021B-4BCE-4328-B433-E2421DE998CF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0206-41F5-4CCB-A2D9-CAEDD5D7A93D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687F-A894-46B2-ADAF-3CEA7BA49F34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6EE4-5002-45D6-BADB-AB74DB46A32C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CF35-6B90-426A-8BEA-88C20E899CD3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93FF-2352-4DFD-8C53-36155E2BF2CB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9D17-F33D-4250-8ABF-AF13300D2B7F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6E55-9CD4-4035-B2FA-BCE04A4F99BA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2438-CB00-44F1-88BA-0417D319D010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621C-3AD9-41F1-AEC9-74E62074E6D3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5A9C-65AC-4A5E-A0E3-9715B9A36E6B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7739-E042-4EA0-9D03-F34693792BF9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0E60-85C0-4554-878C-86A079EEF564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2DB1-9387-44B8-B83A-4B8CF3C19ACC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2952-F58E-47D9-96AB-3875285C7567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CBBE-B7B0-4B7C-A2B0-20C2B3874468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3D70-57A3-4F37-9463-DB5693550295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1A56-042E-4E82-9176-ABC744D6EC67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2FF4-11EA-46F2-A1E2-947D84DBBAD9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83EE-B9B4-4F20-9E41-A0B16D9EF40E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B24F-D4DB-42E0-8FDA-73C3D6998419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C65B-1011-464D-AC98-F903CC5545B9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B840-4AC1-4029-9BD0-7A6230A5709C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EC06-0ECF-4600-82D4-52F5D5843E77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0839-E62D-466C-B939-E8E8756B3188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B036-C0E0-4445-AA2C-CF21A6529257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0A5C-9A0D-417F-AA1D-21359053F2BE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CD22-4594-4D14-B1F9-D0679E7A84BF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C7F2-BC9E-46D5-8635-8B0EAF3F3F3C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3C38-1FE5-4D73-8213-2226C1281B24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4A7F-396C-473B-8687-6D129BD0D6F5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AA74-03BB-4309-B3CE-24F87B5DBD8C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9995-DB5D-464D-80C5-6F86AEE82491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721D-C63D-43CF-AAE1-6DB8E3B47894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AAFC-933F-40C9-8D9A-AC28064485D9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212C-6DB3-49D4-907B-3CE40A001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75E4-75CC-439F-A48F-6AE73056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60F4-C9B4-4119-9013-74C6E98D1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09D4-E583-4251-9018-961A67C97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07C2-3CDD-475E-8EA6-D5D8B5FF7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54C8-F89D-4352-A085-74500D54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67DD-2389-41C9-95D2-3BF58CC6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64F9-24A5-42D2-BD4C-B8A187C8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8657-D6D8-4171-8FC0-928D6E84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5FDD-D4DD-4FEA-9DC7-3E38F4E9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FE36-2E97-4B4C-B983-BF627F81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A35F-CE4F-4797-B66F-F0CA91FC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B49E-278E-4FA3-994C-ACB73436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5B8E-1F63-4E6D-87D0-962CF6BA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D626-F9B8-4B41-9503-530068CC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61C7-43B4-496F-9B39-2B41D40E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8B03-66E4-417D-8FE3-F714B079B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0F53-9529-4F26-8B64-1D4A0AF0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6898-F4F3-48EC-A4DE-499D2D70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2593-9A22-4072-8DE8-35958DDE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B0FC-105F-416C-9746-39F99AE5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D5D0-D305-45DC-A76C-384E69FB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5686-E88C-460A-AC14-4DA5282E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B521-5786-4E1E-8CFF-2FCFD2A5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2A61-DCC5-4194-955B-434E9796FD3B}" type="slidenum"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9832-34FF-40BF-9D45-DD70C1E48C7D}" type="slidenum"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2411280" y="1341360"/>
            <a:ext cx="662472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RT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IPOFRAZIONATA NELLA WBI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VANTAGGI E PROBLEMATICH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                                  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Maria Rosa La Port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                                   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Laura Lozz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                                   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                   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                                  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Zoom Journal Club 2011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                                  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Roma 20-1-201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CHEMIOTERAPIA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Non unanimità nell’utilizzo  nella routine di HF- WBI dopo CT con taxani ed antraciclin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Nessuna raccomandazione per le pz trattate con CT neoadiuvant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Sconsigliato l’utilizzo con CT concomitante o agenti target per carenza di dat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ORMONOTERAPIA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La maggior parte dei pazienti analizzati ha ricevuto Tamoxifene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Mancanza di stratificazione sulla modalità (concomitante 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sequenziale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4790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OMOGENEITA’ DI DOSE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La dose minima non deve essere inferiore al 93% e la massima non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superiore a 107% della dose di prescrizione (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±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7%) sull’asse centrale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Si incoraggia l’utilizzo del 3D per ridurre la disomogeneita’ al minimo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GRADING 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La task force non ha raggiunto un accordo per la scarsità dei dati pubblicati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Dopo la pubblicazione di queste Linee Guida, sono stati pubblicati i dati a lungo termine dello START A e B che hanno dimostrato effetto equivalente dell’ipofrazionamento nei diversi grading.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3366"/>
                </a:solidFill>
                <a:latin typeface="Arial"/>
              </a:rPr>
              <a:t>(Yarnold JR. Hypofractionated Radiotherapy for Breast cancer. N Engl J Med 2010; 362:1843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27640" y="1124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3300"/>
                </a:solidFill>
                <a:latin typeface="Arial"/>
              </a:rPr>
              <a:t>Ca mammario  </a:t>
            </a:r>
            <a:r>
              <a:rPr b="0" lang="it-IT" sz="3200" spc="-1" strike="noStrike">
                <a:solidFill>
                  <a:srgbClr val="ff3300"/>
                </a:solidFill>
                <a:latin typeface="Arial"/>
                <a:ea typeface="Arial"/>
              </a:rPr>
              <a:t>≤ 40 aa</a:t>
            </a:r>
            <a:r>
              <a:rPr b="1" lang="it-IT" sz="3200" spc="-1" strike="noStrike">
                <a:solidFill>
                  <a:srgbClr val="ff3300"/>
                </a:solidFill>
                <a:latin typeface="Arial"/>
                <a:ea typeface="Arial"/>
              </a:rPr>
              <a:t>   :  </a:t>
            </a:r>
            <a:r>
              <a:rPr b="0" lang="it-IT" sz="3200" spc="-1" strike="noStrike">
                <a:solidFill>
                  <a:srgbClr val="ff3300"/>
                </a:solidFill>
                <a:latin typeface="Arial"/>
                <a:ea typeface="Arial"/>
              </a:rPr>
              <a:t>5%</a:t>
            </a:r>
            <a:br>
              <a:rPr sz="3200"/>
            </a:br>
            <a:r>
              <a:rPr b="1" lang="it-IT" sz="2000" spc="-1" strike="noStrike">
                <a:solidFill>
                  <a:srgbClr val="006666"/>
                </a:solidFill>
                <a:latin typeface="Arial"/>
                <a:ea typeface="Arial"/>
              </a:rPr>
              <a:t>Molti studi riportano prognosi peggiore, &lt; DFS, &lt; OS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7720" y="2060280"/>
            <a:ext cx="8055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  <a:ea typeface="Arial"/>
              </a:rPr>
              <a:t>Comportamento + aggress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  <a:ea typeface="Arial"/>
              </a:rPr>
              <a:t>grading, Ki 67, ilv, tripli negativi, stato linfonodale, EI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  <a:ea typeface="Arial"/>
              </a:rPr>
              <a:t>Questi fattori da soli sembrano insufficienti a spiegare completamente le differenze nella risposta ai trattament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  <a:ea typeface="Arial"/>
              </a:rPr>
              <a:t>Fattori genetic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  <a:ea typeface="Arial"/>
              </a:rPr>
              <a:t>Variabilità biolog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  <a:ea typeface="Arial"/>
              </a:rPr>
              <a:t>Indicazioni a trattamenti sempre più individualizzat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            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55280" y="907560"/>
            <a:ext cx="7705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 u="sng">
                <a:solidFill>
                  <a:srgbClr val="cc3399"/>
                </a:solidFill>
                <a:uFillTx/>
                <a:latin typeface="Comic Sans MS"/>
              </a:rPr>
              <a:t>Cap.1 </a:t>
            </a:r>
            <a:r>
              <a:rPr b="0" lang="it-IT" sz="2400" spc="-1" strike="noStrike" u="sng">
                <a:solidFill>
                  <a:srgbClr val="cc3399"/>
                </a:solidFill>
                <a:uFillTx/>
                <a:latin typeface="Comic Sans MS"/>
              </a:rPr>
              <a:t>- Strategia general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99"/>
                </a:solidFill>
                <a:latin typeface="Comic Sans MS"/>
              </a:rPr>
              <a:t>Dati relativi ai trattamenti sistemici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Comic Sans MS"/>
              </a:rPr>
              <a:t>Si ritiene che la </a:t>
            </a:r>
            <a:r>
              <a:rPr b="0" lang="it-IT" sz="2000" spc="-1" strike="noStrike">
                <a:solidFill>
                  <a:srgbClr val="cc3399"/>
                </a:solidFill>
                <a:latin typeface="Comic Sans MS"/>
              </a:rPr>
              <a:t>chemioterapia</a:t>
            </a:r>
            <a:r>
              <a:rPr b="0" lang="it-IT" sz="2000" spc="-1" strike="noStrike">
                <a:solidFill>
                  <a:srgbClr val="003366"/>
                </a:solidFill>
                <a:latin typeface="Comic Sans MS"/>
              </a:rPr>
              <a:t> debba essere iniziata entro </a:t>
            </a:r>
            <a:r>
              <a:rPr b="0" lang="it-IT" sz="2000" spc="-1" strike="noStrike">
                <a:solidFill>
                  <a:srgbClr val="cc3399"/>
                </a:solidFill>
                <a:latin typeface="Comic Sans MS"/>
              </a:rPr>
              <a:t>4-5 settimane dall’intervent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3366"/>
                </a:solidFill>
                <a:latin typeface="Comic Sans MS"/>
              </a:rPr>
              <a:t>La</a:t>
            </a:r>
            <a:r>
              <a:rPr b="0" lang="it-IT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cc3399"/>
                </a:solidFill>
                <a:latin typeface="Comic Sans MS"/>
              </a:rPr>
              <a:t>RT non</a:t>
            </a:r>
            <a:r>
              <a:rPr b="1" lang="it-IT" sz="2000" spc="-1" strike="noStrike">
                <a:solidFill>
                  <a:srgbClr val="003366"/>
                </a:solidFill>
                <a:latin typeface="Comic Sans MS"/>
              </a:rPr>
              <a:t> dovrebbe essere somministrata in </a:t>
            </a:r>
            <a:r>
              <a:rPr b="1" lang="it-IT" sz="2000" spc="-1" strike="noStrike">
                <a:solidFill>
                  <a:srgbClr val="cc3399"/>
                </a:solidFill>
                <a:latin typeface="Comic Sans MS"/>
              </a:rPr>
              <a:t>concomitanza</a:t>
            </a:r>
            <a:r>
              <a:rPr b="1" lang="it-IT" sz="2000" spc="-1" strike="noStrike">
                <a:solidFill>
                  <a:srgbClr val="003366"/>
                </a:solidFill>
                <a:latin typeface="Comic Sans MS"/>
              </a:rPr>
              <a:t> a trattamenti antiblastici che contengano derivati </a:t>
            </a:r>
            <a:r>
              <a:rPr b="1" lang="it-IT" sz="2000" spc="-1" strike="noStrike">
                <a:solidFill>
                  <a:srgbClr val="cc3399"/>
                </a:solidFill>
                <a:latin typeface="Comic Sans MS"/>
              </a:rPr>
              <a:t>antraciclinici e/o taxan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3366"/>
                </a:solidFill>
                <a:latin typeface="Comic Sans MS"/>
              </a:rPr>
              <a:t>La RT può essere iniziata contemporaneamente alla terapia adiuvante con CM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6802560" y="260280"/>
            <a:ext cx="18716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81200" y="876240"/>
            <a:ext cx="8686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 u="sng">
                <a:solidFill>
                  <a:srgbClr val="cc3399"/>
                </a:solidFill>
                <a:uFillTx/>
                <a:latin typeface="Comic Sans MS"/>
              </a:rPr>
              <a:t>Cap.1 </a:t>
            </a:r>
            <a:r>
              <a:rPr b="0" lang="it-IT" sz="2400" spc="-1" strike="noStrike" u="sng">
                <a:solidFill>
                  <a:srgbClr val="cc3399"/>
                </a:solidFill>
                <a:uFillTx/>
                <a:latin typeface="Comic Sans MS"/>
              </a:rPr>
              <a:t>- Strategia general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99"/>
                </a:solidFill>
                <a:latin typeface="Comic Sans MS"/>
              </a:rPr>
              <a:t>Dati relativi ai trattamenti sistemic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1042920" y="2793960"/>
            <a:ext cx="71294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Non ci sono dati certi in merito alla sequenza ottimale tra </a:t>
            </a:r>
            <a:r>
              <a:rPr b="0" lang="it-IT" sz="2400" spc="-1" strike="noStrike">
                <a:solidFill>
                  <a:srgbClr val="cc3399"/>
                </a:solidFill>
                <a:latin typeface="Comic Sans MS"/>
              </a:rPr>
              <a:t>ormonoterapia e RT</a:t>
            </a: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; attualmente l’approccio prevalente è quello concomitant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La somministrazione di </a:t>
            </a:r>
            <a:r>
              <a:rPr b="0" lang="it-IT" sz="2400" spc="-1" strike="noStrike">
                <a:solidFill>
                  <a:srgbClr val="cc3399"/>
                </a:solidFill>
                <a:latin typeface="Comic Sans MS"/>
              </a:rPr>
              <a:t>trastuzumab concomitante</a:t>
            </a: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 a RT </a:t>
            </a:r>
            <a:r>
              <a:rPr b="1" lang="it-IT" sz="2400" spc="-1" strike="noStrike">
                <a:solidFill>
                  <a:srgbClr val="003366"/>
                </a:solidFill>
                <a:latin typeface="Comic Sans MS"/>
              </a:rPr>
              <a:t>non sembra incrementare la</a:t>
            </a: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3366"/>
                </a:solidFill>
                <a:latin typeface="Comic Sans MS"/>
              </a:rPr>
              <a:t>tossicità acuta.</a:t>
            </a: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 Non vi sono dati conclusivi per quanto riguarda la tossicità tardi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6843600" y="260280"/>
            <a:ext cx="19735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Ipofrazionamento su 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99640" y="2728800"/>
            <a:ext cx="748836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Nel volume di  trattamento della regione sovraclaveare è inevitabilmente compreso il plesso brachiale la cui tolleranza dipende sia dalla dose totale che dal suo frazionamento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2.2 Gy – 2.5 Gy / fr fino a  40 Gy tot  : danno stimato  &lt;1%</a:t>
            </a:r>
            <a:r>
              <a:rPr b="0" lang="it-IT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in view of tha lack of data from rnd studies nodal irradiation 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is not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 recommended for HF” </a:t>
            </a:r>
            <a:r>
              <a:rPr b="0" i="1" lang="it-IT" sz="1800" spc="-1" strike="noStrike">
                <a:solidFill>
                  <a:srgbClr val="003366"/>
                </a:solidFill>
                <a:latin typeface="Arial"/>
              </a:rPr>
              <a:t>(MacLeod N, 2010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6157800" y="115920"/>
            <a:ext cx="25909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990720" y="351000"/>
            <a:ext cx="8203680" cy="125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4691"/>
                </a:solidFill>
                <a:latin typeface="Arial"/>
              </a:rPr>
              <a:t>Lessons from the breast litigation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956880" y="25509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It was very difficult to determine the exact cause of severe radiation damage, but 3 factors probably contributed to the incidence of damage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Dose per fraction &gt; 2 Gy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 ( 3-4 Gy), influenced by a great shortage of RT equipment and the need to manage a high number of cas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When 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upervoltage replaced orthovoltage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, many of the existing techniques were adapted (movement of the patient.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The use of 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unequally loaded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 anterior and posterior fileds to axilla with greater biological effects at the site of brachial plexu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                        </a:t>
            </a:r>
            <a:r>
              <a:rPr b="1" lang="it-IT" sz="1800" spc="-1" strike="noStrike">
                <a:solidFill>
                  <a:srgbClr val="ff6600"/>
                </a:solidFill>
                <a:latin typeface="Arial"/>
              </a:rPr>
              <a:t>And the combination of these factors 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820000" cy="4221000"/>
          </a:xfrm>
          <a:prstGeom prst="rect">
            <a:avLst/>
          </a:prstGeom>
          <a:ln w="0">
            <a:noFill/>
          </a:ln>
        </p:spPr>
      </p:pic>
      <p:grpSp>
        <p:nvGrpSpPr>
          <p:cNvPr id="133" name="Text Box 4"/>
          <p:cNvGrpSpPr/>
          <p:nvPr/>
        </p:nvGrpSpPr>
        <p:grpSpPr>
          <a:xfrm>
            <a:off x="1255680" y="5730840"/>
            <a:ext cx="7053120" cy="468360"/>
            <a:chOff x="1255680" y="5730840"/>
            <a:chExt cx="7053120" cy="468360"/>
          </a:xfrm>
        </p:grpSpPr>
        <p:pic>
          <p:nvPicPr>
            <p:cNvPr id="134" name="Text Box 4" descr=""/>
            <p:cNvPicPr/>
            <p:nvPr/>
          </p:nvPicPr>
          <p:blipFill>
            <a:blip r:embed="rId2"/>
            <a:stretch/>
          </p:blipFill>
          <p:spPr>
            <a:xfrm>
              <a:off x="1255680" y="5730840"/>
              <a:ext cx="705312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295280" y="5769000"/>
              <a:ext cx="69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  <a:ea typeface="Arial"/>
                </a:rPr>
                <a:t>IPOFRAZ: LR a 10 aa: 6.9%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6" name="Text Box 4"/>
          <p:cNvGrpSpPr/>
          <p:nvPr/>
        </p:nvGrpSpPr>
        <p:grpSpPr>
          <a:xfrm>
            <a:off x="1255680" y="6308640"/>
            <a:ext cx="7053120" cy="470160"/>
            <a:chOff x="1255680" y="6308640"/>
            <a:chExt cx="7053120" cy="470160"/>
          </a:xfrm>
        </p:grpSpPr>
        <p:pic>
          <p:nvPicPr>
            <p:cNvPr id="137" name="Text Box 4" descr=""/>
            <p:cNvPicPr/>
            <p:nvPr/>
          </p:nvPicPr>
          <p:blipFill>
            <a:blip r:embed="rId3"/>
            <a:stretch/>
          </p:blipFill>
          <p:spPr>
            <a:xfrm>
              <a:off x="1255680" y="6308640"/>
              <a:ext cx="7053120" cy="4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1295280" y="6343560"/>
              <a:ext cx="69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  <a:ea typeface="Arial"/>
                </a:rPr>
                <a:t>STANDARD: LR a 10 aa: 6.2 %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9" name="Text Box 4"/>
          <p:cNvSpPr/>
          <p:nvPr/>
        </p:nvSpPr>
        <p:spPr>
          <a:xfrm>
            <a:off x="971640" y="4365720"/>
            <a:ext cx="756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Comic Sans MS"/>
                <a:ea typeface="ＭＳ Ｐゴシック"/>
              </a:rPr>
              <a:t>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1335 Pz pT1-2 pN0, G3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Accrual: 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42.5/44 Gy (16 fr.): 1083 p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            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	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     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50 Gy: 252 p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 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FU: 10 a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2° domanda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Che ruolo ha il boost nei pazienti trattati con ipofrazionamento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U-evidence: pochi dati disponibili per definire le indicazioni sull’associazione del boost e sulla tossicita’ nei pazienti trattati con HF nella pratica clinic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Le indicazioni all’utilizzo del boost sono le stesse indipendentemente dal frazionamento adotta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U-opinion:  nei casi in cui è indicato il boost 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la maggioranza dei membri della task force ritiene sicuro l’utilizzo dell’HF con il boost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la minoranza dei membri ritiene indicato  il C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lavoro mamm asco"/>
          <p:cNvPicPr/>
          <p:nvPr/>
        </p:nvPicPr>
        <p:blipFill>
          <a:blip r:embed="rId1"/>
          <a:stretch/>
        </p:blipFill>
        <p:spPr>
          <a:xfrm>
            <a:off x="826920" y="2492280"/>
            <a:ext cx="7561440" cy="37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Convenzionale</a:t>
            </a: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:  </a:t>
            </a:r>
            <a:r>
              <a:rPr b="1" lang="it-IT" sz="3600" spc="-1" strike="noStrike">
                <a:solidFill>
                  <a:srgbClr val="ff3300"/>
                </a:solidFill>
                <a:latin typeface="Arial"/>
              </a:rPr>
              <a:t>50 Gy/25 f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189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Viene però erogato boost…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900000" y="3789360"/>
            <a:ext cx="7775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035000" y="3191040"/>
            <a:ext cx="6437520" cy="204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66"/>
                </a:solidFill>
                <a:latin typeface="Arial"/>
              </a:rPr>
              <a:t>5318 pts  T1-2, Nx,  negative margins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66"/>
                </a:solidFill>
                <a:latin typeface="Arial"/>
              </a:rPr>
              <a:t>Rando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66"/>
                </a:solidFill>
                <a:latin typeface="Arial"/>
              </a:rPr>
              <a:t>50 Gy / 25 fr “whole breast”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66"/>
                </a:solidFill>
                <a:latin typeface="Arial"/>
              </a:rPr>
              <a:t>50 Gy/ 25  fr “whole breast” + boost (16 Gy/ 8 fr or 15 Gy LDR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971640" y="560520"/>
            <a:ext cx="691344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003366"/>
                </a:solidFill>
                <a:latin typeface="Arial"/>
              </a:rPr>
              <a:t>BOOST</a:t>
            </a:r>
            <a:endParaRPr b="1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755640" y="4941720"/>
            <a:ext cx="8353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Local Relapses (10 year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No boost       10.2%   </a:t>
            </a:r>
            <a:r>
              <a:rPr b="1" lang="it-IT" sz="1900" spc="-1" strike="noStrike">
                <a:solidFill>
                  <a:srgbClr val="003366"/>
                </a:solidFill>
                <a:latin typeface="Arial"/>
              </a:rPr>
              <a:t>(7.3% &gt; 60 yr)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With  boost    6.2%    </a:t>
            </a:r>
            <a:r>
              <a:rPr b="1" lang="it-IT" sz="1900" spc="-1" strike="noStrike">
                <a:solidFill>
                  <a:srgbClr val="003366"/>
                </a:solidFill>
                <a:latin typeface="Arial"/>
              </a:rPr>
              <a:t>(3.8 %&gt; 60 yr)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971640" y="240516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Tahoma"/>
              </a:rPr>
              <a:t>EORTC randomized stud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3264840" y="476280"/>
            <a:ext cx="12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6600"/>
                </a:solidFill>
                <a:latin typeface="Tahoma"/>
              </a:rPr>
              <a:t>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7194960" y="536724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Verdana"/>
              </a:rPr>
              <a:t>(p&lt;0.0001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49600" y="719280"/>
            <a:ext cx="8203680" cy="125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BOOST</a:t>
            </a:r>
            <a:br>
              <a:rPr sz="2800"/>
            </a:b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Recommendations on selection: possible selection criteria  (Graham 2006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17360" y="2349360"/>
            <a:ext cx="8126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Arial"/>
              </a:rPr>
              <a:t>Risk group       additional factors      additional risk fact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Arial"/>
              </a:rPr>
              <a:t>                                </a:t>
            </a:r>
            <a:r>
              <a:rPr b="1" lang="it-IT" sz="2000" spc="-1" strike="noStrike">
                <a:solidFill>
                  <a:srgbClr val="008000"/>
                </a:solidFill>
                <a:latin typeface="Arial"/>
              </a:rPr>
              <a:t>requir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Margin +                           0                                        T &gt; 2 c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Age &lt; 40                           0                           High grade infiltrating CDI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or DC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Age 40-50                         1                                          LV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Age &gt;50-69                       2                                High mitotic inde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Age &gt;70                            3                                  ER+ without O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                    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ER- after C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BOO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START A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10 Gy / 5 fr nel 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61%,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bilanciato nei due bracci 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I partecipanti allo studio dichiaravano prima l’intento di erogare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boos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6408720" cy="18669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971640" y="2492280"/>
            <a:ext cx="136836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4932360" y="4724280"/>
            <a:ext cx="403236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cc00"/>
                </a:solidFill>
                <a:latin typeface="Arial"/>
              </a:rPr>
              <a:t>START B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10 Gy in 5 fr con e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Arial"/>
              </a:rPr>
              <a:t>ˉ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nel 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43 %,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bilanciato nei due bracci . I partecipanti allo studio dichiaravano prima l’intento di erogare boos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826920" y="4508640"/>
            <a:ext cx="3816360" cy="227628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4932360" y="4653000"/>
            <a:ext cx="3743280" cy="208908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1619280" y="4005360"/>
            <a:ext cx="237636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1065240" y="23954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99"/>
                </a:solidFill>
                <a:latin typeface="Arial"/>
              </a:rPr>
              <a:t>OW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900000" y="2349360"/>
            <a:ext cx="7056720" cy="2016360"/>
          </a:xfrm>
          <a:prstGeom prst="rect">
            <a:avLst/>
          </a:prstGeom>
          <a:noFill/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Oval 12"/>
          <p:cNvSpPr/>
          <p:nvPr/>
        </p:nvSpPr>
        <p:spPr>
          <a:xfrm>
            <a:off x="4932360" y="2421000"/>
            <a:ext cx="719280" cy="43164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Recidive local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7720" y="28731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The reason of the lack of a difference in LC with lower BED used in the altered fractionation is uncertai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Possible reasons include inadequate FU or the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impact of boost used in 47%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of wome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rcRect l="0" t="0" r="65236" b="0"/>
          <a:stretch/>
        </p:blipFill>
        <p:spPr>
          <a:xfrm>
            <a:off x="4572000" y="2506680"/>
            <a:ext cx="424800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3° domanda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Quali sono i regimi più appropriati per HF-WBI e quali per il boos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U-evidence: 42.5 Gy in 16 fr (22 die) per l’ipofrazionamento no boost (trial Canades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U-evidence: non è stato definito un regime ottimale di frazionamento quando è indicato il boost (16-10 Gy/2 Gy fr.o 10 Gy da 2.5Gy fr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tab5"/>
          <p:cNvPicPr/>
          <p:nvPr/>
        </p:nvPicPr>
        <p:blipFill>
          <a:blip r:embed="rId1"/>
          <a:stretch/>
        </p:blipFill>
        <p:spPr>
          <a:xfrm>
            <a:off x="755640" y="2276640"/>
            <a:ext cx="8170920" cy="39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tab3"/>
          <p:cNvPicPr/>
          <p:nvPr/>
        </p:nvPicPr>
        <p:blipFill>
          <a:blip r:embed="rId1"/>
          <a:stretch/>
        </p:blipFill>
        <p:spPr>
          <a:xfrm>
            <a:off x="839880" y="2349360"/>
            <a:ext cx="830412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7412040" cy="1150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1476360" y="4146480"/>
            <a:ext cx="5472000" cy="22986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6372360" y="6165720"/>
            <a:ext cx="8427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826920" y="2637000"/>
            <a:ext cx="23050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5580000" y="3213000"/>
            <a:ext cx="2879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2008 HSRC- ASTRO hanno identificato il frazionamento da utilizzare nella WBI come argomento di alta priorità su cui elaborare Linee Guida evidence-based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2009  approvazione del progetto e “convocazione “ task force composta da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it-IT" sz="1600" spc="-1" strike="noStrike">
                <a:solidFill>
                  <a:srgbClr val="003366"/>
                </a:solidFill>
                <a:latin typeface="Arial"/>
              </a:rPr>
              <a:t>-otto radioterapisti esperti in cancro della mammell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it-IT" sz="1600" spc="-1" strike="noStrike">
                <a:solidFill>
                  <a:srgbClr val="003366"/>
                </a:solidFill>
                <a:latin typeface="Arial"/>
              </a:rPr>
              <a:t>un radiobiolog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it-IT" sz="1600" spc="-1" strike="noStrike">
                <a:solidFill>
                  <a:srgbClr val="003366"/>
                </a:solidFill>
                <a:latin typeface="Arial"/>
              </a:rPr>
              <a:t>-un fisic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it-IT" sz="1600" spc="-1" strike="noStrike">
                <a:solidFill>
                  <a:srgbClr val="003366"/>
                </a:solidFill>
                <a:latin typeface="Arial"/>
              </a:rPr>
              <a:t>-un radioterapista di uno studio privat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it-IT" sz="1600" spc="-1" strike="noStrike">
                <a:solidFill>
                  <a:srgbClr val="003366"/>
                </a:solidFill>
                <a:latin typeface="Arial"/>
              </a:rPr>
              <a:t>-due rappresentanti del HSR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it-IT" sz="1600" spc="-1" strike="noStrike">
                <a:solidFill>
                  <a:srgbClr val="003366"/>
                </a:solidFill>
                <a:latin typeface="Arial"/>
              </a:rPr>
              <a:t>-uno specializzand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it-IT" sz="1600" spc="-1" strike="noStrike">
                <a:solidFill>
                  <a:srgbClr val="003366"/>
                </a:solidFill>
                <a:latin typeface="Arial"/>
              </a:rPr>
              <a:t>- “rappresentante dei pazienti “ (corrispettivo rappresentante del tribunale del malato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per una revisione sistematica della letteratura e la formulazione di Linee Guid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108000" y="1054080"/>
            <a:ext cx="8928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4° domanda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Quali sono i criteri di accettabilità di un piano di cura per un trattamento ipofrazionato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U-evidence: pianificazione bidimensionale con ottimizzazione dell’omogeneità di dose sull’asse centrale è lo standard minimo accettabil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U-opinion: pianificazione tridimensionale mediante TC di centratura per ottimizzare l’omogeneità di dose su tutta la mammella, ridurre la tossicità e ottenere un risultato estetico soddisfacen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(dati confermati con CF-WBI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U-opinion: utilizzo di HF-WBI quando è possibile escludere il cuore dai volumi di irradiazione, senza compromettere l’adeguata copertura del target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( IMRT,posizione prona, gating respiratorio 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806400" y="2401920"/>
            <a:ext cx="1893960" cy="42670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"/>
          <p:cNvSpPr/>
          <p:nvPr/>
        </p:nvSpPr>
        <p:spPr>
          <a:xfrm>
            <a:off x="3043080" y="3284640"/>
            <a:ext cx="5499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Verdana"/>
              </a:rPr>
              <a:t>Gli effetti tardivi, in particolare a carico d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Verdana"/>
              </a:rPr>
              <a:t>cuore e polmone, non sono del tutto noti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Verdana"/>
              </a:rPr>
              <a:t>I tessuti sani devono essere risparmiat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Verdana"/>
              </a:rPr>
              <a:t>quanto più possibile, coerentemente c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Verdana"/>
              </a:rPr>
              <a:t>l’adeguata distribuzione di dose al targ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2"/>
          <a:stretch/>
        </p:blipFill>
        <p:spPr>
          <a:xfrm>
            <a:off x="901800" y="885960"/>
            <a:ext cx="7846920" cy="887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"/>
          <p:cNvPicPr/>
          <p:nvPr/>
        </p:nvPicPr>
        <p:blipFill>
          <a:blip r:embed="rId3"/>
          <a:stretch/>
        </p:blipFill>
        <p:spPr>
          <a:xfrm>
            <a:off x="5543640" y="1344600"/>
            <a:ext cx="349236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49600" y="351000"/>
            <a:ext cx="8203680" cy="125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Tahoma"/>
              </a:rPr>
              <a:t>Impatto della RT sul risultato cosmetico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3366"/>
                </a:solidFill>
                <a:latin typeface="Tahoma"/>
              </a:rPr>
              <a:t>Ottimizzazione della tecnica di irradiazi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003366"/>
                </a:solidFill>
                <a:latin typeface="Tahoma"/>
              </a:rPr>
              <a:t>Pianificazione scrupolos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Tahoma"/>
              </a:rPr>
              <a:t>The double trouble </a:t>
            </a:r>
            <a:r>
              <a:rPr b="0" lang="it-IT" sz="20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ff3300"/>
                </a:solidFill>
                <a:latin typeface="Tahoma"/>
              </a:rPr>
              <a:t>(Withers, 1992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003366"/>
                </a:solidFill>
                <a:latin typeface="Tahoma"/>
              </a:rPr>
              <a:t>Omogeneità della dose con attenzione ad evitare  hot spots, dove un volume di tessuto riceve una dose totale maggiore, con dose/frazione maggio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762120" y="1003320"/>
            <a:ext cx="7924680" cy="658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"/>
          <p:cNvPicPr/>
          <p:nvPr/>
        </p:nvPicPr>
        <p:blipFill>
          <a:blip r:embed="rId2"/>
          <a:stretch/>
        </p:blipFill>
        <p:spPr>
          <a:xfrm>
            <a:off x="1476360" y="4221000"/>
            <a:ext cx="6191280" cy="2540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3"/>
          <a:stretch/>
        </p:blipFill>
        <p:spPr>
          <a:xfrm>
            <a:off x="5508720" y="1268280"/>
            <a:ext cx="2004840" cy="64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4"/>
          <a:stretch/>
        </p:blipFill>
        <p:spPr>
          <a:xfrm>
            <a:off x="757080" y="2492280"/>
            <a:ext cx="7344000" cy="150984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6"/>
          <p:cNvSpPr/>
          <p:nvPr/>
        </p:nvSpPr>
        <p:spPr>
          <a:xfrm>
            <a:off x="6084720" y="3645000"/>
            <a:ext cx="2735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900000" y="2349360"/>
            <a:ext cx="273528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5° domanda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Da un punto di vista radiobiologico ci sono studi recenti che confrontano il trattamento convenzionale con l’ipofrazionato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aaa"/>
          <p:cNvPicPr/>
          <p:nvPr/>
        </p:nvPicPr>
        <p:blipFill>
          <a:blip r:embed="rId1"/>
          <a:stretch/>
        </p:blipFill>
        <p:spPr>
          <a:xfrm>
            <a:off x="826920" y="2421000"/>
            <a:ext cx="799308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tab2"/>
          <p:cNvPicPr/>
          <p:nvPr/>
        </p:nvPicPr>
        <p:blipFill>
          <a:blip r:embed="rId1"/>
          <a:stretch/>
        </p:blipFill>
        <p:spPr>
          <a:xfrm>
            <a:off x="744480" y="836640"/>
            <a:ext cx="8399520" cy="60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tab6"/>
          <p:cNvPicPr/>
          <p:nvPr/>
        </p:nvPicPr>
        <p:blipFill>
          <a:blip r:embed="rId1"/>
          <a:stretch/>
        </p:blipFill>
        <p:spPr>
          <a:xfrm>
            <a:off x="514440" y="1162080"/>
            <a:ext cx="81136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Selezionati 558 abstract (PubMed  gen.1990 - feb. 2009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Individuati 6 studi clinici randomizzati  HF-WBI versus FC-WB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2 studi clinici randomizzati HF-WBI versus PB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2 studi clinici randomizzati HF-WBI versus no R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1 studio clinico randomizzato HF-WBI versus HF-WBI piu’boost sul letto tumoral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5219640" y="2781360"/>
            <a:ext cx="3673440" cy="1785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"/>
          <p:cNvPicPr/>
          <p:nvPr/>
        </p:nvPicPr>
        <p:blipFill>
          <a:blip r:embed="rId2"/>
          <a:srcRect l="0" t="0" r="12119" b="0"/>
          <a:stretch/>
        </p:blipFill>
        <p:spPr>
          <a:xfrm>
            <a:off x="900000" y="260280"/>
            <a:ext cx="3986280" cy="1727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3"/>
          <a:srcRect l="0" t="0" r="13567" b="0"/>
          <a:stretch/>
        </p:blipFill>
        <p:spPr>
          <a:xfrm>
            <a:off x="5219640" y="260280"/>
            <a:ext cx="3672000" cy="1656000"/>
          </a:xfrm>
          <a:prstGeom prst="rect">
            <a:avLst/>
          </a:prstGeom>
          <a:ln w="9360">
            <a:solidFill>
              <a:srgbClr val="e8f1e8"/>
            </a:solidFill>
            <a:miter/>
          </a:ln>
        </p:spPr>
      </p:pic>
      <p:pic>
        <p:nvPicPr>
          <p:cNvPr id="109" name="Picture 9" descr=""/>
          <p:cNvPicPr/>
          <p:nvPr/>
        </p:nvPicPr>
        <p:blipFill>
          <a:blip r:embed="rId4"/>
          <a:stretch/>
        </p:blipFill>
        <p:spPr>
          <a:xfrm>
            <a:off x="5126040" y="5035680"/>
            <a:ext cx="385920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tab61"/>
          <p:cNvPicPr/>
          <p:nvPr/>
        </p:nvPicPr>
        <p:blipFill>
          <a:blip r:embed="rId1"/>
          <a:stretch/>
        </p:blipFill>
        <p:spPr>
          <a:xfrm>
            <a:off x="468360" y="620640"/>
            <a:ext cx="8113680" cy="26956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tab62"/>
          <p:cNvPicPr/>
          <p:nvPr/>
        </p:nvPicPr>
        <p:blipFill>
          <a:blip r:embed="rId2"/>
          <a:stretch/>
        </p:blipFill>
        <p:spPr>
          <a:xfrm>
            <a:off x="539640" y="3716280"/>
            <a:ext cx="810432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3300"/>
                </a:solidFill>
                <a:latin typeface="Arial"/>
              </a:rPr>
              <a:t>Valutazione cosmet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8748720" cy="36720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99" name="Rettangolo 14"/>
          <p:cNvSpPr/>
          <p:nvPr/>
        </p:nvSpPr>
        <p:spPr>
          <a:xfrm>
            <a:off x="5797800" y="6521400"/>
            <a:ext cx="30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3366"/>
                </a:solidFill>
                <a:latin typeface="Arial"/>
                <a:ea typeface="Arial"/>
              </a:rPr>
              <a:t>Holloway et al, The Breast,2010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Whelan  </a:t>
            </a:r>
            <a:r>
              <a:rPr b="1" i="1" lang="it-IT" sz="3200" spc="-1" strike="noStrike">
                <a:solidFill>
                  <a:srgbClr val="ff3300"/>
                </a:solidFill>
                <a:latin typeface="Arial"/>
              </a:rPr>
              <a:t>global cosmetic outcom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911160" y="272880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Il risultato cosmetico globale fu valutato da “trained clinical trials nurses” secondo la scala EORTC a 4 pun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rial"/>
              </a:rPr>
              <a:t>Baseline assessment      99% p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rial"/>
              </a:rPr>
              <a:t>A 5 aa                                60% p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Owen</a:t>
            </a: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i="1" lang="it-IT" sz="2800" spc="-1" strike="noStrike">
                <a:solidFill>
                  <a:srgbClr val="ff3300"/>
                </a:solidFill>
                <a:latin typeface="Arial"/>
              </a:rPr>
              <a:t>late change in breast appearanc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838080" y="272880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Valutazione su fotograf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rial"/>
              </a:rPr>
              <a:t>Baseline foto     85% p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rial"/>
              </a:rPr>
              <a:t>A 5   aa               63% p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rial"/>
              </a:rPr>
              <a:t>A 10 aa               11% p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STA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Valutazione su fotograf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003366"/>
                </a:solidFill>
                <a:latin typeface="Arial"/>
              </a:rPr>
              <a:t>START A   baseline foto + FU     47% p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003366"/>
                </a:solidFill>
                <a:latin typeface="Arial"/>
              </a:rPr>
              <a:t>START B                                       41.6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3366"/>
                </a:solidFill>
                <a:latin typeface="Arial"/>
              </a:rPr>
              <a:t>Ma non tutte hanno una foto a 5 aa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2556000" y="1268280"/>
            <a:ext cx="59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3300"/>
                </a:solidFill>
                <a:latin typeface="Arial"/>
              </a:rPr>
              <a:t>late change in breast appea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936360" y="946080"/>
            <a:ext cx="7706160" cy="15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3300"/>
                </a:solidFill>
                <a:latin typeface="Arial"/>
              </a:rPr>
              <a:t>Tossicità tardiva</a:t>
            </a:r>
            <a:br>
              <a:rPr sz="4400"/>
            </a:b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826920" y="3892680"/>
            <a:ext cx="777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Cutanea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(Whelan, scala RTOG a 5 punti : a 5 e 10 a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Sottocutanea 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(Whelan, a 5 e 10 aa,  Owen a  5 a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Cardiaca 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(START A, START B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Fratture costali 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(Whelan, START A, START B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Reazioni cutanee tardive: discromi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iper-ipopigmentazione, depigmentazione dell’areola-capezzolo, teleangecta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Il 90% delle teleangectasie severe si osserva a circa 5 aa, ma  è segnalata progressione 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fino a 15 aa (G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Reazioni cutanee tardive : fibros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E’ la sequela più importante per  le conseguenze sulla cosmes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Si manifesta a 6-18 mesi dal termine della RT e può progredire nel temp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Può essere diffusa a tutta la mammella o limitata ad alcuni settori (disomogeneità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E’ stabilizzata generalmente a 3 aa,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ma può ancora peggiorare a 10 a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it-IT" sz="3600" spc="-1" strike="noStrike">
                <a:solidFill>
                  <a:srgbClr val="ff3300"/>
                </a:solidFill>
                <a:latin typeface="Arial"/>
              </a:rPr>
              <a:t>Follow up ancora bre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Gli effetti tardivi continuano a manifestarsi nel tempo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(es. tossicità cardiaca 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Whelan dimostra che con FU maggiore aumenta  sia la tossicità cutanea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(dal 3 al 6%)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che sottocutanea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(dal 4 all’8%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1544760" y="762120"/>
            <a:ext cx="6357960" cy="1143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2"/>
          <a:srcRect l="0" t="13974" r="0" b="0"/>
          <a:stretch/>
        </p:blipFill>
        <p:spPr>
          <a:xfrm>
            <a:off x="971640" y="2349360"/>
            <a:ext cx="7704000" cy="4508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3"/>
          <a:stretch/>
        </p:blipFill>
        <p:spPr>
          <a:xfrm>
            <a:off x="4643280" y="1557360"/>
            <a:ext cx="336240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Prodotto un manoscritto che è stato revisionato da 5 esperti con il consenso legale dell’ASTR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Pubblicato sul sito web dell’ASTRO nel gennaio 2010 per 3 settima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Presentazione del manoscritto al Journal of Radiation Oncology,Biology,Physic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Approvazione nel maggio 20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Le raccomandazioni finali sono specificate con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U-eviden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U-opin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quando non poteva essere raggiunta l’unanimita’ le opinioni di maggioranza e minoranza sono state specificate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Data di scadenza del documento 31/12/201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7189560" cy="782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"/>
          <p:cNvPicPr/>
          <p:nvPr/>
        </p:nvPicPr>
        <p:blipFill>
          <a:blip r:embed="rId2"/>
          <a:stretch/>
        </p:blipFill>
        <p:spPr>
          <a:xfrm>
            <a:off x="878040" y="3530520"/>
            <a:ext cx="8265960" cy="14828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7"/>
          <p:cNvSpPr/>
          <p:nvPr/>
        </p:nvSpPr>
        <p:spPr>
          <a:xfrm>
            <a:off x="2771640" y="443700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RISULTA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1° domanda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In quali pazienti è possibile ottenere gli stessi risultati tra HF-WBI ed CF-WBI 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tab1"/>
          <p:cNvPicPr/>
          <p:nvPr/>
        </p:nvPicPr>
        <p:blipFill>
          <a:blip r:embed="rId1"/>
          <a:stretch/>
        </p:blipFill>
        <p:spPr>
          <a:xfrm>
            <a:off x="755640" y="2565360"/>
            <a:ext cx="8388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ETA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’: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70-79% delle pazienti arruolate aveva un eta’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Arial"/>
              </a:rPr>
              <a:t>≥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50 anni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( studio canadese analizza il ruolo dell’età 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Una minoranza dei membri della task force ritiene i dati insufficienti per raccomandare l’uso di HF-WBI nelle pazienti piu’ giovani, nella routine,per la mancanza di dati scientifici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STADIO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gran parte delle pz  p T1 o p T2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                         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pz con stadio p T3 p T4 sono state trattate con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                         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mastectomia             pochi dati a disposizi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DCIS :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     esclusi dai trial randomizzati (ecc. piccolo studio di 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                        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fase II). Dati non sufficienti per consentire un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                        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evidence –based a favore o contro l’HF-WBI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N:        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forte evidenza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per p N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                        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ritenuto fattibile anche nell’N1,anche se non ci son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                        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evidenze sufficient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4067280" y="3213000"/>
            <a:ext cx="647640" cy="71640"/>
          </a:xfrm>
          <a:prstGeom prst="rightArrow">
            <a:avLst>
              <a:gd name="adj1" fmla="val 50000"/>
              <a:gd name="adj2" fmla="val 226005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08:41:41Z</dcterms:created>
  <dc:creator>IVRRADIO</dc:creator>
  <dc:description/>
  <dc:language>en-US</dc:language>
  <cp:lastModifiedBy>regia</cp:lastModifiedBy>
  <dcterms:modified xsi:type="dcterms:W3CDTF">2012-01-20T08:56:21Z</dcterms:modified>
  <cp:revision>140</cp:revision>
  <dc:subject/>
  <dc:title>Diapositiva 1</dc:title>
</cp:coreProperties>
</file>