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wmf" ContentType="image/x-wmf"/>
  <Override PartName="/ppt/media/image3.wmf" ContentType="image/x-wmf"/>
  <Override PartName="/ppt/media/image26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24.wmf" ContentType="image/x-wmf"/>
  <Override PartName="/ppt/media/image1.wmf" ContentType="image/x-wmf"/>
  <Override PartName="/ppt/media/image9.jpeg" ContentType="image/jpeg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4667-6179-4BF4-BC60-3EB4BC2688F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4528-C0B8-4BD4-BCFE-1A507A8ED8D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B80D-B9C5-4894-96B3-2FB29058712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8319-2351-4B2B-9819-96F2CFDB223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4222-E824-4D38-87EB-F536BA2CCE8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2F04-EF99-4CD1-B4C3-EE739653A59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F941-F91E-4028-ADAB-F6B102EEAB8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4B58-5CCA-47C5-B54F-E43E6814F7C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BE7A-6C92-42F7-AD66-0E589E566E3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FCBB-E4F9-420D-AB82-CAA4A2E4B07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D133-C5D9-43B8-9CBE-96B9F442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DC9-7F00-40F4-9329-EB3854AF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F576-AFA3-4378-8499-65D01DF6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8D9-8D2E-4E95-9CF5-5CD10C34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B91-8F42-4B7D-B433-ABC69677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DF4-D4F2-4986-893A-39860A9C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482-AB74-42F9-A1F6-07E3766D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88F-1EC4-4648-9BA2-3EC05B58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30A-AFF1-4BE1-BBD4-7E7A9301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BAC-42F2-4E2F-8B3B-BEF2EB58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853D-4E1E-455E-84D2-F5FB58F7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AD8-3B1D-4B8A-8A1F-3377D3D3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1027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-9360" y="4489560"/>
              <a:ext cx="5754600" cy="2368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0" y="3817800"/>
              <a:ext cx="8164440" cy="30196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3146400"/>
              <a:ext cx="9144000" cy="36910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0" y="2460600"/>
              <a:ext cx="9144000" cy="24973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0" y="1793880"/>
              <a:ext cx="9144000" cy="15397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-20520"/>
              <a:ext cx="9144000" cy="16826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-20520"/>
              <a:ext cx="8388360" cy="1068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0" y="-20520"/>
              <a:ext cx="4578480" cy="45396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8543-3740-4862-BC36-553FBF936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Comic Sans MS"/>
              </a:rPr>
              <a:t>L’approccio terapeutico al DCIS: </a:t>
            </a:r>
            <a:br>
              <a:rPr sz="3200"/>
            </a:br>
            <a:r>
              <a:rPr b="1" i="1" lang="en-US" sz="3200" spc="-1" strike="noStrike">
                <a:solidFill>
                  <a:srgbClr val="ff9900"/>
                </a:solidFill>
                <a:latin typeface="Comic Sans MS"/>
              </a:rPr>
              <a:t>quali scenari futuri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76360" y="4292640"/>
            <a:ext cx="6400800" cy="1571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99ccff"/>
                </a:solidFill>
                <a:latin typeface="Comic Sans MS"/>
              </a:rPr>
              <a:t>Cristiana Vid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99ccff"/>
                </a:solidFill>
                <a:latin typeface="Comic Sans MS"/>
              </a:rPr>
              <a:t>S.C. Radioterap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99ccff"/>
                </a:solidFill>
                <a:latin typeface="Comic Sans MS"/>
              </a:rPr>
              <a:t>A.O.U. Trie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04920"/>
            <a:ext cx="5943600" cy="52056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ZOOM JOURNAL CLUB 20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317600" cy="144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1022400" cy="9684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ig_10a.gif"/>
          <p:cNvPicPr/>
          <p:nvPr/>
        </p:nvPicPr>
        <p:blipFill>
          <a:blip r:embed="rId1"/>
          <a:stretch/>
        </p:blipFill>
        <p:spPr>
          <a:xfrm>
            <a:off x="304920" y="2057400"/>
            <a:ext cx="4087800" cy="41911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09" name="Picture 3" descr="fig_10b.gif"/>
          <p:cNvPicPr/>
          <p:nvPr/>
        </p:nvPicPr>
        <p:blipFill>
          <a:blip r:embed="rId2"/>
          <a:stretch/>
        </p:blipFill>
        <p:spPr>
          <a:xfrm>
            <a:off x="4648320" y="2057400"/>
            <a:ext cx="4086000" cy="41911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10" name="Rectangle 2"/>
          <p:cNvSpPr/>
          <p:nvPr/>
        </p:nvSpPr>
        <p:spPr>
          <a:xfrm>
            <a:off x="380880" y="228600"/>
            <a:ext cx="8458200" cy="1371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CIS: BCS + RT vs. BCS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psilateral breast recurrence (DCIS &amp; Invasiv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among women with 1-20 mm tumours and negative margin stat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ooter Placeholder 6"/>
          <p:cNvSpPr/>
          <p:nvPr/>
        </p:nvSpPr>
        <p:spPr>
          <a:xfrm>
            <a:off x="3124080" y="6453360"/>
            <a:ext cx="3753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EBCTCG 5th Cycle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286000"/>
            <a:ext cx="1219320" cy="228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286000"/>
            <a:ext cx="1143000" cy="228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905120"/>
            <a:ext cx="182880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1981080"/>
            <a:ext cx="29718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1905120"/>
            <a:ext cx="297180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fig_11b.gif"/>
          <p:cNvPicPr/>
          <p:nvPr/>
        </p:nvPicPr>
        <p:blipFill>
          <a:blip r:embed="rId1"/>
          <a:stretch/>
        </p:blipFill>
        <p:spPr>
          <a:xfrm>
            <a:off x="533520" y="1981080"/>
            <a:ext cx="3948120" cy="40323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18" name="Picture 3" descr="fig_11c.gif"/>
          <p:cNvPicPr/>
          <p:nvPr/>
        </p:nvPicPr>
        <p:blipFill>
          <a:blip r:embed="rId2"/>
          <a:stretch/>
        </p:blipFill>
        <p:spPr>
          <a:xfrm>
            <a:off x="4876920" y="1905120"/>
            <a:ext cx="4089240" cy="41767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19" name="Rectangle 2"/>
          <p:cNvSpPr/>
          <p:nvPr/>
        </p:nvSpPr>
        <p:spPr>
          <a:xfrm>
            <a:off x="380880" y="304920"/>
            <a:ext cx="8382240" cy="1066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CIS: BCS + RT vs. B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Contralateral breast events             Regional or distant ev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ooter Placeholder 8"/>
          <p:cNvSpPr/>
          <p:nvPr/>
        </p:nvSpPr>
        <p:spPr>
          <a:xfrm>
            <a:off x="3124080" y="6453360"/>
            <a:ext cx="3753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EBCTCG 5th Cycle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729 wom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fig_9c.gif"/>
          <p:cNvPicPr/>
          <p:nvPr/>
        </p:nvPicPr>
        <p:blipFill>
          <a:blip r:embed="rId1"/>
          <a:stretch/>
        </p:blipFill>
        <p:spPr>
          <a:xfrm>
            <a:off x="6143760" y="2971800"/>
            <a:ext cx="2909880" cy="29718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23" name="Picture 3" descr="fig_12b.gif"/>
          <p:cNvPicPr/>
          <p:nvPr/>
        </p:nvPicPr>
        <p:blipFill>
          <a:blip r:embed="rId2"/>
          <a:stretch/>
        </p:blipFill>
        <p:spPr>
          <a:xfrm>
            <a:off x="3124080" y="2438280"/>
            <a:ext cx="2908440" cy="29718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24" name="Rectangle 2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CIS: BCS + RT vs. BCS- 3729 wo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Footer Placeholder 6"/>
          <p:cNvSpPr/>
          <p:nvPr/>
        </p:nvSpPr>
        <p:spPr>
          <a:xfrm>
            <a:off x="3124080" y="6453360"/>
            <a:ext cx="3753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EBCTCG 5th Cycle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38" descr=""/>
          <p:cNvPicPr/>
          <p:nvPr/>
        </p:nvPicPr>
        <p:blipFill>
          <a:blip r:embed="rId3"/>
          <a:stretch/>
        </p:blipFill>
        <p:spPr>
          <a:xfrm>
            <a:off x="90360" y="1905120"/>
            <a:ext cx="2916360" cy="29718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380880" y="128736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Mortality with a breast 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67652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Mortality without a breast 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213372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Mortality from all cau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fig_12a.gif"/>
          <p:cNvPicPr/>
          <p:nvPr/>
        </p:nvPicPr>
        <p:blipFill>
          <a:blip r:embed="rId1"/>
          <a:stretch/>
        </p:blipFill>
        <p:spPr>
          <a:xfrm>
            <a:off x="304920" y="2057400"/>
            <a:ext cx="3954240" cy="40384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31" name="Picture 3" descr="fig_12c.gif"/>
          <p:cNvPicPr/>
          <p:nvPr/>
        </p:nvPicPr>
        <p:blipFill>
          <a:blip r:embed="rId2"/>
          <a:stretch/>
        </p:blipFill>
        <p:spPr>
          <a:xfrm>
            <a:off x="4800600" y="2057400"/>
            <a:ext cx="3954600" cy="40384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32" name="Rectangle 2"/>
          <p:cNvSpPr/>
          <p:nvPr/>
        </p:nvSpPr>
        <p:spPr>
          <a:xfrm>
            <a:off x="533520" y="285840"/>
            <a:ext cx="8153280" cy="85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CIS: BCS + RT vs. BCS –3729 wo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Footer Placeholder 6"/>
          <p:cNvSpPr/>
          <p:nvPr/>
        </p:nvSpPr>
        <p:spPr>
          <a:xfrm>
            <a:off x="3124080" y="6453360"/>
            <a:ext cx="3753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EBCTCG 5th Cycle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4479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Heart disease mortality               Non-breast primary cancer inci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EBCTCG meta-analisi: conclusion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a RT riduce a metà il tasso di eventi omolaterali (sia DCIS che ca invasivi). Il guadagno assoluto è intorno al 10% (18% vs. 8%) a 5 aa. e intorno al 15% (28% vs. 13%) a 10 a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a riduzione proporzionale nell’incidenza di recidive omolaterali è maggiore nelle donne di età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50 aa. che in quelle più giovani (2P &lt; 0.0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 10 aa. di follow up , si è visto che la RT non incide in modo significativo sulla mortalità da carcinoma mammario, né sulla mortalità da altre cause, compresa quella cardia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00"/>
                </a:solidFill>
                <a:latin typeface="Comic Sans MS"/>
              </a:rPr>
              <a:t>Lo studio del Rare Cancer Network: </a:t>
            </a:r>
            <a:br>
              <a:rPr sz="2800"/>
            </a:br>
            <a:r>
              <a:rPr b="1" lang="it-IT" sz="2800" spc="-1" strike="noStrike">
                <a:solidFill>
                  <a:srgbClr val="ff9900"/>
                </a:solidFill>
                <a:latin typeface="Comic Sans MS"/>
              </a:rPr>
              <a:t>il ruolo del Boost nel DCI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2057040"/>
            <a:ext cx="8736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373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pazienti di 18 Istituzioni sottoposte a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BCS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al 1978 al 200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- età ≤ 45 anni (età mediana: 41 aa.; range 23 - 45 a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- Follow-up mediano </a:t>
            </a:r>
            <a:r>
              <a:rPr b="0" lang="it-IT" sz="2400" spc="-1" strike="noStrike">
                <a:solidFill>
                  <a:srgbClr val="ff9900"/>
                </a:solidFill>
                <a:latin typeface="Comic Sans MS"/>
                <a:ea typeface="Arial"/>
              </a:rPr>
              <a:t>72 mesi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(range: 1-28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57   (15%)   no 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166   (45%)   RT no boost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(dose mediana 50 Gy, range 40-6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150   (40%)   RT + boost                       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 (dose mediana 60 Gy, range 53-7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86600" y="6477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mlin A., et al. 20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981080"/>
            <a:ext cx="8534520" cy="17528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038480"/>
            <a:ext cx="8534520" cy="228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9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9900"/>
                </a:solidFill>
                <a:latin typeface="Comic Sans MS"/>
              </a:rPr>
              <a:t>Caratteristiche clinico-patologiche </a:t>
            </a:r>
            <a:br>
              <a:rPr sz="2800"/>
            </a:br>
            <a:r>
              <a:rPr b="1" lang="it-IT" sz="2800" spc="-1" strike="noStrike">
                <a:solidFill>
                  <a:srgbClr val="ff9900"/>
                </a:solidFill>
                <a:latin typeface="Comic Sans MS"/>
              </a:rPr>
              <a:t>in relazione al trattament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33160" y="1371600"/>
            <a:ext cx="8164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BCS %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       BCS+RT %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       BCS+RT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       +Boost %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AGE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9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3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8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9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0-45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67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72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71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0.72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AGNO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linical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2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23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7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x 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4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73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73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0.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known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4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3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9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9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1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8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7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8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0.04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6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1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known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5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4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647712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mlin A., et al. 20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057400"/>
            <a:ext cx="81532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295280"/>
            <a:ext cx="82296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276720"/>
            <a:ext cx="82296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648320"/>
            <a:ext cx="82296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5331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BCS %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BCS+RT %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BCS+RT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 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+ Boost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S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0 mm   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60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51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36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&gt;20 mm   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18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18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15                0.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known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23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31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49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CROSIS</a:t>
            </a:r>
            <a:r>
              <a:rPr b="0" i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es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37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41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32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R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63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59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68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0.25</a:t>
            </a:r>
            <a:r>
              <a:rPr b="0" i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RGINS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s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4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4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7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known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4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25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43              &lt; 0.0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eg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93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70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49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R Stat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s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11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27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27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known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88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70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69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0.06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eg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3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219320"/>
            <a:ext cx="84582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57200"/>
            <a:ext cx="84582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6400800"/>
            <a:ext cx="8610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6477120"/>
            <a:ext cx="84582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438280"/>
            <a:ext cx="8458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029200"/>
            <a:ext cx="8458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505320"/>
            <a:ext cx="8458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Sopravvivenza libera da R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5486400" cy="45576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60" name=""/>
          <p:cNvSpPr/>
          <p:nvPr/>
        </p:nvSpPr>
        <p:spPr>
          <a:xfrm rot="16200000">
            <a:off x="-1202760" y="31824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Local relapse-free survival (%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61722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Time after diagnosis (month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mlin A., et al. 20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1752480"/>
            <a:ext cx="2667240" cy="3790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OS a 10 aa.: 97% (tutte le pz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L-RFS a 10 aa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46% no 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72% RT no bo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86% RT + bo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Circa metà delle recidive infiltran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00"/>
                </a:solidFill>
                <a:latin typeface="Comic Sans MS"/>
              </a:rPr>
              <a:t>Fattori predittivi della sopravvivenza </a:t>
            </a:r>
            <a:br>
              <a:rPr sz="2800"/>
            </a:br>
            <a:r>
              <a:rPr b="1" lang="it-IT" sz="2800" spc="-1" strike="noStrike">
                <a:solidFill>
                  <a:srgbClr val="ff9900"/>
                </a:solidFill>
                <a:latin typeface="Comic Sans MS"/>
              </a:rPr>
              <a:t>libera da RL: analisi multivariat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77320" cy="3200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Età: 40-45</a:t>
            </a:r>
            <a:r>
              <a:rPr b="1" lang="it-IT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 anni </a:t>
            </a:r>
            <a:r>
              <a:rPr b="0" lang="it-IT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(p= 0.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Margini liberi </a:t>
            </a: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(p= 0.0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RT adiuvante e dose totale 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(     RT + boost) </a:t>
            </a: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(p&lt; 0.0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632448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mlin A., et al. 20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1055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Incidenza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64" name="Immagine 2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42195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65" name="CasellaDiTesto 3"/>
          <p:cNvSpPr/>
          <p:nvPr/>
        </p:nvSpPr>
        <p:spPr>
          <a:xfrm>
            <a:off x="228600" y="55627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assi standardizzati </a:t>
            </a:r>
            <a:r>
              <a:rPr b="0" i="1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del carcinoma mammario invasivo e del DC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(per 100.000 don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Connettore 1 5"/>
          <p:cNvSpPr/>
          <p:nvPr/>
        </p:nvSpPr>
        <p:spPr>
          <a:xfrm>
            <a:off x="3571200" y="3929040"/>
            <a:ext cx="3240" cy="1212840"/>
          </a:xfrm>
          <a:prstGeom prst="line">
            <a:avLst/>
          </a:prstGeom>
          <a:ln w="3816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Limiti dello studio: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retrospettiv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ssenza di revisione centralizzata dei preparati istologici ( non sempre noti: margini, Grading, dimensioni T,  stato recettoria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La correlazione dose-risposta osservata può aver  rappresentato uno stimolo a condurre degli studi prospettici randomizz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mic Sans MS"/>
              </a:rPr>
              <a:t>Nel frattempo andrebbe considerato l’impiego del boost nelle pazienti giovani </a:t>
            </a:r>
            <a:r>
              <a:rPr b="1" lang="it-IT" sz="2400" spc="-1" strike="noStrike">
                <a:solidFill>
                  <a:srgbClr val="ff9900"/>
                </a:solidFill>
                <a:latin typeface="Symbol"/>
                <a:ea typeface="Symbol"/>
              </a:rPr>
              <a:t></a:t>
            </a:r>
            <a:r>
              <a:rPr b="1" lang="it-IT" sz="2400" spc="-1" strike="noStrike">
                <a:solidFill>
                  <a:srgbClr val="ff9900"/>
                </a:solidFill>
                <a:latin typeface="Comic Sans MS"/>
              </a:rPr>
              <a:t> 45 - 50 aa.</a:t>
            </a:r>
            <a:r>
              <a:rPr b="1" lang="it-IT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83440" y="355680"/>
            <a:ext cx="43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Osservazioni fina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00"/>
                </a:solidFill>
                <a:latin typeface="Comic Sans MS"/>
              </a:rPr>
              <a:t>Studi Randomizzati in cors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IG 3-07/TROG 07.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NB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1447920"/>
            <a:ext cx="2968920" cy="22885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WB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50 Gy in 25 f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v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42.5 Gy in 16 f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Boost 16 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4343400"/>
            <a:ext cx="2667240" cy="21132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WB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50 Gy in 25 f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Boost 16 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2209680"/>
            <a:ext cx="533160" cy="304920"/>
          </a:xfrm>
          <a:custGeom>
            <a:avLst/>
            <a:gdLst>
              <a:gd name="textAreaLeft" fmla="*/ 83160 w 533160"/>
              <a:gd name="textAreaRight" fmla="*/ 466560 w 533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48769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La RT ipofrazionat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Fattori di criticità della RT convenzional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- durata considerevole (5-6.5 settima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- lunghe liste di att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- impiego di risorse non trascurabi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- distanza tra il domicilio delle pazienti e il Cen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di RT a volte elev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Notevole interesse per la RT ipofrazionata nel ca mammario invasivo: validità confermata da studi retrospettivi e da trials clinici randomizz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Pochi dati disponibili in letteratura relativi al suo impiego nel DCIS: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2 studi prospettici di fase I/II e alcuni studi retrospetti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00"/>
                </a:solidFill>
                <a:latin typeface="Comic Sans MS"/>
              </a:rPr>
              <a:t>Lo studio della British Columbia:</a:t>
            </a:r>
            <a:br>
              <a:rPr sz="2800"/>
            </a:br>
            <a:r>
              <a:rPr b="1" lang="it-IT" sz="2800" spc="-1" strike="noStrike">
                <a:solidFill>
                  <a:srgbClr val="ff9900"/>
                </a:solidFill>
                <a:latin typeface="Comic Sans MS"/>
              </a:rPr>
              <a:t> RT ipofrazionata </a:t>
            </a:r>
            <a:r>
              <a:rPr b="1" lang="it-IT" sz="2800" spc="-1" strike="noStrike">
                <a:solidFill>
                  <a:srgbClr val="ff9900"/>
                </a:solidFill>
                <a:latin typeface="Symbol"/>
                <a:ea typeface="Symbol"/>
              </a:rPr>
              <a:t></a:t>
            </a:r>
            <a:r>
              <a:rPr b="1" lang="it-IT" sz="2800" spc="-1" strike="noStrike">
                <a:solidFill>
                  <a:srgbClr val="ff9900"/>
                </a:solidFill>
                <a:latin typeface="Comic Sans MS"/>
              </a:rPr>
              <a:t> boost nel DCI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alisi retrospettiva su </a:t>
            </a:r>
            <a:r>
              <a:rPr b="0" lang="fr-FR" sz="2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957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pazienti trattate dal 1985 al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U mediano: </a:t>
            </a:r>
            <a:r>
              <a:rPr b="1" lang="fr-FR" sz="2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9.3 a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alisi basata sullle modalità di trattamento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BCS: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475 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(50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BCS + WBI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338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(35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BCS + WBI + boost 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144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(15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cc"/>
                </a:solidFill>
                <a:latin typeface="Comic Sans MS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33cc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64692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Wai E.S., et al. 20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4343400"/>
            <a:ext cx="7467480" cy="137160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Comic Sans MS"/>
              </a:rPr>
              <a:t>Trattamento radioterapic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44 Gy / 16 f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50 Gy / 25 f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n dose  &lt; 45 Gy </a:t>
            </a:r>
            <a:r>
              <a:rPr b="0" lang="fr-FR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boost nel 32% dei cas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n dose  &gt; 45 Gy</a:t>
            </a:r>
            <a:r>
              <a:rPr b="0" lang="fr-FR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boost nel 16% dei ca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Boost con campo diretto di Elettroni (9-16 MeV) dose totale: </a:t>
            </a:r>
            <a:r>
              <a:rPr b="1" lang="fr-FR" sz="28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7.5 Gy/3 fr. (nel 64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Ellipse 4"/>
          <p:cNvSpPr/>
          <p:nvPr/>
        </p:nvSpPr>
        <p:spPr>
          <a:xfrm>
            <a:off x="1066680" y="1752480"/>
            <a:ext cx="990720" cy="51300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nstantia"/>
              </a:rPr>
              <a:t>77%</a:t>
            </a:r>
            <a:r>
              <a:rPr b="0" lang="fr-FR" sz="18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Ellipse 5"/>
          <p:cNvSpPr/>
          <p:nvPr/>
        </p:nvSpPr>
        <p:spPr>
          <a:xfrm>
            <a:off x="1066680" y="2666880"/>
            <a:ext cx="914400" cy="51300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nstantia"/>
              </a:rPr>
              <a:t>17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631656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Wai E.S., et al. 20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388620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434340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Variazioni delle modalità di trattamento nel temp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5514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678168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Wai E.S., et al. 20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Comic Sans MS"/>
              </a:rPr>
              <a:t>Distribuzione negli anni dei casi </a:t>
            </a:r>
            <a:br>
              <a:rPr sz="3200"/>
            </a:br>
            <a:r>
              <a:rPr b="1" lang="it-IT" sz="3200" spc="-1" strike="noStrike">
                <a:solidFill>
                  <a:srgbClr val="ff9900"/>
                </a:solidFill>
                <a:latin typeface="Comic Sans MS"/>
              </a:rPr>
              <a:t>con margini positivi o “close”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44449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6477120" y="63244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Wai E.S., et al. 20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50752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00"/>
                </a:solidFill>
                <a:latin typeface="Comic Sans MS"/>
              </a:rPr>
              <a:t>Caratteristiche clinico-patologiche </a:t>
            </a:r>
            <a:br>
              <a:rPr sz="2800"/>
            </a:br>
            <a:r>
              <a:rPr b="1" lang="it-IT" sz="2800" spc="-1" strike="noStrike">
                <a:solidFill>
                  <a:srgbClr val="ff9900"/>
                </a:solidFill>
                <a:latin typeface="Comic Sans MS"/>
              </a:rPr>
              <a:t>in relazione al trattament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0840" y="1844640"/>
            <a:ext cx="8164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BCS %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  BCS+RT %     BCS+RT     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+Boost %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&lt; 50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0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1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1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0-69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9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8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2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0.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&gt; 69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1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1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6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6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6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8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8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0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&lt;0.00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2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8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known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4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8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631656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Wai E.S., et al. 20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752480"/>
            <a:ext cx="82296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2666880"/>
            <a:ext cx="82296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4267080"/>
            <a:ext cx="82296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6095880"/>
            <a:ext cx="82296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28600" y="4568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BCS %   BCS+RT %     BCS+RT     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               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+Boost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S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&lt; 1.5 cm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72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53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52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5 – 4 cm   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19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39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39               &lt; 0.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&gt; 4 cm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6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6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7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known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3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2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ME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es</a:t>
            </a:r>
            <a:r>
              <a:rPr b="0" i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5</a:t>
            </a:r>
            <a:r>
              <a:rPr b="0" i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5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46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&lt; 0.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75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45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5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</a:t>
            </a:r>
            <a:r>
              <a:rPr b="0" lang="fr-FR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</a:t>
            </a:r>
            <a:r>
              <a:rPr b="0" lang="fr-FR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</a:t>
            </a:r>
            <a:r>
              <a:rPr b="0" lang="fr-FR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RGINS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s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9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12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29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« Close »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5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5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8                &lt; 0.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eg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79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82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62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304920"/>
            <a:ext cx="838224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6095880"/>
            <a:ext cx="84582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124080"/>
            <a:ext cx="8458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4495680"/>
            <a:ext cx="8458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Risultati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cc00"/>
                </a:solidFill>
                <a:latin typeface="Comic Sans MS"/>
              </a:rPr>
              <a:t>No RT</a:t>
            </a:r>
            <a:r>
              <a:rPr b="1" lang="it-IT" sz="20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cc00"/>
                </a:solidFill>
                <a:latin typeface="Comic Sans MS"/>
              </a:rPr>
              <a:t>RT No Boost   </a:t>
            </a:r>
            <a:r>
              <a:rPr b="1" lang="it-IT" sz="20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cc00"/>
                </a:solidFill>
                <a:latin typeface="Comic Sans MS"/>
              </a:rPr>
              <a:t>RT + Boost</a:t>
            </a:r>
            <a:r>
              <a:rPr b="1" lang="it-IT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cc00"/>
                </a:solidFill>
                <a:latin typeface="Comic Sans MS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Comic Sans MS"/>
              </a:rPr>
              <a:t>LC</a:t>
            </a:r>
            <a:r>
              <a:rPr b="1" lang="it-IT" sz="20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87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      94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     91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        </a:t>
            </a:r>
            <a:r>
              <a:rPr b="0" lang="it-IT" sz="2000" spc="-1" strike="noStrike">
                <a:solidFill>
                  <a:srgbClr val="ffcc66"/>
                </a:solidFill>
                <a:latin typeface="Comic Sans MS"/>
              </a:rPr>
              <a:t>.0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Comic Sans MS"/>
              </a:rPr>
              <a:t>BCSS</a:t>
            </a:r>
            <a:r>
              <a:rPr b="1" lang="it-IT" sz="20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98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99.7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100%         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.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Comic Sans MS"/>
              </a:rPr>
              <a:t>OS</a:t>
            </a:r>
            <a:r>
              <a:rPr b="1" lang="it-IT" sz="20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88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96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    94%         </a:t>
            </a:r>
            <a:r>
              <a:rPr b="0" lang="it-IT" sz="2000" spc="-1" strike="noStrike">
                <a:solidFill>
                  <a:srgbClr val="ff9900"/>
                </a:solidFill>
                <a:latin typeface="Comic Sans MS"/>
              </a:rPr>
              <a:t>.0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4771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Wai E.S., et al. 20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181480"/>
            <a:ext cx="784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4648320"/>
            <a:ext cx="79250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ei 2 gruppi No RT e RT No Boost recidivat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50% delle recidive erano invasive 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50% DC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el gruppo RT + Boost soltanto il 25%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delle recidive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 era invasivo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5562720"/>
            <a:ext cx="533520" cy="75960"/>
          </a:xfrm>
          <a:prstGeom prst="rightArrow">
            <a:avLst>
              <a:gd name="adj1" fmla="val 50000"/>
              <a:gd name="adj2" fmla="val 17559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4724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66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1447920"/>
            <a:ext cx="86104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057400"/>
            <a:ext cx="86868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4191120"/>
            <a:ext cx="87631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56386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66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1905120"/>
            <a:ext cx="8305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arly Breast Cancer Trialists’ Collaborative Group (EBCTCG). </a:t>
            </a:r>
            <a:r>
              <a:rPr b="0" i="1" lang="it-IT" sz="2000" spc="-1" strike="noStrike">
                <a:solidFill>
                  <a:srgbClr val="ffff00"/>
                </a:solidFill>
                <a:latin typeface="Comic Sans MS"/>
              </a:rPr>
              <a:t>Overview of the Randomized Trials of Radiotherapy in Ductal Carcinoma in Situ of the Breast.</a:t>
            </a:r>
            <a:r>
              <a:rPr b="0" i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J Natl Cancer Inst Monogr 2010; 41: 162-17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6576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Omlin A., Amichetti M., Azria D., et al. </a:t>
            </a:r>
            <a:r>
              <a:rPr b="0" i="1" lang="it-IT" sz="2000" spc="-1" strike="noStrike">
                <a:solidFill>
                  <a:srgbClr val="ffff00"/>
                </a:solidFill>
                <a:latin typeface="Comic Sans MS"/>
              </a:rPr>
              <a:t>Boost radiotherapy in young women with ductal carcinoma in situ: a multicentre, retrospective study of the Rare Cancer Network.</a:t>
            </a:r>
            <a:r>
              <a:rPr b="0" i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ancet Oncol 2006; 7:652-656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33412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Wai E.S., Lesperance M.L., Alexander C.S., et al. </a:t>
            </a:r>
            <a:r>
              <a:rPr b="0" i="1" lang="it-IT" sz="2000" spc="-1" strike="noStrike">
                <a:solidFill>
                  <a:srgbClr val="ffff00"/>
                </a:solidFill>
                <a:latin typeface="Comic Sans MS"/>
              </a:rPr>
              <a:t>Effect of Radiotherapy Boost and Hypofractionation on Outcomes in Ductal Carcinoma In Situ.</a:t>
            </a:r>
            <a:r>
              <a:rPr b="0" i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ancer 2011; 17: 54-6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E01616_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600200" cy="1501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00"/>
                </a:solidFill>
                <a:latin typeface="Comic Sans MS"/>
              </a:rPr>
              <a:t>Fattori predittivi del controllo locale: analisi multivariat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14800" cy="44956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Grading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1 (p= 0.00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Assenza di comedoca (p&lt;0.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Margini liberi (p&lt;0.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Assenza di riescissione (p&lt;0.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RT adiuvante (p=0.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495320" y="3505320"/>
            <a:ext cx="4496040" cy="2590560"/>
          </a:xfrm>
          <a:prstGeom prst="rect">
            <a:avLst/>
          </a:prstGeom>
          <a:solidFill>
            <a:srgbClr val="3333cc"/>
          </a:solid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BCS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RT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45 Gy no Boost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0.4 (0.2-0.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RT &gt;45 Gy no Boost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0.3 (0.1-0.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RT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45 Gy + Boost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0.5 (0.2-0.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RT &gt; 45 Gy + Boost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0.8 (0.2-3.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63244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Wai E.S., et al. 20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496040" cy="398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HR (IC 95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Osservazioni final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La RT è associata ad un migliore CL,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senza differenze significative in relazione ai differenti schemi di frazionamento o all’aggiunta del bo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Limiti dello studio: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-  retrospet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ssenza di informazione sulla modalità di rilevamento del DCIS (Mx/clini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dose del boost limitata (7.5 Gy/3 fr. nel 64% dei cas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Questo, tuttavia, è il primo studio con un follow up sufficientemente lungo che ha indagato l’impiego della RT ipofrazionata nelle pazienti con DCIS puro e ne ha evidenziato l’effica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Conclusioni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La BCS + RT rappresenta attualmente i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trattamento di scelta nel DC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La mastectomia rimane la prima opzione terapeutica in presenza di DCIS multicentrico, molto esteso (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4-5 cm) e in assenza di margini adeguati dopo B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Non è stato ad oggi identificato nessun sottogruppo di pazienti che non tragga beneficio dalla RT postoperator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9900"/>
                </a:solidFill>
                <a:latin typeface="Comic Sans MS"/>
              </a:rPr>
              <a:t>Lo zoom va puntato sul boost, sulla RT ipofrazionata ed anche sulla PBI, rimanendo in attesa dei risultati dei trials in cors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541008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0013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312920" cy="15717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Questioni aperte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0574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Sarà possibile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ndividuare sottogruppi di pazienti a basso rischio nelle quali omettere la R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600" indent="-264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  …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 sottogruppi di pazienti ad alto rischio nelle quali la RT con dose standard di 50 Gy potrebbe non essere suffici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600" indent="-264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600" indent="-2646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Quale potrà essere il ruolo della PB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600" indent="-264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600" indent="-2646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Potranno i markers biologici e molecolari influenzare le scelte terapeutich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0008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596960" cy="16002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Opzioni Terapeutiche nel DC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3276360" cy="44956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Mastectom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Chirurgia Conserv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Chirurgia Conservativ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+ 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Chirurgia Conservativ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RT </a:t>
            </a:r>
            <a:r>
              <a:rPr b="1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 T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5334120" cy="35877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7391520" y="586728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Arial"/>
              </a:rPr>
              <a:t>Smith GL et al.  200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Comic Sans MS"/>
              </a:rPr>
              <a:t>La meta-analisi di Oxford:</a:t>
            </a:r>
            <a:br>
              <a:rPr sz="3200"/>
            </a:br>
            <a:r>
              <a:rPr b="1" lang="fr-FR" sz="3200" spc="-1" strike="noStrike">
                <a:solidFill>
                  <a:srgbClr val="ff9900"/>
                </a:solidFill>
                <a:latin typeface="Comic Sans MS"/>
              </a:rPr>
              <a:t>i Trials randomizzati</a:t>
            </a:r>
            <a:r>
              <a:rPr b="1" lang="fr-FR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29080" y="2133720"/>
            <a:ext cx="309528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NSABP B-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29080" y="3213000"/>
            <a:ext cx="309528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EORTC 1058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5943600"/>
            <a:ext cx="309564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UK – DCIS 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51640" y="2205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985-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3284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986-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4437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990-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4267080"/>
            <a:ext cx="3095640" cy="6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WEDISH 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60199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987-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3840" y="2060640"/>
            <a:ext cx="1190520" cy="714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80960" y="3068640"/>
            <a:ext cx="1103400" cy="73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52280" y="5943600"/>
            <a:ext cx="122400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447920" y="5943600"/>
            <a:ext cx="977760" cy="692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295280" y="4267080"/>
            <a:ext cx="1128960" cy="67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66880" y="1447920"/>
            <a:ext cx="3048120" cy="459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CS vs. BCS + 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5410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5105520"/>
            <a:ext cx="4191120" cy="7038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CS vs. BCS+RT vs. BCS+TAM vs. BCS+RT+T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6680" y="152280"/>
            <a:ext cx="89773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950e"/>
                </a:solidFill>
                <a:latin typeface="Comic Sans MS"/>
                <a:ea typeface="Microsoft YaHei"/>
              </a:rPr>
              <a:t>Caratteristiche dei T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1760" y="838080"/>
          <a:ext cx="8880480" cy="5781960"/>
        </p:xfrm>
        <a:graphic>
          <a:graphicData uri="http://schemas.openxmlformats.org/drawingml/2006/table">
            <a:tbl>
              <a:tblPr/>
              <a:tblGrid>
                <a:gridCol w="2263680"/>
                <a:gridCol w="1719360"/>
                <a:gridCol w="1914480"/>
                <a:gridCol w="1649520"/>
                <a:gridCol w="1333440"/>
              </a:tblGrid>
              <a:tr h="762120">
                <a:tc>
                  <a:txBody>
                    <a:bodyPr lIns="36000" rIns="36000" tIns="98640" bIns="360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3600">
                      <a:solidFill>
                        <a:srgbClr val="ff950e"/>
                      </a:solidFill>
                    </a:lnT>
                    <a:lnB w="3600">
                      <a:solidFill>
                        <a:srgbClr val="ff950e"/>
                      </a:solidFill>
                    </a:lnB>
                    <a:noFill/>
                  </a:tcPr>
                </a:tc>
                <a:tc>
                  <a:txBody>
                    <a:bodyPr lIns="36000" rIns="36000" tIns="12204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SAPB-B17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3600">
                      <a:solidFill>
                        <a:srgbClr val="ff950e"/>
                      </a:solidFill>
                    </a:lnT>
                    <a:lnB w="3600">
                      <a:solidFill>
                        <a:srgbClr val="ff950e"/>
                      </a:solidFill>
                    </a:lnB>
                    <a:noFill/>
                  </a:tcPr>
                </a:tc>
                <a:tc>
                  <a:txBody>
                    <a:bodyPr lIns="36000" rIns="36000" tIns="12204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ORTC 108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3600">
                      <a:solidFill>
                        <a:srgbClr val="ff950e"/>
                      </a:solidFill>
                    </a:lnT>
                    <a:lnB w="3600">
                      <a:solidFill>
                        <a:srgbClr val="ff950e"/>
                      </a:solidFill>
                    </a:lnB>
                    <a:noFill/>
                  </a:tcPr>
                </a:tc>
                <a:tc>
                  <a:txBody>
                    <a:bodyPr lIns="36000" rIns="36000" tIns="12204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weDC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3600">
                      <a:solidFill>
                        <a:srgbClr val="ff950e"/>
                      </a:solidFill>
                    </a:lnT>
                    <a:lnB w="3600">
                      <a:solidFill>
                        <a:srgbClr val="ff950e"/>
                      </a:solidFill>
                    </a:lnB>
                    <a:noFill/>
                  </a:tcPr>
                </a:tc>
                <a:tc>
                  <a:txBody>
                    <a:bodyPr lIns="36000" rIns="36000" tIns="12204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UK/AN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DC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3600">
                      <a:solidFill>
                        <a:srgbClr val="ff950e"/>
                      </a:solidFill>
                    </a:lnT>
                    <a:lnB w="3600">
                      <a:solidFill>
                        <a:srgbClr val="ff950e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36000" rIns="36000" tIns="112680" bIns="36000" anchor="ctr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fcc66"/>
                          </a:solidFill>
                          <a:latin typeface="Comic Sans MS"/>
                        </a:rPr>
                        <a:t>Entry da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3600">
                      <a:solidFill>
                        <a:srgbClr val="ff950e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85-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3600">
                      <a:solidFill>
                        <a:srgbClr val="ff950e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86-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3600">
                      <a:solidFill>
                        <a:srgbClr val="ff950e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87-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3600">
                      <a:solidFill>
                        <a:srgbClr val="ff950e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90-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3600">
                      <a:solidFill>
                        <a:srgbClr val="ff950e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363240">
                <a:tc>
                  <a:txBody>
                    <a:bodyPr lIns="36000" rIns="36000" tIns="112680" bIns="36000" anchor="ctr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fcc66"/>
                          </a:solidFill>
                          <a:latin typeface="Comic Sans MS"/>
                        </a:rPr>
                        <a:t>Pts. Randomiz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112680" bIns="36000" anchor="ctr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ffcc66"/>
                          </a:solidFill>
                          <a:latin typeface="Comic Sans MS"/>
                        </a:rPr>
                        <a:t>B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363600">
                <a:tc>
                  <a:txBody>
                    <a:bodyPr lIns="36000" rIns="36000" tIns="112680" bIns="36000" anchor="ctr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ffcc66"/>
                          </a:solidFill>
                          <a:latin typeface="Comic Sans MS"/>
                        </a:rPr>
                        <a:t>BCS + 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36000" rIns="36000" tIns="112680" bIns="36000" anchor="ctr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fcc66"/>
                          </a:solidFill>
                          <a:latin typeface="Comic Sans MS"/>
                        </a:rPr>
                        <a:t>Mx det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8,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546120">
                <a:tc>
                  <a:txBody>
                    <a:bodyPr lIns="36000" rIns="36000" tIns="112680" bIns="36000" anchor="ctr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fcc66"/>
                          </a:solidFill>
                          <a:latin typeface="Comic Sans MS"/>
                        </a:rPr>
                        <a:t>Central pathological revi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8320">
                <a:tc>
                  <a:txBody>
                    <a:bodyPr lIns="36000" rIns="36000" tIns="112680" bIns="36000" anchor="ctr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fcc66"/>
                          </a:solidFill>
                          <a:latin typeface="Comic Sans MS"/>
                        </a:rPr>
                        <a:t>Neg. margins requir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94680" bIns="3600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Arial Unicode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94680" bIns="3600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Arial Unicode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509760">
                <a:tc>
                  <a:txBody>
                    <a:bodyPr lIns="36000" rIns="36000" tIns="112680" bIns="36000" anchor="ctr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fcc66"/>
                          </a:solidFill>
                          <a:latin typeface="Comic Sans MS"/>
                        </a:rPr>
                        <a:t>Margins fr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36000" rIns="36000" tIns="112680" bIns="36000" anchor="ctr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ffcc66"/>
                          </a:solidFill>
                          <a:latin typeface="Comic Sans MS"/>
                        </a:rPr>
                        <a:t>RT d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 Gy/25 f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94680" bIns="3600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Arial Unicode MS"/>
                        </a:rPr>
                        <a:t>50 Gy/25 f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94680" bIns="3600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Arial Unicode MS"/>
                        </a:rPr>
                        <a:t>50-54 Gy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Arial Unicode MS"/>
                        </a:rPr>
                        <a:t>25-27 f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36000" rIns="36000" tIns="94680" bIns="3600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Arial Unicode MS"/>
                        </a:rPr>
                        <a:t>50 Gy/25 f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692280">
                <a:tc>
                  <a:txBody>
                    <a:bodyPr lIns="36000" rIns="36000" tIns="112680" bIns="36000" anchor="ctr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fcc66"/>
                          </a:solidFill>
                          <a:latin typeface="Comic Sans MS"/>
                        </a:rPr>
                        <a:t>Bo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ff950e"/>
                      </a:solidFill>
                    </a:lnB>
                    <a:noFill/>
                  </a:tcPr>
                </a:tc>
                <a:tc>
                  <a:txBody>
                    <a:bodyPr lIns="36000" rIns="36000" tIns="94680" bIns="3600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Arial Unicode MS"/>
                        </a:rPr>
                        <a:t>10 Gy/5 fr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Arial Unicode MS"/>
                        </a:rPr>
                        <a:t>(9% of pts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ff950e"/>
                      </a:solidFill>
                    </a:lnB>
                    <a:noFill/>
                  </a:tcPr>
                </a:tc>
                <a:tc>
                  <a:txBody>
                    <a:bodyPr lIns="36000" rIns="36000" tIns="94680" bIns="3600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Arial Unicode MS"/>
                        </a:rPr>
                        <a:t>10 Gy/5 f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Arial Unicode MS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Arial Unicode MS"/>
                        </a:rPr>
                        <a:t>(5% of pts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ff950e"/>
                      </a:solidFill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ff950e"/>
                      </a:solidFill>
                    </a:lnB>
                    <a:noFill/>
                  </a:tcPr>
                </a:tc>
                <a:tc>
                  <a:txBody>
                    <a:bodyPr lIns="36000" rIns="36000" tIns="108000" bIns="36000" anchor="ctr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ff950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fig_1c.gif"/>
          <p:cNvPicPr/>
          <p:nvPr/>
        </p:nvPicPr>
        <p:blipFill>
          <a:blip r:embed="rId1"/>
          <a:stretch/>
        </p:blipFill>
        <p:spPr>
          <a:xfrm>
            <a:off x="914400" y="1905120"/>
            <a:ext cx="4176720" cy="42670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95" name="Rectangle 2"/>
          <p:cNvSpPr/>
          <p:nvPr/>
        </p:nvSpPr>
        <p:spPr>
          <a:xfrm>
            <a:off x="457200" y="357120"/>
            <a:ext cx="838188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omic Sans MS"/>
              </a:rPr>
              <a:t>DCIS: BCS + RT vs. B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omic Sans MS"/>
              </a:rPr>
              <a:t>Ipsilateral breast events (DCIS &amp; Invasive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Footer Placeholder 7"/>
          <p:cNvSpPr/>
          <p:nvPr/>
        </p:nvSpPr>
        <p:spPr>
          <a:xfrm>
            <a:off x="5181480" y="6477120"/>
            <a:ext cx="3753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EBCTCG 5th Cycle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1905120"/>
            <a:ext cx="2666880" cy="1326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3729 pati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Median follow up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8.9 woman-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omic Sans MS"/>
              </a:rPr>
              <a:t>DCIS: BCS + RT vs. BCS - Ipsilateral breast events (DCIS &amp; Invasive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La RT riduce il rischio assoluto di eventi omolaterali a 10 aa. del 15.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La sua efficacia non differisce significativamente in relazione 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 età delle pazien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 estensione dell’intervento chirur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 associazione con T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 modalità diagnos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 stato dei marg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 focalit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 g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 presenza di comedo-necro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 pattern architetton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 dimensioni di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fig_3a.gif"/>
          <p:cNvPicPr/>
          <p:nvPr/>
        </p:nvPicPr>
        <p:blipFill>
          <a:blip r:embed="rId1"/>
          <a:stretch/>
        </p:blipFill>
        <p:spPr>
          <a:xfrm>
            <a:off x="4800600" y="1981080"/>
            <a:ext cx="4089240" cy="41911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01" name="Picture 3" descr="fig_3b.gif"/>
          <p:cNvPicPr/>
          <p:nvPr/>
        </p:nvPicPr>
        <p:blipFill>
          <a:blip r:embed="rId2"/>
          <a:stretch/>
        </p:blipFill>
        <p:spPr>
          <a:xfrm>
            <a:off x="304920" y="1981080"/>
            <a:ext cx="4091040" cy="41911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02" name="Rectangle 2"/>
          <p:cNvSpPr/>
          <p:nvPr/>
        </p:nvSpPr>
        <p:spPr>
          <a:xfrm>
            <a:off x="304920" y="380880"/>
            <a:ext cx="8458200" cy="1047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CIS: BCS + RT vs. BCS</a:t>
            </a:r>
            <a:br>
              <a:rPr sz="3200"/>
            </a:b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psilateral breast recurrence (DCIS &amp; Invasiv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ge at diagn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3124080" y="6453360"/>
            <a:ext cx="3753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EBCTCG 5th Cycle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514600"/>
            <a:ext cx="2666880" cy="6858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2514600"/>
            <a:ext cx="2666880" cy="6858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1905120"/>
            <a:ext cx="83808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1905120"/>
            <a:ext cx="83844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5:21:32Z</dcterms:created>
  <dc:creator>Cristiana</dc:creator>
  <dc:description/>
  <dc:language>en-US</dc:language>
  <cp:lastModifiedBy>Cristiana</cp:lastModifiedBy>
  <dcterms:modified xsi:type="dcterms:W3CDTF">2012-02-17T10:17:58Z</dcterms:modified>
  <cp:revision>306</cp:revision>
  <dc:subject/>
  <dc:title>Lo Screening Mammografico a Trieste  a 2 anni dall’avvio del programma regionale del Friuli Venezia Giulia</dc:title>
</cp:coreProperties>
</file>